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8.wmf" ContentType="image/x-wmf"/>
  <Override PartName="/ppt/media/image9.wmf" ContentType="image/x-wmf"/>
  <Override PartName="/ppt/media/image10.wmf" ContentType="image/x-wmf"/>
  <Override PartName="/ppt/media/image12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AB7E-523C-4EA0-AB4E-06393534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1BB-DF29-4F1D-96A3-46D70823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B416-C270-49B8-833A-62F81525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E3A1-2ADB-40F6-B578-AA8E1BD7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A0A-C4DB-4FD8-9AB4-F860629B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9829-3217-43E0-8ABC-33581238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67E-DE60-4418-B132-47A46CFB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2D0E-AFCD-4E65-B7A5-AE93B0E8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2A1-0C14-422E-BE80-25A7C867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90E4-00A1-4669-A8F2-70FC2FB7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5958-456F-4E26-BD57-9D541117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2F1-3AA7-46C7-864B-3E2BB710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1427-C9F1-4823-B600-20FA7C7A36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ODA NA ZE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4316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http://www.national-geographic.cz/images/fotky/geologie1.jpg"/>
          <p:cNvPicPr/>
          <p:nvPr/>
        </p:nvPicPr>
        <p:blipFill>
          <a:blip r:embed="rId1"/>
          <a:stretch/>
        </p:blipFill>
        <p:spPr>
          <a:xfrm>
            <a:off x="539640" y="1844640"/>
            <a:ext cx="3962520" cy="3249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www.alpy.net/walp/obr/001n.jpg"/>
          <p:cNvPicPr/>
          <p:nvPr/>
        </p:nvPicPr>
        <p:blipFill>
          <a:blip r:embed="rId2"/>
          <a:stretch/>
        </p:blipFill>
        <p:spPr>
          <a:xfrm>
            <a:off x="5148360" y="32130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Picture of an ocean. "/>
          <p:cNvPicPr/>
          <p:nvPr/>
        </p:nvPicPr>
        <p:blipFill>
          <a:blip r:embed="rId3"/>
          <a:stretch/>
        </p:blipFill>
        <p:spPr>
          <a:xfrm>
            <a:off x="5364000" y="836640"/>
            <a:ext cx="3238560" cy="22208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1"/>
          <p:cNvSpPr/>
          <p:nvPr/>
        </p:nvSpPr>
        <p:spPr>
          <a:xfrm>
            <a:off x="2482200" y="60930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drosféra – vodní obal zem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47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roč je voda důležitá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 vody není život (vývoj začal ve vodě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aždá živá hmota obsahuje vodu (embryo 94%, dítě 65%, starý člověk 55%) x (krev 83%, mozek 75%, kosti 22%) x (okurek 98%, jablko 85%, chléb 4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unkce v organismu: odplavuje škodlivé látky, zabraňuje přehřátí organismu, rozvádí živiny v tě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tráta tekutin z těla je asi 2-3 litry (bez vody člověk nevydrží déle než 5 dn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82363-article-fisfu"/>
          <p:cNvPicPr/>
          <p:nvPr/>
        </p:nvPicPr>
        <p:blipFill>
          <a:blip r:embed="rId1"/>
          <a:stretch/>
        </p:blipFill>
        <p:spPr>
          <a:xfrm>
            <a:off x="4788000" y="4054320"/>
            <a:ext cx="4032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47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roblémy s vod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4788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/5 lidstva nemá přístup k nezávadné vod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,6 mld. lidí postrádá základní hygienické zázem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e 20. století zmizelo 50% mokřad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 miliony lidí ročně zemře na choroby způsobené kontaminovanou vodou a špatnou hygienou (průjmy, malárie) z toho 90% jsou děti do 5 l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298276-svetove-zasoby-vody"/>
          <p:cNvPicPr/>
          <p:nvPr/>
        </p:nvPicPr>
        <p:blipFill>
          <a:blip r:embed="rId1"/>
          <a:stretch/>
        </p:blipFill>
        <p:spPr>
          <a:xfrm>
            <a:off x="4813200" y="1268280"/>
            <a:ext cx="4330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obní potřeba v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gienické minimum je 100 litrů/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ČR je spotřeba 120 l/den, USA 300 l/den, některé africké země jen 10-20 l/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4437000"/>
            <a:ext cx="9144000" cy="647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otřeba v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5013360"/>
            <a:ext cx="91440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i výrobě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1 kg oceli 200 l, 1 kg hovězího masa 13 000 l, 1 kg papíru 300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omácnos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spláchnutí WC 12 l, koupel ve vaně 120 l, sprchování 70 l, mytí v myčce 20 l, praní v pračce 40-80 l, mytí roukou 3 l, mytí auta 200 l (plýtvání vodou: kapající kohoutek 4 l/h, netěsnící WC 80 l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Jezero Čad"/>
          <p:cNvPicPr/>
          <p:nvPr/>
        </p:nvPicPr>
        <p:blipFill>
          <a:blip r:embed="rId1"/>
          <a:stretch/>
        </p:blipFill>
        <p:spPr>
          <a:xfrm>
            <a:off x="684360" y="1773360"/>
            <a:ext cx="4628880" cy="278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File:Water drop animation enhanced small.gif"/>
          <p:cNvPicPr/>
          <p:nvPr/>
        </p:nvPicPr>
        <p:blipFill>
          <a:blip r:embed="rId2"/>
          <a:stretch/>
        </p:blipFill>
        <p:spPr>
          <a:xfrm>
            <a:off x="6012000" y="1773360"/>
            <a:ext cx="2106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-360" y="1219320"/>
            <a:ext cx="4267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kupenství vody: pevné, kapalné, plynn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soby vody na Zem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laná voda (salinita je v průměru 35 g/l vo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ladká v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84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harakteristika  H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11"/>
          <p:cNvGraphicFramePr/>
          <p:nvPr/>
        </p:nvGraphicFramePr>
        <p:xfrm>
          <a:off x="4191120" y="2133720"/>
          <a:ext cx="4952880" cy="273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133720"/>
                    <a:ext cx="4952880" cy="27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2"/>
          <p:cNvGraphicFramePr/>
          <p:nvPr/>
        </p:nvGraphicFramePr>
        <p:xfrm>
          <a:off x="4038480" y="4581360"/>
          <a:ext cx="4581720" cy="2276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4581360"/>
                    <a:ext cx="458172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13"/>
          <p:cNvGraphicFramePr/>
          <p:nvPr/>
        </p:nvGraphicFramePr>
        <p:xfrm>
          <a:off x="4876920" y="0"/>
          <a:ext cx="4581360" cy="2276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0"/>
                    <a:ext cx="458136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Line 14"/>
          <p:cNvSpPr/>
          <p:nvPr/>
        </p:nvSpPr>
        <p:spPr>
          <a:xfrm flipV="1">
            <a:off x="6019920" y="4114440"/>
            <a:ext cx="3808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5"/>
          <p:cNvSpPr/>
          <p:nvPr/>
        </p:nvSpPr>
        <p:spPr>
          <a:xfrm flipV="1">
            <a:off x="6629400" y="1752480"/>
            <a:ext cx="304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4558320" y="53751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4938840" y="3241800"/>
            <a:ext cx="4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5396040" y="727200"/>
            <a:ext cx="4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běh vody na Zem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602136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lký oběh (oceány x pevn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lý oběh (pevnina x pevn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49076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Schéma oběhu vody. "/>
          <p:cNvPicPr/>
          <p:nvPr/>
        </p:nvPicPr>
        <p:blipFill>
          <a:blip r:embed="rId1"/>
          <a:stretch/>
        </p:blipFill>
        <p:spPr>
          <a:xfrm>
            <a:off x="762120" y="836640"/>
            <a:ext cx="7619760" cy="5148360"/>
          </a:xfrm>
          <a:prstGeom prst="rect">
            <a:avLst/>
          </a:prstGeom>
          <a:ln w="0">
            <a:noFill/>
          </a:ln>
        </p:spPr>
      </p:pic>
      <p:grpSp>
        <p:nvGrpSpPr>
          <p:cNvPr id="76" name="Zaoblený obdélník 2"/>
          <p:cNvGrpSpPr/>
          <p:nvPr/>
        </p:nvGrpSpPr>
        <p:grpSpPr>
          <a:xfrm>
            <a:off x="6443640" y="6132600"/>
            <a:ext cx="2298600" cy="669960"/>
            <a:chOff x="6443640" y="6132600"/>
            <a:chExt cx="2298600" cy="669960"/>
          </a:xfrm>
        </p:grpSpPr>
        <p:pic>
          <p:nvPicPr>
            <p:cNvPr id="77" name="Zaoblený obdélník 2" descr=""/>
            <p:cNvPicPr/>
            <p:nvPr/>
          </p:nvPicPr>
          <p:blipFill>
            <a:blip r:embed="rId2"/>
            <a:stretch/>
          </p:blipFill>
          <p:spPr>
            <a:xfrm>
              <a:off x="6443640" y="6132600"/>
              <a:ext cx="22986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540480" y="6189840"/>
              <a:ext cx="2111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ffff"/>
                  </a:solidFill>
                  <a:latin typeface="Times New Roman"/>
                </a:rPr>
                <a:t>INTERAKTIVNĚ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20:11:13Z</dcterms:created>
  <dc:creator>kk</dc:creator>
  <dc:description/>
  <dc:language>en-US</dc:language>
  <cp:lastModifiedBy>Uživatel</cp:lastModifiedBy>
  <dcterms:modified xsi:type="dcterms:W3CDTF">2014-02-01T16:16:11Z</dcterms:modified>
  <cp:revision>6</cp:revision>
  <dc:subject/>
  <dc:title>VODA NA ZEMI</dc:title>
</cp:coreProperties>
</file>