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B5C-3226-4301-9AE9-15CB1AEA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7F8-F73D-463D-9CD1-C187A800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338-F84E-419F-A62D-6456D093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518-C808-4FC4-AEA5-B151BFAC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EB8-795E-482D-A11D-3E0346C6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5CE-95CC-4182-BF93-74631DAF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BA6-5356-4809-8708-571C7471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AD0-B0B2-44D6-94E2-5B1814DD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4FF-DE1B-4649-888F-7FA5293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797-64EB-47A3-A64C-418A88C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682-4676-4C16-806C-8270097F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0D0-76D9-4CBA-85AB-DD3290DF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F04F-B934-4AEB-902C-67AB4904F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Hitra%20voda%20-%20Rajko%20Kosnjek%20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5722560" y="3192480"/>
            <a:ext cx="5400720" cy="69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VODA JAKO SYMBOL</a:t>
            </a:r>
            <a:endParaRPr b="0" lang="en-US" sz="2400" spc="1" strike="noStrike">
              <a:ln w="12600">
                <a:solidFill>
                  <a:srgbClr val="000080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větový den vody 22. Bře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5 lidstva nemá přístup k vodě, 2,6 mld. lidí postrádá základní hygienické zázemí, 3 miliony lidí ročně umírají na choroby způsobené kontaminovanou vodou (90% z nich jsou děti do 5 le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 vody se lidé neobejdou, je naší součástí – lidské tělo je tvořeno 65% vod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35809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Spotřeba vody (osoba/den/litr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ČR 120 lit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Vyspělé státy 200 – 300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Zaostalé státy 10 – 20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Zjisti svou vlastní spotřebu vody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ea_vlny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HVÁLA VODY (tyto básničky, povídky, vtipy atd. vytvořily děti během výuky zeměpisu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666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Times New Roman"/>
              </a:rPr>
              <a:t>VODA (Eliška Boráková 6.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oda, voda, voda, vo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 životu důležitá vo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ody si musíme váži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lespoň trochu se snaži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šetřit naší vodou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orkou teplou studeno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ez vody, by nebyl svě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ato krása na pohl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odu v sobě všichni nosí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íky ní, teď tady stojí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íky ní teď tady stojí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básně o ní skládá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íky ní teď tady můžeme bý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tuto krásnou chvíli, spolu proží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rožít spolu krásnou chví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mít alespoň trochu píl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o vodě se něco nauč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později to také využí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590920" y="1219320"/>
            <a:ext cx="2743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ť je voda průzračná či zakalená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ždy pro nás je a bude cenn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k tu dlouho stojí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ochu se i bojí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dojde nám někdy voda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e ne, jí, by přece byla ško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ď pojďme a trochu si jí nalij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všichni se ji napij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da nám tak rychle hasí žíze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vybírá si svou přízeň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ď už víme, že je voda cenná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ní jen tak pochycen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iž od pradávna je tu vo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spraví s tím nic, ani Van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762120"/>
            <a:ext cx="35812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371600"/>
            <a:ext cx="27432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ODA (Eva Svobodová 6.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oda, vodička čirá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 životu velmi potřebn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ez ní by jsme nebyl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koupali se, neži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 pramenu pramení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dírá se z kamení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 ní pak potok j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člověk ji velmi potřebuj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 potoku říčk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idé si v ní skropí líčk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 říčky řek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a už lidi lek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6477120"/>
            <a:ext cx="595080" cy="180720"/>
          </a:xfrm>
          <a:prstGeom prst="rightArrow">
            <a:avLst>
              <a:gd name="adj1" fmla="val 50000"/>
              <a:gd name="adj2" fmla="val 8232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Ha ha zasmála se flaška a vyhodila vodu z podnájmu.</a:t>
            </a:r>
            <a:r>
              <a:rPr b="1" i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Lukáš Ančinec 6.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666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ODA (Hana Zámečníková 6.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oda je skoro všu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ak dlouho tady ještě bud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ž tu voda neb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 budeme děla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ůjdeme ji hleda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 když řekne, že nás nechce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řemluvíme ji přece lehce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666880" y="1066680"/>
            <a:ext cx="64771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imes New Roman"/>
              </a:rPr>
              <a:t>Dobrá voda pro tchýni (Judita Fládrová 6.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yl jednou jeden potok ze kterého pili elfové, vlk Juan, Modrá Karkulka i Gandalfova tchýně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ednoho krásného dne, když tchýně Gandalfa zase vytočila, se rozhodl, že už s tím musí něco udělat. Nemohl dlouho přijít na to, jak se tchýně zbavit. Když se jednou večer procházel uviděl jí u vody. „Otrávím vodu!“: vykřikl. Naštěstí ho polohluchá tchýně neslyšela. Okamžitě šel hledat různé jedovaté byliny, bobule, houby a tchynin jazy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elikož byl sklerotický nemohl si vzpomenout na správný postup. Nejprve se nu podařila dobrá slivovice. Na druhý pokus to byla houbová polévka a teprve na potřetí se mu podařil správný j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ruhý den ráno ten jed vylil do potoka. Když se tchýně napila padla na zem úplně otrávená. Jakmile se tak stalo, vyskočil Gandalf z křoví a začal kolem tchýně skákat jako potrhlý. Za chvíli z toho „blbnutí“ dostal žízeň. Vzpomněl si, že vodu otrávil. Netrvalo dlouho a Gandalf umřel žízní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odní elfové tchýni oživili, vodu vyčistili a Gandalfa pohřbil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oda byla zase čistá, tchýně živá a zlý Gandalf mrtvý. Tak žili šťastně s tchýní a dobrou vodou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91440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Reálná spotřeba vody během dn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ní hygiena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ídaně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leta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ěd…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giena a toaleta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čeře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černí hygiena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atní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KEM LITRŮ 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53:49Z</dcterms:created>
  <dc:creator>kk</dc:creator>
  <dc:description/>
  <dc:language>en-US</dc:language>
  <cp:lastModifiedBy>kk</cp:lastModifiedBy>
  <dcterms:modified xsi:type="dcterms:W3CDTF">2005-12-20T16:04:06Z</dcterms:modified>
  <cp:revision>5</cp:revision>
  <dc:subject/>
  <dc:title>Prezentace aplikace PowerPoint</dc:title>
</cp:coreProperties>
</file>