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1B4-C934-4E70-A9C3-F9F0C73E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C3C-0C14-405D-A02F-47C4EBDB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892-16FA-457A-BA3F-5536E670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314-620E-417A-88C6-A063ACB4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1C0F-3165-42C0-B6B0-43DEAC4C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4582-F402-46AB-9298-B4BC04FA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013-7DFA-48C7-9018-A1053803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5918-C7C0-47D7-989C-9EE9FB20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9F3-785B-4935-BE78-596ACE4D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AD58-4DAB-433A-A15A-ED56DF29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4B2C-6F03-4761-A31D-3FBEDCBA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6976-13E4-4B02-B204-20134555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E816-E810-4DEF-A58E-ACFE5DFC603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youtube.com/watch?v=uYe_zqbokQk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fourmilab.ch/cgi-bin/Earth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" Target="slide4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youtube.com/watch?v=7XMio1OnH7s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6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odrá planeta Zem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https://upload.wikimedia.org/wikipedia/commons/thumb/2/22/Earth_Western_Hemisphere_transparent_background.png/1024px-Earth_Western_Hemisphere_transparent_background.png"/>
          <p:cNvPicPr/>
          <p:nvPr/>
        </p:nvPicPr>
        <p:blipFill>
          <a:blip r:embed="rId1"/>
          <a:stretch/>
        </p:blipFill>
        <p:spPr>
          <a:xfrm>
            <a:off x="1103400" y="1251000"/>
            <a:ext cx="5616360" cy="5616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ttp://zivotjinak.cz/pics/vide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43640" y="6165720"/>
            <a:ext cx="550800" cy="552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D:\škola dokumenty\atlas\6.ročník\planeta země.jpg"/>
          <p:cNvPicPr/>
          <p:nvPr/>
        </p:nvPicPr>
        <p:blipFill>
          <a:blip r:embed="rId4"/>
          <a:stretch/>
        </p:blipFill>
        <p:spPr>
          <a:xfrm>
            <a:off x="7248600" y="790560"/>
            <a:ext cx="18954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720" y="0"/>
            <a:ext cx="9180360" cy="907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ákladní údaje o Ze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var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koule, ge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ba vzniku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4,6 miliard 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vrch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510 000 000 k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bvod Země na rovníku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40 000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loměr Země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6 371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ba oběhu kolem Slunce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365,25 dne (1rok) (oběžná rychlost 29,5 km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ba rotace kolem osy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23 hod., 56 min. a 4 sekundy (1 den) – střídání dne a noci (obvodová rychlost na rovníku 465 m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ůměrná teplota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5 stupňů Celsia (Země se nachází v tzv. EKOSFÉŘ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zdálenost od Slunce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49,6 mil. km (1 astronomická jednotka A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klon zemské osy k oběžné dráze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23,5 stupně - střídání ročních obdob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6920" y="4221000"/>
            <a:ext cx="2808360" cy="2643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84720" y="4221000"/>
            <a:ext cx="4103640" cy="2617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7139520" y="6585120"/>
            <a:ext cx="197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Více o střídání ročních období Z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soak-blog.andrewkelsalldes.netdna-cdn.com/wp-content/uploads/2010/11/earth-from-space-day-night.jpg"/>
          <p:cNvPicPr/>
          <p:nvPr/>
        </p:nvPicPr>
        <p:blipFill>
          <a:blip r:embed="rId1"/>
          <a:stretch/>
        </p:blipFill>
        <p:spPr>
          <a:xfrm>
            <a:off x="963720" y="223920"/>
            <a:ext cx="7184880" cy="683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řídání dne a no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3"/>
          <p:cNvSpPr/>
          <p:nvPr/>
        </p:nvSpPr>
        <p:spPr>
          <a:xfrm>
            <a:off x="7297200" y="6381720"/>
            <a:ext cx="170460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en a noc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řídání dne a no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íky rotaci Země kolem své osy (asi 24 hodin) dochází ke střídání dne a no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mě se otáčí kolem osy ze ZÁPADU na VÝCHOD (tedy proti směru hodinových ručič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jak to připadá nám? Ráno Slunce objeví nad východním obzorem – slunce stoupá (tzv. vrcholí) – k večeru klesá až zapadá za obzorem na západ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ěhem roku se u nás délka světelného dne mění v závislosti na střídání ročních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92360" y="3789360"/>
            <a:ext cx="3529080" cy="2867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84720" y="3962520"/>
            <a:ext cx="16002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škola dokumenty\atlas\6.ročník\roční období.jpg"/>
          <p:cNvPicPr/>
          <p:nvPr/>
        </p:nvPicPr>
        <p:blipFill>
          <a:blip r:embed="rId1"/>
          <a:stretch/>
        </p:blipFill>
        <p:spPr>
          <a:xfrm>
            <a:off x="-25560" y="1052640"/>
            <a:ext cx="9169560" cy="52340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řídání ročních obdob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http://zivotjinak.cz/pics/vide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04120" y="6286680"/>
            <a:ext cx="55080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řídání ročn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71280" y="692280"/>
            <a:ext cx="9215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lon zemské osy (23,5 stupně) je důvodem, proč se u nás střídají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čtyři roční obdo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Osa je nakloněna neustále stejným směr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raniční d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1. března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jarní rovnoden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1. června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letní slunov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3. září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podzimní rovnoden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1. prosince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zimní slunov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7"/>
          <a:stretch/>
        </p:blipFill>
        <p:spPr>
          <a:xfrm>
            <a:off x="179280" y="2565360"/>
            <a:ext cx="6410520" cy="1866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8"/>
          <a:stretch/>
        </p:blipFill>
        <p:spPr>
          <a:xfrm>
            <a:off x="3203640" y="4483080"/>
            <a:ext cx="5651280" cy="2374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>
            <a:hlinkClick r:id="rId9" action="ppaction://hlinksldjump"/>
          </p:cNvPr>
          <p:cNvSpPr/>
          <p:nvPr/>
        </p:nvSpPr>
        <p:spPr>
          <a:xfrm>
            <a:off x="179280" y="2565360"/>
            <a:ext cx="2160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>
            <a:hlinkClick r:id="rId10" action="ppaction://hlinksldjump"/>
          </p:cNvPr>
          <p:cNvSpPr/>
          <p:nvPr/>
        </p:nvSpPr>
        <p:spPr>
          <a:xfrm>
            <a:off x="2484360" y="2565360"/>
            <a:ext cx="2087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>
            <a:hlinkClick r:id="rId11" action="ppaction://hlinksldjump"/>
          </p:cNvPr>
          <p:cNvSpPr/>
          <p:nvPr/>
        </p:nvSpPr>
        <p:spPr>
          <a:xfrm>
            <a:off x="4716360" y="2565360"/>
            <a:ext cx="1871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80360" y="5373720"/>
            <a:ext cx="296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íce informací při najetí na obrázek a jeho části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3203640" y="4508640"/>
            <a:ext cx="1297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4572000" y="4508640"/>
            <a:ext cx="12952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6012000" y="4508640"/>
            <a:ext cx="1368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7451640" y="4508640"/>
            <a:ext cx="1368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5435640" y="0"/>
            <a:ext cx="370836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148392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áha Slunce na různých místech naší Ze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5435640" y="0"/>
            <a:ext cx="370836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5435640" y="2349360"/>
            <a:ext cx="3708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5435640" y="4724280"/>
            <a:ext cx="37083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1116000" y="2637000"/>
            <a:ext cx="302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íce informací získáte při najetí na části obrázku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tázky a úk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správně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stupný rok trvá 366 d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eměkoule má průměr méně než 12 000 k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tace kolem vlastní osy trvá Zemi 24 hod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klon zemské osy má za následek střídání dne a no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ěhem jarní a podzimní rovnodennosti jsou u nás dny a noci stejně dlouh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ěhem letního slunovratu 21.6. dopadají sluneční paprsky kolmo na obratník Ra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a Země neustále mění svůj směr vůči Slun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yž je u nás zima je zima i v Austrál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ocí glóbu předveďte, jak Země obíhá kolem Slunce i kolem své o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piš a vysvětli hraniční dny a co se během nich m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9:34:20Z</dcterms:created>
  <dc:creator>kk</dc:creator>
  <dc:description/>
  <dc:language>en-US</dc:language>
  <cp:lastModifiedBy>PC</cp:lastModifiedBy>
  <dcterms:modified xsi:type="dcterms:W3CDTF">2013-09-29T17:32:08Z</dcterms:modified>
  <cp:revision>22</cp:revision>
  <dc:subject/>
  <dc:title>Modrá planeta Země</dc:title>
</cp:coreProperties>
</file>