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2.png" ContentType="image/png"/>
  <Override PartName="/ppt/media/image1.jpeg" ContentType="image/jpeg"/>
  <Override PartName="/ppt/media/image1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5D9-B6F7-4E48-8E1C-509AC8E6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F12-0350-4001-89DE-B4E3A1F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93C-3963-4000-B97A-24B6F34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AA5-35C5-4407-B557-37FB8E2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DFB-17E0-48BB-8D85-294C40D5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C89-8DDD-4AC9-967E-240843B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23F-EB6F-4FBF-B882-397FEFB3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D2C-47BE-4372-8EFD-A4689586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8C7-4866-47CE-A99D-76FA4401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6E9-F0A6-4EBD-91E1-FA58944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203-DC0C-4D6C-93EC-CB7D639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423-7CDA-4E3A-9AC1-70E9CD9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1445-64A7-4D28-9628-87EFB119A2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planets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http://solarsystem.nasa.gov/planets/images/splash-plane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87680"/>
            <a:ext cx="9144000" cy="476064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1"/>
          <p:cNvSpPr/>
          <p:nvPr/>
        </p:nvSpPr>
        <p:spPr>
          <a:xfrm>
            <a:off x="6679440" y="6575400"/>
            <a:ext cx="242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ttp://solarsystem.nasa.gov/planet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lavní části sluneční soust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uneční soustavu tvoří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8 plan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obíhají kolem Slunce proti směru hodinových ručič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ina planet má své oběžnice –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ěsí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jvíce má Jupiter – 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lanet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jvětší Ceres)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me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alleyova kometa se vrací každých 76 let – naposledy 1986, 2062….)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et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komety3-halley-1986"/>
          <p:cNvPicPr/>
          <p:nvPr/>
        </p:nvPicPr>
        <p:blipFill>
          <a:blip r:embed="rId1"/>
          <a:stretch/>
        </p:blipFill>
        <p:spPr>
          <a:xfrm>
            <a:off x="611280" y="4149720"/>
            <a:ext cx="3384360" cy="2344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179280" y="3357720"/>
            <a:ext cx="1008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1332000" y="3141720"/>
            <a:ext cx="158436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59280" y="3068640"/>
            <a:ext cx="143964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643280" y="3141720"/>
            <a:ext cx="13687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6227640" y="3141720"/>
            <a:ext cx="1419480" cy="698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IPLERŮ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7812000" y="3141720"/>
            <a:ext cx="104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ORTŮ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leonid-meteor"/>
          <p:cNvPicPr/>
          <p:nvPr/>
        </p:nvPicPr>
        <p:blipFill>
          <a:blip r:embed="rId2"/>
          <a:stretch/>
        </p:blipFill>
        <p:spPr>
          <a:xfrm>
            <a:off x="4932360" y="4149720"/>
            <a:ext cx="309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116000" y="1496880"/>
            <a:ext cx="7229520" cy="534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-1440" y="167760"/>
            <a:ext cx="91454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Je jediná hvězda sluneční sousta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yzařuje velké množství energ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epla a světla), při svém stáří (4,6 mld. let) je v polovině svého živ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ETY SLUNEČ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4640" y="676440"/>
            <a:ext cx="83347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nce je středem sluneční soustavy. Vyzařuje tepelné a světelné záření (Slunce – Země = 8 min.), které umožnilo vznik života na Z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luneční soustavu dále tvoř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 pla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etky (např. Ceres, Pl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ety (např. Halleyova kom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eorick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http://upload.wikimedia.org/wikipedia/commons/thumb/4/46/Meteorcrater.jpg/640px-Meteorcrater.jpg"/>
          <p:cNvPicPr/>
          <p:nvPr/>
        </p:nvPicPr>
        <p:blipFill>
          <a:blip r:embed="rId1"/>
          <a:stretch/>
        </p:blipFill>
        <p:spPr>
          <a:xfrm>
            <a:off x="3871800" y="611280"/>
            <a:ext cx="5140440" cy="3446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eorick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File:Leonid Meteor.jpg"/>
          <p:cNvPicPr/>
          <p:nvPr/>
        </p:nvPicPr>
        <p:blipFill>
          <a:blip r:embed="rId2"/>
          <a:stretch/>
        </p:blipFill>
        <p:spPr>
          <a:xfrm>
            <a:off x="-1440" y="519120"/>
            <a:ext cx="322236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3"/>
          <p:cNvSpPr/>
          <p:nvPr/>
        </p:nvSpPr>
        <p:spPr>
          <a:xfrm>
            <a:off x="58680" y="61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ete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268360" y="2782800"/>
            <a:ext cx="2997360" cy="399888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4"/>
          <p:cNvSpPr/>
          <p:nvPr/>
        </p:nvSpPr>
        <p:spPr>
          <a:xfrm>
            <a:off x="4222440" y="6388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eo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upload.wikimedia.org/wikipedia/commons/thumb/6/63/Meteoroid_meteor_meteorite.gif/220px-Meteoroid_meteor_meteorite.gif"/>
          <p:cNvPicPr/>
          <p:nvPr/>
        </p:nvPicPr>
        <p:blipFill>
          <a:blip r:embed="rId4"/>
          <a:stretch/>
        </p:blipFill>
        <p:spPr>
          <a:xfrm>
            <a:off x="84240" y="4780080"/>
            <a:ext cx="2095560" cy="156204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5"/>
          <p:cNvSpPr/>
          <p:nvPr/>
        </p:nvSpPr>
        <p:spPr>
          <a:xfrm>
            <a:off x="3906000" y="623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aktní k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6"/>
          <p:cNvSpPr/>
          <p:nvPr/>
        </p:nvSpPr>
        <p:spPr>
          <a:xfrm>
            <a:off x="5364000" y="4176720"/>
            <a:ext cx="378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teor Crater (USA – Ariz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áter má průměr asi 1200 metrů a tvar široké ploché mísy. Jeho okraje částečně vystupují nad úroveň okolního terénu. Vznikl v období pleistocénu před přibližně 50 tisíci lety dopadem meteoritu, který měřil okolo 50 metrů a vážil cca. 300 tisíc tun. Při nárazu rychlostí asi 65 tisíc km/h se téměř celý vypařil a uvolnil energii cca. 20 megatun T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řížovka - za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75040" y="1052640"/>
            <a:ext cx="526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čn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Nejbližší hvěz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Sluneční záření nám dodává světlo a …..nutné pro ž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elké množství hvězd tvoří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Dříve planeta, dnes díky změně klasifikace jen planet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Nejznámější kometa sluneční soustavy (vrací se pravidelně každých 75 let). Je………kom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. Jedna z obřích plynných planet sluneční soustavy s nejnápadnějším prst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JENKA:……………………….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6957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79640" y="2023920"/>
            <a:ext cx="4346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ěsí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 těleso nejblíže k Z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384 400 km – tj. 30 průměrů Země) a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4krát menší než Země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tace kolem osy a oběh kolem Země trvá asi 28 dnů – vidíme jen přivrácenou stra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Zemi je důležité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ravitační působení Měsíce – způsobuje příliv a odli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iz. hydrosféra)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držuje sklon zemské os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4284720" cy="266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788000" y="839880"/>
            <a:ext cx="435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amotaná čísla ve vesmíru – přiřaď číselné údaje a pojmy k s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 8 min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 4,6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)  76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)  asi 15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)  384 400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)   28 krát vět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)  asi 28 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)  1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h) +1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/-1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i)   6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j)   26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k)  20.7. 19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8000" y="475920"/>
            <a:ext cx="5796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Země – Měs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 Halleyovy komety k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ace Měsíce kolem Země a své o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vitace na Slunci k poměru ke gravitaci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nejvyšší sopky sluneční soustavy – Olympus Mons na Ma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sluneční soustavy a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ota na Měsíci ve dne a v n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řistání člověka na Měs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a letu světelného paprsku (fotonu) Slunce –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povrchu 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ý vznik vesmíru – Velký tř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amotaná čísla ve vesmíru – přiřaď číselné údaje a pojmy k s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 8 min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 4,6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)  76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)  asi 15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)  384 400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)   28 krát vět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)  asi 28 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)  1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h) +1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/-1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i)   6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j)   26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k)  20.7. 19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48000" y="475920"/>
            <a:ext cx="5796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Země – Měs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 Halleyovy komety k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ace Měsíce kolem Země a své o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vitace na Slunci k poměru ke gravitaci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nejvyšší sopky sluneční soustavy – Olympus Mons na Ma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sluneční soustavy a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ota na Měsíci ve dne a v n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řistání člověka na Měs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a letu světelného paprsku (fotonu) Slunce –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povrchu 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ý vznik vesmíru – Velký tř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0640" y="625644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ešení: a10, b7, c2, d12, e1, f4, g3, h5, ch8, i11, j6, k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Arial"/>
              </a:rPr>
              <a:t>NEJ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UNEČNÍ SOUST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é planety jsou větší než Země, které planety jsou nejblíže k Ze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sou části naší Sluneční soustav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očítej kdy se opět vrátí Halleyova kom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á planeta má nejvíce měsíc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nemůže být na Měsíci živ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probíhá zatmění Měsíce a Slu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Měsíční fá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ří kosmonauti byli první na Měsí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ce - nejhmotnější a nejteplejší objekt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9,9% hmotnosti celé sluneční sous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a povrchu dosahuje 6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aldebaran.cz/astrofyzika/sunsystem/images/slunce/slunce_velke.jpg"/>
          <p:cNvPicPr/>
          <p:nvPr/>
        </p:nvPicPr>
        <p:blipFill>
          <a:blip r:embed="rId1"/>
          <a:stretch/>
        </p:blipFill>
        <p:spPr>
          <a:xfrm>
            <a:off x="1332000" y="1052640"/>
            <a:ext cx="637848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UPITER – nejhmotnější, největší planeta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17,8x hmotností Zem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níkový průměr 142 948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upiter má rovněž nejvíce měsíců (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4.bp.blogspot.com/-fyWlFIDRG-o/TyKV_1z9NwI/AAAAAAAAA9w/xnqqWZReubs/s1600/Untitled.png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808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NYMED – největší a nejhmotnější měsíc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Jupiterův měsíc je větší než planeta Merk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3.bp.blogspot.com/-XpzuEPYzxn4/UPqcVbcP-7I/AAAAAAAAANI/YCC3wRXxnPo/s1600/ganymede_moon.jpg"/>
          <p:cNvPicPr/>
          <p:nvPr/>
        </p:nvPicPr>
        <p:blipFill>
          <a:blip r:embed="rId1"/>
          <a:stretch/>
        </p:blipFill>
        <p:spPr>
          <a:xfrm>
            <a:off x="1403280" y="90792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T OLYMPUS – nejvyšší hora sluneční soustavy (Mars)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 přibližně třikrát vyšší než Mt. Everes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jí základna zabírá plochu odpovídající přibližně území Fran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jcboulay.free.fr/astro/sommaire/astronomie/univers/galaxie/etoile/systeme_solaire/mars/mars_olympus1.jpg"/>
          <p:cNvPicPr/>
          <p:nvPr/>
        </p:nvPicPr>
        <p:blipFill>
          <a:blip r:embed="rId1"/>
          <a:stretch/>
        </p:blipFill>
        <p:spPr>
          <a:xfrm>
            <a:off x="826920" y="1341360"/>
            <a:ext cx="7296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480" y="0"/>
            <a:ext cx="91375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TURN - má nejvýraznější a nejjasnější soustavu prstenců ze všech planet sluneční soustavy. Původně byly známé jedině Saturnovy prstence a planeta Saturn byla těmito prstenci ojedinělá. Až v roce 1977 byly objeveny nevýrazné prstence okolo planety Uran a poté i okolo Jupitera a Neptunu. Prstence jsou tvořeny velkým množstvím drobných částeček různé velikosti od prachových zrnek až po objekty velké desítky metrů. Pravděpodobně se jedná o kousky hornin obohacené kousky vodního l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60" y="283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LLEYOVA KOMETA – nejznámější kometa sluneční soustavy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e ze Země vidět každých 75-76 le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ometa byla zaznamenána už 30 krát, první doložené pozorování Čína 240 př.n.l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aždý průlet okolo Slunce, ztratí asi 1 m vysokou povrchovou vrstvu = většina materiálu komety se vypaří za asi 50 až 100 tisíc let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Soubor:Comet Halley.jpg"/>
          <p:cNvPicPr/>
          <p:nvPr/>
        </p:nvPicPr>
        <p:blipFill>
          <a:blip r:embed="rId1"/>
          <a:stretch/>
        </p:blipFill>
        <p:spPr>
          <a:xfrm>
            <a:off x="971640" y="1341360"/>
            <a:ext cx="7202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 sluneční soust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še Galaxie (část - Mléčná dráha) se zformovala 3 miliardy let od velkého třesku (tj. asi před 12 miliardami le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še Sluneční soustava vznikla před 4,6 miliardami l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2843280" cy="18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059280" y="4586400"/>
            <a:ext cx="288108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6012000" y="4581360"/>
            <a:ext cx="28080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9:01:32Z</dcterms:created>
  <dc:creator>kk</dc:creator>
  <dc:description/>
  <dc:language>en-US</dc:language>
  <cp:lastModifiedBy>PC</cp:lastModifiedBy>
  <dcterms:modified xsi:type="dcterms:W3CDTF">2013-09-18T20:27:13Z</dcterms:modified>
  <cp:revision>30</cp:revision>
  <dc:subject/>
  <dc:title>SLUNEČNÍ SOUSTAVA</dc:title>
</cp:coreProperties>
</file>