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4240"/>
            <a:ext cx="777096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50920" y="1052640"/>
            <a:ext cx="889308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66"/>
                </a:solidFill>
                <a:latin typeface="Lucida Sans"/>
                <a:ea typeface="Arial Unicode MS"/>
              </a:rPr>
              <a:t>Travel with NASA from the biggest to the smallest distance of the univer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Exkurzia</a:t>
            </a:r>
            <a:r>
              <a:rPr b="1" i="1" lang="sk-SK" sz="4400" spc="-1" strike="noStrike">
                <a:solidFill>
                  <a:srgbClr val="ffffff"/>
                </a:solidFill>
                <a:latin typeface="Lucida Sans"/>
                <a:ea typeface="Arial Unicode MS"/>
              </a:rPr>
              <a:t> s NASA od najväčšej k najmenšej vzdialenosti vo vesmí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52280" y="2851200"/>
            <a:ext cx="256356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light year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zo vzdialenosti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svetelného r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a little attention you can see the s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i troche pozornosti možno vidieť Slnk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7054920" cy="700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76320" y="2638440"/>
            <a:ext cx="266724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tril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un even bigg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Slnko je už väčš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6934320" cy="688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759360" cy="678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76320" y="2438280"/>
            <a:ext cx="25146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00 bili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ov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14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r solar system starts to sh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idieť našu slnečnú sústav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The orbits of the planets have been pai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Vymaľované sú orbity plané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438280"/>
            <a:ext cx="2209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bil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r solar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Naša slnečná sústa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2320"/>
            <a:ext cx="6858000" cy="683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-52560"/>
            <a:ext cx="6934320" cy="691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6320" y="2359080"/>
            <a:ext cx="236232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bil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orbits of Hermes, Venus, Earth, Mars and Z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Dráhy Merkuru, Venuše, Zeme, Marsu a Jupit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76320" y="2362320"/>
            <a:ext cx="221004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il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orbits of Venus, Earth and M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Dráhy Venuše, Zeme a Mars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94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76360" y="7632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514600"/>
            <a:ext cx="228600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il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K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 of the orbit of Ear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Časť obežnej dráhy Ze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666880"/>
            <a:ext cx="22096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mil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orbit of Mo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Zviditeľnená je dráha mesiaca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32080" y="76320"/>
            <a:ext cx="6737400" cy="678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76320" y="2590920"/>
            <a:ext cx="243864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r Earth still sm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Zem je ešte mal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32080" y="7632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76320" y="2562120"/>
            <a:ext cx="2438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orthern hemisphere of Ear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Severozápadná hemisféra Ze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92280"/>
            <a:ext cx="8496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66"/>
                </a:solidFill>
                <a:latin typeface="Arial"/>
                <a:ea typeface="Arial Unicode MS"/>
              </a:rPr>
              <a:t>     </a:t>
            </a:r>
            <a:r>
              <a:rPr b="1" i="1" lang="en-GB" sz="2200" spc="-1" strike="noStrike">
                <a:solidFill>
                  <a:srgbClr val="ffff66"/>
                </a:solidFill>
                <a:latin typeface="Arial"/>
                <a:ea typeface="Arial Unicode MS"/>
              </a:rPr>
              <a:t>This is a journey which starts and ends in distances difficult for the human mind to capture</a:t>
            </a:r>
            <a:r>
              <a:rPr b="1" i="1" lang="en-GB" sz="22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Táto cesta začína a končí u vzdialeností, ktoré si človek len ťažko vie predstaviť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i="1" lang="en-GB" sz="2200" spc="-1" strike="noStrike">
                <a:solidFill>
                  <a:srgbClr val="ffff66"/>
                </a:solidFill>
                <a:latin typeface="Arial"/>
              </a:rPr>
              <a:t>It starts from 10 million light years (10</a:t>
            </a:r>
            <a:r>
              <a:rPr b="1" i="1" lang="en-GB" sz="2200" spc="-1" strike="noStrike" baseline="33000">
                <a:solidFill>
                  <a:srgbClr val="ffff66"/>
                </a:solidFill>
                <a:latin typeface="Arial"/>
              </a:rPr>
              <a:t>23</a:t>
            </a:r>
            <a:r>
              <a:rPr b="1" i="1" lang="en-GB" sz="2200" spc="-1" strike="noStrike">
                <a:solidFill>
                  <a:srgbClr val="ffff66"/>
                </a:solidFill>
                <a:latin typeface="Arial"/>
              </a:rPr>
              <a:t>m.) at space, and ends at 100 atom/meter (10</a:t>
            </a:r>
            <a:r>
              <a:rPr b="1" i="1" lang="en-GB" sz="2200" spc="-1" strike="noStrike" baseline="33000">
                <a:solidFill>
                  <a:srgbClr val="ffff66"/>
                </a:solidFill>
                <a:latin typeface="Arial"/>
              </a:rPr>
              <a:t>-16</a:t>
            </a:r>
            <a:r>
              <a:rPr b="1" i="1" lang="en-GB" sz="2200" spc="-1" strike="noStrike">
                <a:solidFill>
                  <a:srgbClr val="ffff66"/>
                </a:solidFill>
                <a:latin typeface="Arial"/>
              </a:rPr>
              <a:t>m.) on Ear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  <a:ea typeface="Arial"/>
              </a:rPr>
              <a:t>Začína od 10 miliónov svetelných rokov (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3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.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o vesmíre a končí pri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0 a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tr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ch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10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6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.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66"/>
                </a:solidFill>
                <a:latin typeface="Arial"/>
                <a:ea typeface="Arial"/>
              </a:rPr>
              <a:t>      </a:t>
            </a:r>
            <a:r>
              <a:rPr b="1" i="1" lang="en-GB" sz="2200" spc="-1" strike="noStrike">
                <a:solidFill>
                  <a:srgbClr val="ffff66"/>
                </a:solidFill>
                <a:latin typeface="Arial"/>
                <a:ea typeface="Arial"/>
              </a:rPr>
              <a:t>Have a nice tri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ffff66"/>
                </a:solidFill>
                <a:latin typeface="Arial"/>
                <a:ea typeface="Arial"/>
              </a:rPr>
              <a:t>     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  <a:ea typeface="Arial"/>
              </a:rPr>
              <a:t>Peknú exkurzi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13520" y="6172200"/>
            <a:ext cx="182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National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86000"/>
            <a:ext cx="243828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rida U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76360" y="76320"/>
            <a:ext cx="6691320" cy="6781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2057400"/>
            <a:ext cx="22860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m the surface of the s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Zo 100 km výšky nad mo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rida even c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Mesto Tallahasee na Flor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819520"/>
            <a:ext cx="22860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start to distinct pl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Dajú sa rozoznávať detaily mi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6858000" cy="681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76320" y="2743200"/>
            <a:ext cx="2438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you can see when free falling off a pl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idieť budovy a ces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32080" y="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76320" y="2743200"/>
            <a:ext cx="22100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ordinary view from an helico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ohľad z helikoptéry. Vidieť jednotlivé stro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1080" y="28440"/>
            <a:ext cx="7162920" cy="6829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2666880"/>
            <a:ext cx="1905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eing off a cli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ohľad z útesu. Vidieť haluze strom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76360" y="7632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438280"/>
            <a:ext cx="220968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you see when you reach out your arm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ohľad zblízka. Vidieť jednotlivé lis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2743200"/>
            <a:ext cx="205740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cm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catch the leav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ohľad na jeden l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-52560"/>
            <a:ext cx="6934320" cy="6910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2666880"/>
            <a:ext cx="1828800" cy="22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cm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structure of a lea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idieť štruktúru l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98280"/>
            <a:ext cx="6858000" cy="6836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2590920"/>
            <a:ext cx="16765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 m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ven c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Mikroskopický pohľ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133720"/>
            <a:ext cx="228600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million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distance to galaxy Milky-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na galaxiu Mliečna dráha zo vzdialenosti 10 miliónov svetelných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rokov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0000"/>
                </a:solidFill>
                <a:latin typeface="Arial"/>
                <a:ea typeface="Arial"/>
              </a:rPr>
              <a:t>1 svetelný rok = 10</a:t>
            </a:r>
            <a:r>
              <a:rPr b="0" lang="sk-SK" sz="1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16</a:t>
            </a:r>
            <a:r>
              <a:rPr b="0" lang="sk-SK" sz="16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2920" y="208080"/>
            <a:ext cx="6562800" cy="664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76320" y="2774880"/>
            <a:ext cx="22860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micron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          you can see the ce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Mikroskopický pohľad. Vidieť zhluky buniek a zásobovacie kaná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76320" y="2698920"/>
            <a:ext cx="213372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micron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ells look clea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Jasné hranice buniek. Vidieť dýchacie orgány li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92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743200"/>
            <a:ext cx="198108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micron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ell itsel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Detail bunk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8356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2666880"/>
            <a:ext cx="19814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.000 angstro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chromoso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idieť chromozó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280" y="2666880"/>
            <a:ext cx="19051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angstro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DNA ch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idieť špirálu D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2562120"/>
            <a:ext cx="1828800" cy="22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nanometre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hromosomes par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Jednotlivé chromozó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92160"/>
            <a:ext cx="6934320" cy="68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2057400"/>
            <a:ext cx="1828800" cy="36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angstrom     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tom of carbon. Life consists of i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Atóm uhlíka, z ktorého pozostávajú živé organizmy včítane atómového obal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6781680" cy="6782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2637000"/>
            <a:ext cx="205092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comet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10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lectron within the a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zdialenosť elektrónu vodíka od jeho jadra je 5 pm. Priemer je 10 p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708280"/>
            <a:ext cx="240840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ic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sk-SK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1 pm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orbit of electr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zdialenosti medzi obežnými dráhami elektr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95480"/>
            <a:ext cx="24112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Fermi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100 femtometrov (f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inner of an a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eľkosť jadier veľkých atóm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486160"/>
            <a:ext cx="243828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million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disc becomes v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na galaxiu Mliečna dráha zo vzdialenosti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 milión svetelných rokov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2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. Viditeľný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j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disk Mliečnej dráhy, ktorého priemer je 100 000 svetelných rok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6553080" cy="659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835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743200"/>
            <a:ext cx="23400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Fermi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10 fm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4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alé ató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2743200"/>
            <a:ext cx="152388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Fermi       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1 fm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5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he surfa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a neutr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iemer neutrón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84280" y="76320"/>
            <a:ext cx="6836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133720"/>
            <a:ext cx="2340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0 atom met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-16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) we can see the qua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100 attometrov 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6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  <a:ea typeface="Arial"/>
              </a:rPr>
              <a:t>100 am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  <a:ea typeface="Arial"/>
              </a:rPr>
              <a:t>Veľkosť elektrónu a kvarko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d of trip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ff00"/>
                </a:solidFill>
                <a:latin typeface="Arial"/>
              </a:rPr>
              <a:t>Koniec exkurzie, papučky hoďte do označeného koša...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fter this journey ask yourse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Po tejto exkurzii sa opýtajte samého seb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Can you say whether you are big or sm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Arial"/>
              </a:rPr>
              <a:t>Viete povedať či ste veľký alebo mal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Think for a minute </a:t>
            </a:r>
            <a:br>
              <a:rPr sz="3600"/>
            </a:br>
            <a:r>
              <a:rPr b="0" lang="sk-SK" sz="3600" spc="-1" strike="noStrike">
                <a:solidFill>
                  <a:srgbClr val="00cc99"/>
                </a:solidFill>
                <a:latin typeface="Arial"/>
              </a:rPr>
              <a:t>Minútku porozmýšľaj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33400" y="5013360"/>
            <a:ext cx="3803040" cy="775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NATIONAL  NASA 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cc99"/>
                </a:solidFill>
                <a:latin typeface="Arial"/>
              </a:rPr>
              <a:t>Preložil a poopravil Duš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62120"/>
            <a:ext cx="236232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.000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na galaxiu Mliečna dráha zo vzdialenosti 100 000 svetelných rokov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barely see 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Je vidieť len okrajová časť našej galax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6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16280"/>
            <a:ext cx="248436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.000 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na galaxiu Mliečna dráha zo vzdialenosti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000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svetelných rokov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0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start to see the stars of 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Začínajú byť vidieť hviezdy našej galax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6648480" cy="66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52280" y="2486160"/>
            <a:ext cx="2286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.000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stars ten times c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na galaxiu Mliečna dráha zo vzdialenosti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000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svetelných rokov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19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Hviezdy sú 10x bližšie.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94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76320" y="2819520"/>
            <a:ext cx="22719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na galaxiu Mliečna dráha zo vzdialenosti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00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svetelných rokov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(10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18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hing but st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idieť sú len hviezd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13280" cy="678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759360" cy="6781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76320" y="2698920"/>
            <a:ext cx="227196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hľad zo vzdialenosti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svetelných ro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ven more st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idieť viac hviez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šan Gulíšek</cp:lastModifiedBy>
  <dcterms:modified xsi:type="dcterms:W3CDTF">2007-05-12T00:30:13Z</dcterms:modified>
  <cp:revision>6</cp:revision>
  <dc:subject/>
  <dc:title>Διαφάνεια 1</dc:title>
</cp:coreProperties>
</file>