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D42-89AC-4442-A547-BA5D8CAC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B0A-59E9-46F8-92F2-19C11E4B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5ED-FD94-4EF5-9C90-5D419018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2FA-DB08-4DF2-89D7-B143240E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4EF-0921-40C4-83D0-3813A1C2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062-D5E4-4AF4-83F0-14C75374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ACE-B41B-462E-AAF6-91CD8148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AB1-B5B8-4C5F-AA2C-41B05F9D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CE0-45B7-4754-AFB4-51945A2A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E71-8D92-4744-99AB-55C7A292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D87-D138-4E8B-BAB6-77A71E8F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5E7-1E5A-48F8-A840-E0DC1F65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1A9F-9975-4D3A-9537-2B3D093C1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40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HONÁRODNOSTNÍ ST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105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í jsou původní obyvatelé Amerik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 probíhalo osídlování Amerik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lidské rasy jsou zastoupeny v Amer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teré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oblasti US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sou hustě a řídce zalidně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YVATELST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ůvodní oby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stěhoval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vropané (kolonisté, přistěhovalci, Hispan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friča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ia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íše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raja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46520" y="1976400"/>
          <a:ext cx="380844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976400"/>
                    <a:ext cx="38084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657600" y="1752480"/>
            <a:ext cx="5257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588960"/>
            <a:ext cx="82296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8:54:50Z</dcterms:created>
  <dc:creator>kk</dc:creator>
  <dc:description/>
  <dc:language>en-US</dc:language>
  <cp:lastModifiedBy>kk</cp:lastModifiedBy>
  <dcterms:modified xsi:type="dcterms:W3CDTF">2005-11-14T19:39:42Z</dcterms:modified>
  <cp:revision>1</cp:revision>
  <dc:subject/>
  <dc:title>USA </dc:title>
</cp:coreProperties>
</file>