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ED93-641E-4C80-9586-BE98B04D3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D048-22EF-460B-BD71-EA4CA778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3A91-7183-4F8D-ABCA-C34E0F5B5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578C-0B5B-4E21-BF9B-95513D1A1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B339-BF5D-46B0-8D2F-8218588B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3E59-A3B3-4564-84CD-BB183D9C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3057-E6C9-48FF-9170-86832729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36E0-00FD-4026-8CCC-E44436DB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38E3-5E23-487B-A0A1-1809B2E6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FB26-67D5-4D66-88F5-8034F4BD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3059-810A-4672-A2F9-3943AA4B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ECDD-D8AB-4925-92C4-4F3C607D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6062-8308-437C-85C5-269578955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A – hospodářský ob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mocí atlasu zjisti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ké přírodní zdroje má USA k dispozici a jaké je jejich rozložení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teré průmyslové odvětví jsou v USA nejvíce zastoupe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ké plodiny se nejvíce pěstují v USA a jaké jsou typické plodiny na jihu a severu US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A jsou hospodářsky nejrozvinutější stát světa. Nejvíce obyvatel pracuje ve službách 60%, průmysl, doprava, stavebnictví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A mají bohaté přírodní zdroj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erický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průmysl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zahrnuje všechny tradiční odvětví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 zemědělství jsou USA soběstačné a přebytky vyváží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ysoce rozvinutá je i doprava a dopravní síť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jvětší síla hospodářství je soustředěna do čtyř hlavních průmyslových oblastí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SPODÁŘSTVÍ U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A  je nejrozvinutější stát světa (rozvinuté, vyvážené a specializované hospodářství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jvětší odvětví – automobilový, elektronika, kosmický, chemický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lavní zdroje – ropa, zemní plyn, uhlí, železná a měděná rud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emědělství – soběstačné + vývoz (pšeničný, kukuřičný a bavlníkový pá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lavní průmyslové oblasti – SV pás, Appalačský pás, Mexický záliv, pobřeží Tichého oceán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8440" y="5832360"/>
            <a:ext cx="689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ajímavé odkaz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ttp://www.globus.webz.cz/private/USA.html  (USA nejen hospodářství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PRŮMYS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3809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ktronický, strojní, chemický, potravinářsk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fin016a" descr=""/>
          <p:cNvPicPr/>
          <p:nvPr/>
        </p:nvPicPr>
        <p:blipFill>
          <a:blip r:embed="rId2"/>
          <a:stretch/>
        </p:blipFill>
        <p:spPr>
          <a:xfrm>
            <a:off x="4648320" y="1219320"/>
            <a:ext cx="3665520" cy="2419200"/>
          </a:xfrm>
          <a:prstGeom prst="rect">
            <a:avLst/>
          </a:prstGeom>
          <a:ln w="0">
            <a:noFill/>
          </a:ln>
        </p:spPr>
      </p:pic>
      <p:pic>
        <p:nvPicPr>
          <p:cNvPr id="52" name="1990-93-Chrysler-New-Yorker-New-Yorker-Salon-90101261990611" descr=""/>
          <p:cNvPicPr/>
          <p:nvPr/>
        </p:nvPicPr>
        <p:blipFill>
          <a:blip r:embed="rId3"/>
          <a:stretch/>
        </p:blipFill>
        <p:spPr>
          <a:xfrm>
            <a:off x="4648320" y="3962520"/>
            <a:ext cx="3809880" cy="2635200"/>
          </a:xfrm>
          <a:prstGeom prst="rect">
            <a:avLst/>
          </a:prstGeom>
          <a:ln w="0">
            <a:noFill/>
          </a:ln>
        </p:spPr>
      </p:pic>
      <p:pic>
        <p:nvPicPr>
          <p:cNvPr id="53" name="25%20747-SCA%20Discovery%20take-off%20l" descr=""/>
          <p:cNvPicPr/>
          <p:nvPr/>
        </p:nvPicPr>
        <p:blipFill>
          <a:blip r:embed="rId4"/>
          <a:stretch/>
        </p:blipFill>
        <p:spPr>
          <a:xfrm>
            <a:off x="152280" y="2743200"/>
            <a:ext cx="439128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MĚDĚLSTV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4267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šenice, kukuřice (kukuřičný a pšeničný pas), plantážnictví (bavlníkový pás), chov skotu (prérie), rybolov (Atlantik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bavlna" descr=""/>
          <p:cNvPicPr/>
          <p:nvPr/>
        </p:nvPicPr>
        <p:blipFill>
          <a:blip r:embed="rId1"/>
          <a:stretch/>
        </p:blipFill>
        <p:spPr>
          <a:xfrm>
            <a:off x="5334120" y="1905120"/>
            <a:ext cx="3004920" cy="3352680"/>
          </a:xfrm>
          <a:prstGeom prst="rect">
            <a:avLst/>
          </a:prstGeom>
          <a:ln w="0">
            <a:noFill/>
          </a:ln>
        </p:spPr>
      </p:pic>
      <p:pic>
        <p:nvPicPr>
          <p:cNvPr id="57" name="farms-valley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3886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PRA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jrozšířenější je silniční doprava, využívaná je letecká a levná námořní a říční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5-8345" descr=""/>
          <p:cNvPicPr/>
          <p:nvPr/>
        </p:nvPicPr>
        <p:blipFill>
          <a:blip r:embed="rId1"/>
          <a:stretch/>
        </p:blipFill>
        <p:spPr>
          <a:xfrm>
            <a:off x="152280" y="2514600"/>
            <a:ext cx="4343400" cy="3479760"/>
          </a:xfrm>
          <a:prstGeom prst="rect">
            <a:avLst/>
          </a:prstGeom>
          <a:ln w="0">
            <a:noFill/>
          </a:ln>
        </p:spPr>
      </p:pic>
      <p:pic>
        <p:nvPicPr>
          <p:cNvPr id="61" name="ny_taxi" descr=""/>
          <p:cNvPicPr/>
          <p:nvPr/>
        </p:nvPicPr>
        <p:blipFill>
          <a:blip r:embed="rId2"/>
          <a:stretch/>
        </p:blipFill>
        <p:spPr>
          <a:xfrm>
            <a:off x="4572000" y="3124080"/>
            <a:ext cx="441972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ŮMYSLOVÉ OBLA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4495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V pás (největší, nejstarší a nejvýznamnější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ppalačská oblast (těžební obla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xický záliv (zpracování surovin, těžb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břeží Tichého oceánu (technologie hi-tec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silicon-valley-california" descr=""/>
          <p:cNvPicPr/>
          <p:nvPr/>
        </p:nvPicPr>
        <p:blipFill>
          <a:blip r:embed="rId1"/>
          <a:stretch/>
        </p:blipFill>
        <p:spPr>
          <a:xfrm>
            <a:off x="4343400" y="3809880"/>
            <a:ext cx="4343400" cy="2886120"/>
          </a:xfrm>
          <a:prstGeom prst="rect">
            <a:avLst/>
          </a:prstGeom>
          <a:ln w="0">
            <a:noFill/>
          </a:ln>
        </p:spPr>
      </p:pic>
      <p:pic>
        <p:nvPicPr>
          <p:cNvPr id="65" name="manhatan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0752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1T21:26:06Z</dcterms:created>
  <dc:creator>kk</dc:creator>
  <dc:description/>
  <dc:language>en-US</dc:language>
  <cp:lastModifiedBy>kk</cp:lastModifiedBy>
  <dcterms:modified xsi:type="dcterms:W3CDTF">2005-12-07T15:14:14Z</dcterms:modified>
  <cp:revision>7</cp:revision>
  <dc:subject/>
  <dc:title>USA – hospodářský obr</dc:title>
</cp:coreProperties>
</file>