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255-51E5-4ACA-A93A-75A2FA2C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270-BC0D-4FAC-8ABC-F8E94A15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2683-CFE4-4312-97FC-C10D7323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0E5-2DDB-41E6-A378-B9E4B8A5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8D02-E5DB-4EDE-AC76-4EA7CB12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E09-258B-454B-A897-9A1FE092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FD6-5F52-4EF7-A5A2-40706239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00B-1343-4A24-88CF-C9049675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E121-A1CB-4013-8177-2FC8E634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BF6E-662C-46C1-BB8D-1CC556B6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D4FE-9E0B-4A39-93AE-AFB1A83D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B4F-EAAB-40A6-B3ED-0494D0A5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47EA-8AE2-4B24-A86E-A2025139C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NDRY A ŘÍŠE SNĚH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80px-Peary_Sledge_Party_and_Flags_at_the_Pole_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2523960" cy="3295440"/>
          </a:xfrm>
          <a:prstGeom prst="rect">
            <a:avLst/>
          </a:prstGeom>
          <a:ln w="0">
            <a:noFill/>
          </a:ln>
        </p:spPr>
      </p:pic>
      <p:pic>
        <p:nvPicPr>
          <p:cNvPr id="43" name="T052355A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2806920" cy="3200400"/>
          </a:xfrm>
          <a:prstGeom prst="rect">
            <a:avLst/>
          </a:prstGeom>
          <a:ln w="0">
            <a:noFill/>
          </a:ln>
        </p:spPr>
      </p:pic>
      <p:pic>
        <p:nvPicPr>
          <p:cNvPr id="44" name="amundsen_pool" descr=""/>
          <p:cNvPicPr/>
          <p:nvPr/>
        </p:nvPicPr>
        <p:blipFill>
          <a:blip r:embed="rId3"/>
          <a:stretch/>
        </p:blipFill>
        <p:spPr>
          <a:xfrm>
            <a:off x="4419720" y="990720"/>
            <a:ext cx="2297160" cy="3520800"/>
          </a:xfrm>
          <a:prstGeom prst="rect">
            <a:avLst/>
          </a:prstGeom>
          <a:ln w="0">
            <a:noFill/>
          </a:ln>
        </p:spPr>
      </p:pic>
      <p:pic>
        <p:nvPicPr>
          <p:cNvPr id="45" name="amundsen_ski_1911" descr=""/>
          <p:cNvPicPr/>
          <p:nvPr/>
        </p:nvPicPr>
        <p:blipFill>
          <a:blip r:embed="rId4"/>
          <a:stretch/>
        </p:blipFill>
        <p:spPr>
          <a:xfrm>
            <a:off x="6553080" y="2895480"/>
            <a:ext cx="2286000" cy="344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81680" y="6324480"/>
            <a:ext cx="198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undsen</a:t>
            </a:r>
            <a:br>
              <a:rPr sz="6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6477120"/>
            <a:ext cx="243828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bert E. Pe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konečná kamenitá pláň s keříky, trávou, mechy a lišejníky to j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nd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ží v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barktickém pás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krátké chladné léto, dlouhá tuhá zima) v okolí polárního kruh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duprázdná=nepoškozen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na: sob, vlk, liška polární, ptá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tun1_l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6248520" cy="3886200"/>
          </a:xfrm>
          <a:prstGeom prst="rect">
            <a:avLst/>
          </a:prstGeom>
          <a:ln w="0">
            <a:noFill/>
          </a:ln>
        </p:spPr>
      </p:pic>
      <p:pic>
        <p:nvPicPr>
          <p:cNvPr id="50" name="tundra03" descr=""/>
          <p:cNvPicPr/>
          <p:nvPr/>
        </p:nvPicPr>
        <p:blipFill>
          <a:blip r:embed="rId2"/>
          <a:stretch/>
        </p:blipFill>
        <p:spPr>
          <a:xfrm>
            <a:off x="6149880" y="1981080"/>
            <a:ext cx="29941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smisměr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jdi v osmisměrce 8 pojmů vztahující se k tundře a zůstane ti zvíře, které žije v polárních krajích, ale v zimě se stahuje až do oblasti Hudsovnova zálivu, hledá si potravu na městských smetištích, dobývá se do domů, kde vykrádá spižírny a ohrožuje obyvate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19280" y="2492280"/>
            <a:ext cx="604836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jenka – lední medvě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5892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jíc bělá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š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rzlá pů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ární n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žmo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šejní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ěžná s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182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 u="sng">
                <a:solidFill>
                  <a:srgbClr val="000000"/>
                </a:solidFill>
                <a:uFillTx/>
                <a:latin typeface="Times New Roman"/>
              </a:rPr>
              <a:t>Říše sněhu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= vysokohorské oblasti (horské ledovce) a polární oblasti (pevninské a mořské ledovc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 u="sng">
                <a:solidFill>
                  <a:srgbClr val="000000"/>
                </a:solidFill>
                <a:uFillTx/>
                <a:latin typeface="Times New Roman"/>
              </a:rPr>
              <a:t>Arktida (SP)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– zamrzlý Severní ledový oceán (2m mocnost ledu) a ostrovy. Žijí zde – inuité (eskymáci), lední medvěd, liška polární, ryby, tulen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 u="sng">
                <a:solidFill>
                  <a:srgbClr val="000000"/>
                </a:solidFill>
                <a:uFillTx/>
                <a:latin typeface="Times New Roman"/>
              </a:rPr>
              <a:t>Antarktida (JP)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– zalednění kontinent s extrémními podnebnými podmínkami (-90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C). Žijí zde – tučňáci, lachtani, tuleni, ptáci), není osídlena lidmi (výzkumníci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041108_JAN_ARKTIDA_V_V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4419720" cy="2954160"/>
          </a:xfrm>
          <a:prstGeom prst="rect">
            <a:avLst/>
          </a:prstGeom>
          <a:ln w="0">
            <a:noFill/>
          </a:ln>
        </p:spPr>
      </p:pic>
      <p:pic>
        <p:nvPicPr>
          <p:cNvPr id="59" name="obr_246_2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441972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7:39:49Z</dcterms:created>
  <dc:creator>kk</dc:creator>
  <dc:description/>
  <dc:language>en-US</dc:language>
  <cp:lastModifiedBy>jj</cp:lastModifiedBy>
  <dcterms:modified xsi:type="dcterms:W3CDTF">2011-03-23T07:00:16Z</dcterms:modified>
  <cp:revision>5</cp:revision>
  <dc:subject/>
  <dc:title>TUNDRY A ŘÍŠE SNĚHU</dc:title>
</cp:coreProperties>
</file>