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C2A-6612-4E05-8ADB-4220BA16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154-299B-4C71-AA87-13D7513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27A-CA8E-48FC-89AC-2AB8065F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534-ABCA-4BD5-9D8E-948E85D1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E01-1D94-415D-8C60-C21CAC8C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9AF-1B73-4C27-9FBF-CD1DE7BC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DEC-58BF-4CB0-BD2A-E4A328E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81E-1F95-4A56-BE22-D2221D4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494-00C6-4FB0-A0F3-D5FEA286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A33-E9B4-4BB4-B5F7-E87CDC5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757-8636-432F-B315-B3A30C9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B86-FD34-44F2-87DB-E0971E0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01DC-ADD8-4103-BA90-8F7AB7AB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TR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imes New Roman"/>
              </a:rPr>
              <a:t>Život v pral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azon%20Rain%20Forest-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867640" cy="3962160"/>
          </a:xfrm>
          <a:prstGeom prst="rect">
            <a:avLst/>
          </a:prstGeom>
          <a:ln w="0">
            <a:noFill/>
          </a:ln>
        </p:spPr>
      </p:pic>
      <p:pic>
        <p:nvPicPr>
          <p:cNvPr id="44" name="205_1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2960640" cy="1970280"/>
          </a:xfrm>
          <a:prstGeom prst="rect">
            <a:avLst/>
          </a:prstGeom>
          <a:ln w="0">
            <a:noFill/>
          </a:ln>
        </p:spPr>
      </p:pic>
      <p:pic>
        <p:nvPicPr>
          <p:cNvPr id="45" name="ara%20narbild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26244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opické deštné les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v okolí rovníku (JA, AFRIKA, ASIE, AUSTRÁLIE) – horko a vlhko po celý r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bohatší společenstva rostlin (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5 pater le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a živočichů (hmyz, ptáci, opice, plaz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livem těžby dřeva a plantážnictví se snižuje jejich plocha –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ÍCE SVĚ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časí v tropech během dn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2485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410080"/>
            <a:ext cx="68580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5410080"/>
            <a:ext cx="68580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733920"/>
            <a:ext cx="4267080" cy="1523880"/>
          </a:xfrm>
          <a:custGeom>
            <a:avLst/>
            <a:gdLst/>
            <a:ahLst/>
            <a:rect l="l" t="t" r="r" b="b"/>
            <a:pathLst>
              <a:path w="2688" h="960">
                <a:moveTo>
                  <a:pt x="0" y="960"/>
                </a:moveTo>
                <a:cubicBezTo>
                  <a:pt x="448" y="480"/>
                  <a:pt x="896" y="0"/>
                  <a:pt x="1344" y="0"/>
                </a:cubicBezTo>
                <a:cubicBezTo>
                  <a:pt x="1792" y="0"/>
                  <a:pt x="2240" y="480"/>
                  <a:pt x="2688" y="96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8360" y="4307040"/>
            <a:ext cx="1168560" cy="763560"/>
          </a:xfrm>
          <a:custGeom>
            <a:avLst/>
            <a:gdLst/>
            <a:ahLst/>
            <a:rect l="l" t="t" r="r" b="b"/>
            <a:pathLst>
              <a:path w="736" h="481">
                <a:moveTo>
                  <a:pt x="76" y="278"/>
                </a:moveTo>
                <a:cubicBezTo>
                  <a:pt x="31" y="233"/>
                  <a:pt x="39" y="231"/>
                  <a:pt x="21" y="176"/>
                </a:cubicBezTo>
                <a:cubicBezTo>
                  <a:pt x="40" y="116"/>
                  <a:pt x="83" y="93"/>
                  <a:pt x="141" y="74"/>
                </a:cubicBezTo>
                <a:cubicBezTo>
                  <a:pt x="150" y="77"/>
                  <a:pt x="160" y="86"/>
                  <a:pt x="169" y="83"/>
                </a:cubicBezTo>
                <a:cubicBezTo>
                  <a:pt x="190" y="76"/>
                  <a:pt x="206" y="58"/>
                  <a:pt x="225" y="46"/>
                </a:cubicBezTo>
                <a:cubicBezTo>
                  <a:pt x="234" y="40"/>
                  <a:pt x="243" y="32"/>
                  <a:pt x="253" y="28"/>
                </a:cubicBezTo>
                <a:cubicBezTo>
                  <a:pt x="284" y="17"/>
                  <a:pt x="315" y="10"/>
                  <a:pt x="346" y="0"/>
                </a:cubicBezTo>
                <a:cubicBezTo>
                  <a:pt x="388" y="13"/>
                  <a:pt x="391" y="33"/>
                  <a:pt x="402" y="74"/>
                </a:cubicBezTo>
                <a:cubicBezTo>
                  <a:pt x="432" y="64"/>
                  <a:pt x="455" y="47"/>
                  <a:pt x="485" y="37"/>
                </a:cubicBezTo>
                <a:cubicBezTo>
                  <a:pt x="504" y="40"/>
                  <a:pt x="524" y="38"/>
                  <a:pt x="541" y="46"/>
                </a:cubicBezTo>
                <a:cubicBezTo>
                  <a:pt x="563" y="56"/>
                  <a:pt x="564" y="95"/>
                  <a:pt x="587" y="102"/>
                </a:cubicBezTo>
                <a:cubicBezTo>
                  <a:pt x="620" y="112"/>
                  <a:pt x="656" y="108"/>
                  <a:pt x="690" y="111"/>
                </a:cubicBezTo>
                <a:cubicBezTo>
                  <a:pt x="731" y="126"/>
                  <a:pt x="723" y="136"/>
                  <a:pt x="736" y="176"/>
                </a:cubicBezTo>
                <a:cubicBezTo>
                  <a:pt x="727" y="182"/>
                  <a:pt x="709" y="184"/>
                  <a:pt x="708" y="195"/>
                </a:cubicBezTo>
                <a:cubicBezTo>
                  <a:pt x="706" y="215"/>
                  <a:pt x="727" y="251"/>
                  <a:pt x="727" y="251"/>
                </a:cubicBezTo>
                <a:cubicBezTo>
                  <a:pt x="705" y="348"/>
                  <a:pt x="717" y="337"/>
                  <a:pt x="634" y="353"/>
                </a:cubicBezTo>
                <a:cubicBezTo>
                  <a:pt x="620" y="481"/>
                  <a:pt x="628" y="458"/>
                  <a:pt x="494" y="446"/>
                </a:cubicBezTo>
                <a:cubicBezTo>
                  <a:pt x="491" y="437"/>
                  <a:pt x="494" y="422"/>
                  <a:pt x="485" y="418"/>
                </a:cubicBezTo>
                <a:cubicBezTo>
                  <a:pt x="478" y="415"/>
                  <a:pt x="415" y="451"/>
                  <a:pt x="402" y="455"/>
                </a:cubicBezTo>
                <a:cubicBezTo>
                  <a:pt x="371" y="452"/>
                  <a:pt x="337" y="459"/>
                  <a:pt x="309" y="446"/>
                </a:cubicBezTo>
                <a:cubicBezTo>
                  <a:pt x="297" y="441"/>
                  <a:pt x="310" y="415"/>
                  <a:pt x="299" y="409"/>
                </a:cubicBezTo>
                <a:cubicBezTo>
                  <a:pt x="289" y="404"/>
                  <a:pt x="282" y="422"/>
                  <a:pt x="272" y="427"/>
                </a:cubicBezTo>
                <a:cubicBezTo>
                  <a:pt x="263" y="431"/>
                  <a:pt x="253" y="433"/>
                  <a:pt x="244" y="436"/>
                </a:cubicBezTo>
                <a:cubicBezTo>
                  <a:pt x="185" y="433"/>
                  <a:pt x="126" y="435"/>
                  <a:pt x="67" y="427"/>
                </a:cubicBezTo>
                <a:cubicBezTo>
                  <a:pt x="34" y="423"/>
                  <a:pt x="2" y="353"/>
                  <a:pt x="2" y="353"/>
                </a:cubicBezTo>
                <a:cubicBezTo>
                  <a:pt x="10" y="312"/>
                  <a:pt x="0" y="303"/>
                  <a:pt x="39" y="288"/>
                </a:cubicBezTo>
                <a:cubicBezTo>
                  <a:pt x="68" y="277"/>
                  <a:pt x="107" y="278"/>
                  <a:pt x="76" y="27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5105520"/>
            <a:ext cx="228600" cy="7617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24" y="0"/>
                </a:moveTo>
                <a:cubicBezTo>
                  <a:pt x="12" y="80"/>
                  <a:pt x="0" y="160"/>
                  <a:pt x="24" y="192"/>
                </a:cubicBezTo>
                <a:cubicBezTo>
                  <a:pt x="48" y="224"/>
                  <a:pt x="144" y="168"/>
                  <a:pt x="168" y="192"/>
                </a:cubicBezTo>
                <a:cubicBezTo>
                  <a:pt x="192" y="216"/>
                  <a:pt x="168" y="312"/>
                  <a:pt x="168" y="3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5105520"/>
            <a:ext cx="228600" cy="7617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24" y="0"/>
                </a:moveTo>
                <a:cubicBezTo>
                  <a:pt x="12" y="80"/>
                  <a:pt x="0" y="160"/>
                  <a:pt x="24" y="192"/>
                </a:cubicBezTo>
                <a:cubicBezTo>
                  <a:pt x="48" y="224"/>
                  <a:pt x="144" y="168"/>
                  <a:pt x="168" y="192"/>
                </a:cubicBezTo>
                <a:cubicBezTo>
                  <a:pt x="192" y="216"/>
                  <a:pt x="168" y="312"/>
                  <a:pt x="168" y="3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029200"/>
            <a:ext cx="257040" cy="762120"/>
          </a:xfrm>
          <a:prstGeom prst="upArrow">
            <a:avLst>
              <a:gd name="adj1" fmla="val 50000"/>
              <a:gd name="adj2" fmla="val 74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952880"/>
            <a:ext cx="257400" cy="838440"/>
          </a:xfrm>
          <a:prstGeom prst="upArrow">
            <a:avLst>
              <a:gd name="adj1" fmla="val 50000"/>
              <a:gd name="adj2" fmla="val 814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4360" y="45720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9080" y="3876840"/>
            <a:ext cx="843120" cy="533160"/>
          </a:xfrm>
          <a:custGeom>
            <a:avLst/>
            <a:gdLst/>
            <a:ahLst/>
            <a:rect l="l" t="t" r="r" b="b"/>
            <a:pathLst>
              <a:path w="531" h="336">
                <a:moveTo>
                  <a:pt x="149" y="271"/>
                </a:moveTo>
                <a:cubicBezTo>
                  <a:pt x="102" y="268"/>
                  <a:pt x="54" y="272"/>
                  <a:pt x="9" y="261"/>
                </a:cubicBezTo>
                <a:cubicBezTo>
                  <a:pt x="0" y="259"/>
                  <a:pt x="0" y="243"/>
                  <a:pt x="0" y="234"/>
                </a:cubicBezTo>
                <a:cubicBezTo>
                  <a:pt x="0" y="196"/>
                  <a:pt x="35" y="179"/>
                  <a:pt x="65" y="169"/>
                </a:cubicBezTo>
                <a:cubicBezTo>
                  <a:pt x="54" y="136"/>
                  <a:pt x="22" y="112"/>
                  <a:pt x="46" y="76"/>
                </a:cubicBezTo>
                <a:cubicBezTo>
                  <a:pt x="52" y="67"/>
                  <a:pt x="65" y="63"/>
                  <a:pt x="74" y="57"/>
                </a:cubicBezTo>
                <a:cubicBezTo>
                  <a:pt x="83" y="60"/>
                  <a:pt x="93" y="69"/>
                  <a:pt x="102" y="66"/>
                </a:cubicBezTo>
                <a:cubicBezTo>
                  <a:pt x="142" y="53"/>
                  <a:pt x="173" y="16"/>
                  <a:pt x="214" y="1"/>
                </a:cubicBezTo>
                <a:cubicBezTo>
                  <a:pt x="223" y="4"/>
                  <a:pt x="234" y="4"/>
                  <a:pt x="241" y="11"/>
                </a:cubicBezTo>
                <a:cubicBezTo>
                  <a:pt x="275" y="46"/>
                  <a:pt x="216" y="48"/>
                  <a:pt x="288" y="29"/>
                </a:cubicBezTo>
                <a:cubicBezTo>
                  <a:pt x="331" y="2"/>
                  <a:pt x="339" y="0"/>
                  <a:pt x="390" y="11"/>
                </a:cubicBezTo>
                <a:cubicBezTo>
                  <a:pt x="393" y="26"/>
                  <a:pt x="385" y="50"/>
                  <a:pt x="399" y="57"/>
                </a:cubicBezTo>
                <a:cubicBezTo>
                  <a:pt x="443" y="81"/>
                  <a:pt x="531" y="29"/>
                  <a:pt x="483" y="113"/>
                </a:cubicBezTo>
                <a:cubicBezTo>
                  <a:pt x="478" y="123"/>
                  <a:pt x="464" y="125"/>
                  <a:pt x="455" y="131"/>
                </a:cubicBezTo>
                <a:cubicBezTo>
                  <a:pt x="467" y="180"/>
                  <a:pt x="466" y="218"/>
                  <a:pt x="437" y="261"/>
                </a:cubicBezTo>
                <a:cubicBezTo>
                  <a:pt x="418" y="258"/>
                  <a:pt x="400" y="252"/>
                  <a:pt x="381" y="252"/>
                </a:cubicBezTo>
                <a:cubicBezTo>
                  <a:pt x="368" y="252"/>
                  <a:pt x="413" y="249"/>
                  <a:pt x="418" y="261"/>
                </a:cubicBezTo>
                <a:cubicBezTo>
                  <a:pt x="425" y="278"/>
                  <a:pt x="421" y="303"/>
                  <a:pt x="409" y="317"/>
                </a:cubicBezTo>
                <a:cubicBezTo>
                  <a:pt x="396" y="332"/>
                  <a:pt x="353" y="336"/>
                  <a:pt x="353" y="336"/>
                </a:cubicBezTo>
                <a:cubicBezTo>
                  <a:pt x="310" y="333"/>
                  <a:pt x="266" y="335"/>
                  <a:pt x="223" y="327"/>
                </a:cubicBezTo>
                <a:cubicBezTo>
                  <a:pt x="190" y="321"/>
                  <a:pt x="187" y="284"/>
                  <a:pt x="149" y="271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2880" y="6248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6324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2600" y="6324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105160" y="5257800"/>
            <a:ext cx="7596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257800" y="5410080"/>
            <a:ext cx="7632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410080" y="5562720"/>
            <a:ext cx="7632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360" y="5181480"/>
            <a:ext cx="7596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333760" y="5105520"/>
            <a:ext cx="7596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715000" y="5562720"/>
            <a:ext cx="7632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7280" y="5181480"/>
            <a:ext cx="7632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360" y="5715000"/>
            <a:ext cx="7596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29200" y="5638680"/>
            <a:ext cx="7632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5486400"/>
            <a:ext cx="7632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ÝŠKOVÉ PATRA TROPICKÉHO PRAL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523880"/>
          <a:ext cx="6019920" cy="49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601992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019200" y="609588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LINNÉ PATRO 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71500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ŘOVÉ PATRO 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560" y="4952880"/>
            <a:ext cx="26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DNÍ STROMOV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O do 2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75360" y="3595680"/>
            <a:ext cx="28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ŘEDNÍ STROM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O do 40 m (stř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0400" y="1843200"/>
            <a:ext cx="25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NÍ STROMOV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O do 6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řížovka - zad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ovský had žijící v Amazonii (škrtič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h zemědělského území, na kterém dochází k intenzivnímu pěstování plo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ký brazilský přistav (město) na Amaz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ždyzelené „obojživelné“ dřevinné porosty, rostoucí při pobřeží v oblasti trop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oopi žijící v deštném pralese v povodí Ko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tlina s chabým stonkem, který se ovíjí kolem kmene stro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jrozlehlejší deštný prales na Ze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313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7000" y="55832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žungle se nazývá tropický deštný prales v As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9:38:14Z</dcterms:created>
  <dc:creator>kk</dc:creator>
  <dc:description/>
  <dc:language>en-US</dc:language>
  <cp:lastModifiedBy>jj</cp:lastModifiedBy>
  <dcterms:modified xsi:type="dcterms:W3CDTF">2010-03-09T19:23:14Z</dcterms:modified>
  <cp:revision>5</cp:revision>
  <dc:subject/>
  <dc:title>TROPY</dc:title>
</cp:coreProperties>
</file>