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517-AA55-4260-A76E-4135D86A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9AB-73B7-4306-807C-FEB723E2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B81-52DE-42AC-9A05-D4A948E9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2A6-10BA-4387-B9F6-C465F86A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C59-2B9D-456C-9976-58DDAED1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144-9BD4-4723-9296-A3391252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E993-6536-4AA0-94B8-032B5341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8F9-67D3-442D-9B5E-E337DDEF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DCE4-B641-47BC-AB47-00AA7CA5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22B-3229-4BDC-B798-8AAED833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175-7ABA-4411-9E3E-48CA360E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054-89E1-4C39-A8C0-B7FE3CD2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E9EA-C72B-486A-B7C2-E9C770EC8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akování práce s map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723920"/>
            <a:ext cx="763272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žnosti zadání samostatné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adání úkolu č.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házíte se na 30° s.š. a 90° z.d. (doplň město), z tohoto města se vydáme 900 km vzdušnou čarou na sever po řece (doplň název řeky) a dorazíme do města (doplň název). Z tohoto města na soutoku dvou řek odlétáte do hlavního města (doplň název hlavního města), které je vzdáleno vzdušnou čarou ??? Km (doplň kilometry). Kolik hodin a jaký den je právě v Praze, když v tomto hlavním městě je právě 22 hodin dne 10.listopad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5280" y="537372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úkolu č. 1: New Orleans, Mississippi, St. Louis, Washington, 1200 km, 4 hodiny 11. listop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08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adání úkolu č.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mocí rejstříku mapy najdi město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Brisban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urči následující úko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á je vzdálenost z tohoto města do města Canberr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é roční období je v tomto městě dne 24.12. a kolik hodin trvá den a kolik hodin noc? Jaké roční období a délka dne a noci je ve stejnou dobu v Č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á je skutečná vzdálenost z Brisbane do Tokya, když na mapě o měřítku 1:40 000 000 jsme naměřili vzdálenost 17,5 c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olik hodin poletíme z Brisbane do Tokya, když je cestovní rychlost letadla 1000 km/hodnin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dy přistaneme v Tokyu, když jsme z Brisbane vyletěli  v 6 hodin rán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0" y="486900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ešení úkolu č.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 100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éto den trvá asi 16 hodin a noc 8 hodin. V ČR zima 8 hodin den a 16 hodin 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0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ho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 12 hodin (6 hodin odlet + 7 hodin let = 13 hod. – 1 hod. časový rozdíl = 12 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9:59:33Z</dcterms:created>
  <dc:creator>jj</dc:creator>
  <dc:description/>
  <dc:language>en-US</dc:language>
  <cp:lastModifiedBy>jj</cp:lastModifiedBy>
  <dcterms:modified xsi:type="dcterms:W3CDTF">2007-10-29T20:30:55Z</dcterms:modified>
  <cp:revision>7</cp:revision>
  <dc:subject/>
  <dc:title>Opakování práce s mapou</dc:title>
</cp:coreProperties>
</file>