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2DB-4A7C-45EE-8B83-0C659680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899-C2F9-43E1-8384-A87A2D0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681-4DD0-4C06-A23C-62348852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98A-4F96-4FEC-B432-014C1079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040-54E1-42A2-8617-1B6DA96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E5C-CCBB-41F5-AD6D-6D8373C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67F-7155-4DAD-B8E6-ACADC98C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0FE-6AC0-4F92-8B79-8CF1E186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EA0-D731-4883-86C3-4872A33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DF4-7B21-4EC0-AA88-701C155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F56-1206-4539-B2B3-2F282FC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001-0B1F-4057-A92A-62E617F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80A8-A32D-40D6-B7DE-FF3F5F070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planetky.cz/article.php3?sid=53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J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ás jehličnatých les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solidFill>
            <a:srgbClr val="ece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7" descr="fot. Krzysztof Zajkowski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nejsevernější části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írného pás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dlouhá a tuhá zima, krátké a mírné léto) toto podnebí dovoluje růst pouz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hličnatých les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AJG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mrky, modříny, jed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e na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VERNÍ POLOKOU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kandinávie, Sibiř, Aljaška, Kana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da je zde dlouhodobě zmrzlá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mafros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– močály, bažiny, sesuvy (to brání jejímu využití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solidFill>
            <a:srgbClr val="ece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8" descr="fot. Krzysztof Zajkowski"/>
          <p:cNvPicPr/>
          <p:nvPr/>
        </p:nvPicPr>
        <p:blipFill>
          <a:blip r:embed="rId1"/>
          <a:stretch/>
        </p:blipFill>
        <p:spPr>
          <a:xfrm>
            <a:off x="0" y="3492360"/>
            <a:ext cx="4876920" cy="336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solidFill>
            <a:srgbClr val="ece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10" descr="fot. Krzysztof Zajkowski"/>
          <p:cNvPicPr/>
          <p:nvPr/>
        </p:nvPicPr>
        <p:blipFill>
          <a:blip r:embed="rId2"/>
          <a:stretch/>
        </p:blipFill>
        <p:spPr>
          <a:xfrm>
            <a:off x="4267080" y="2568600"/>
            <a:ext cx="48769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3657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stlin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hličnany, bříza, osika, olše, byliny, borůvky, mechy, lišejní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vířat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dvědi, lišky, vlci, bobři, losi, ptáci, hmy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dé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dmi málo osídlena = zachovaná vs. těžba dřeva a neros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wolfs" descr=""/>
          <p:cNvPicPr/>
          <p:nvPr/>
        </p:nvPicPr>
        <p:blipFill>
          <a:blip r:embed="rId1"/>
          <a:stretch/>
        </p:blipFill>
        <p:spPr>
          <a:xfrm>
            <a:off x="365760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5" name="180" descr=""/>
          <p:cNvPicPr/>
          <p:nvPr/>
        </p:nvPicPr>
        <p:blipFill>
          <a:blip r:embed="rId2"/>
          <a:stretch/>
        </p:blipFill>
        <p:spPr>
          <a:xfrm>
            <a:off x="4267080" y="3438360"/>
            <a:ext cx="4876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288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nguský meteorit (190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unguska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286520" cy="6114960"/>
          </a:xfrm>
          <a:prstGeom prst="rect">
            <a:avLst/>
          </a:prstGeom>
          <a:ln w="0">
            <a:noFill/>
          </a:ln>
        </p:spPr>
      </p:pic>
      <p:pic>
        <p:nvPicPr>
          <p:cNvPr id="58" name="073004-Tunguska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429000" cy="3040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867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íce z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800"/>
            </a:b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Tajga – pás jehličnatých les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nejsevernější části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mírného pás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severní Evropa, Asie a Sev. Amerik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Drsné podneb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krátké chladnější léto, tvrdá a dlouhá zima, dlouhodobě zmrzlá půda – permafrost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án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jejímu většímu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yužíván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kácení lesů, těžba nerostů, stavba měst – nevýhodná a složitá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lň chybějící poj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Y MÍRNÉHO PÁ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 oblastech mírného pásu kde je ………………srážek se nachází lesy. V jižní části jsou to lesy …………….., které byly na mnoha místech………………………. a přeměněny na kulturní krajinu (např. ..………………………….). V chladnější (severní) oblasti mírného pásu roste pás…………............ lesů (nazývaný Tajga), ten díky své nehostinnosti zůstal prakticky zachován (využíván k těžbě dřeva a nerostných surovin: …………………………………………………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liny a živočichové v lesích mírného pá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…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(tajga)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lň chybějící pojmy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SY MÍRNÉHO PÁ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 oblastech mírného pásu kde je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tat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rážek se nachází lesy. V jižní části jsou to les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nat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teré byly na mnoha míste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yužity člověk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přeměněny na kulturní krajin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apř. pole, pastviny, sídla aj.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 chladnější (severní) oblasti mírného pásu roste pá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hličnatý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sů (nazývaný Tajga), ten díky své nehostinnosti zůstal prakticky zachován (využíván k těžbě dřeva a nerostných surovi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pa, zemní plyn, zlato, uhl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d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tliny a živočichové v lesích mírného pá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k, dub, javor, ptactvo, divoké prase, vysoká zvěř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(tajga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rk, jedle, borovice, medvěd, vlk, hmyz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20:26:31Z</dcterms:created>
  <dc:creator>kk</dc:creator>
  <dc:description/>
  <dc:language>en-US</dc:language>
  <cp:lastModifiedBy>jj</cp:lastModifiedBy>
  <dcterms:modified xsi:type="dcterms:W3CDTF">2010-03-26T05:43:37Z</dcterms:modified>
  <cp:revision>2</cp:revision>
  <dc:subject/>
  <dc:title>TAJGA</dc:title>
</cp:coreProperties>
</file>