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E2B-A16C-40E2-911C-387DED81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A44-9BFD-4BE8-9759-FA6BD89A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CC0-974D-4211-83A6-6ACF2395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7BC-DE41-4FEC-83FD-082DD410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A456-0E08-4762-81C3-503B0117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D7D-CC2A-4509-8C27-483529AC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30A-AA74-434C-A17C-A41C8E12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133-EFD1-4DF7-B19F-4879261F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673-ED5C-4851-8FE6-B1FD3949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FD0-212F-48B6-BBBC-CA74EFB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FBA-CCFC-4693-A2B9-5267FA51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393-F199-4AF3-8484-3BA86616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00E8-536E-46AC-BE25-A90610C87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ŘEDOMOŘ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ajina olivových háj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0410-kreta-394-p21-olivovnik.2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3946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ředomořský vegetační pás leží v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TROPE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eměpisné šířky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é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uchý a teplý vzduch z tropů (vysoké teploty a málo sráže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im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zduch z mírného pásu (vyšší srážky a ochlazení - průměrně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yprus" descr=""/>
          <p:cNvPicPr/>
          <p:nvPr/>
        </p:nvPicPr>
        <p:blipFill>
          <a:blip r:embed="rId1"/>
          <a:stretch/>
        </p:blipFill>
        <p:spPr>
          <a:xfrm>
            <a:off x="4267080" y="0"/>
            <a:ext cx="4305600" cy="2852640"/>
          </a:xfrm>
          <a:prstGeom prst="rect">
            <a:avLst/>
          </a:prstGeom>
          <a:ln w="0">
            <a:noFill/>
          </a:ln>
        </p:spPr>
      </p:pic>
      <p:pic>
        <p:nvPicPr>
          <p:cNvPr id="46" name="is0023" descr=""/>
          <p:cNvPicPr/>
          <p:nvPr/>
        </p:nvPicPr>
        <p:blipFill>
          <a:blip r:embed="rId2"/>
          <a:stretch/>
        </p:blipFill>
        <p:spPr>
          <a:xfrm>
            <a:off x="4952880" y="2895480"/>
            <a:ext cx="3017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533160"/>
            <a:ext cx="3505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Kolébka civiliza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Egypt, Řím, Řeck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měněná krajin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kácení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vrdolisté vegeta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borovice, cedr, dub) nahrazen Makchiemi, vinnou révou, citrusy, olivy…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díky kácení a častým požárům velká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oze půd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last rekrea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C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orktree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1714680" cy="2468520"/>
          </a:xfrm>
          <a:prstGeom prst="rect">
            <a:avLst/>
          </a:prstGeom>
          <a:ln w="0">
            <a:noFill/>
          </a:ln>
        </p:spPr>
      </p:pic>
      <p:pic>
        <p:nvPicPr>
          <p:cNvPr id="49" name="04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3657600" cy="2246400"/>
          </a:xfrm>
          <a:prstGeom prst="rect">
            <a:avLst/>
          </a:prstGeom>
          <a:ln w="0">
            <a:noFill/>
          </a:ln>
        </p:spPr>
      </p:pic>
      <p:pic>
        <p:nvPicPr>
          <p:cNvPr id="50" name="Poncirus2" descr=""/>
          <p:cNvPicPr/>
          <p:nvPr/>
        </p:nvPicPr>
        <p:blipFill>
          <a:blip r:embed="rId3"/>
          <a:stretch/>
        </p:blipFill>
        <p:spPr>
          <a:xfrm>
            <a:off x="7010280" y="685800"/>
            <a:ext cx="1970280" cy="2932200"/>
          </a:xfrm>
          <a:prstGeom prst="rect">
            <a:avLst/>
          </a:prstGeom>
          <a:ln w="0">
            <a:noFill/>
          </a:ln>
        </p:spPr>
      </p:pic>
      <p:pic>
        <p:nvPicPr>
          <p:cNvPr id="51" name="300px-Akropolis" descr=""/>
          <p:cNvPicPr/>
          <p:nvPr/>
        </p:nvPicPr>
        <p:blipFill>
          <a:blip r:embed="rId4"/>
          <a:stretch/>
        </p:blipFill>
        <p:spPr>
          <a:xfrm>
            <a:off x="3429000" y="533520"/>
            <a:ext cx="34178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ápis</a:t>
            </a: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ředomo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oblasti subtropického pásu (30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4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zeměpisné šířky), na západě světadílů, se rozkládá oblast subtropické (tvrdolisté) vegetace (cedr, korkový dub aj.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měněná krajina je vhodná pro pěstování subtropických plodin (citrusy, vinná réva, olivy apod.) a letní rekreaci (cestovní ruch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90920" y="1905120"/>
          <a:ext cx="5715000" cy="405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571500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21466200">
            <a:off x="7013160" y="2587320"/>
            <a:ext cx="5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07:22Z</dcterms:created>
  <dc:creator>kk</dc:creator>
  <dc:description/>
  <dc:language>en-US</dc:language>
  <cp:lastModifiedBy>kk</cp:lastModifiedBy>
  <dcterms:modified xsi:type="dcterms:W3CDTF">2006-02-05T20:42:51Z</dcterms:modified>
  <cp:revision>4</cp:revision>
  <dc:subject/>
  <dc:title>STŘEDOMOŘÍ</dc:title>
</cp:coreProperties>
</file>