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867-A63D-4135-BB51-B87C0ED5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D2A-8AF6-4E35-99D3-FDEAAEA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E67-7652-4377-95AD-8F64BDBA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A3-B407-465C-A251-4783F91C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675-D1D7-4F3E-A543-EBC0F10F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1F2-0C27-4454-9AC7-BAB4E25A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3B5-764A-4336-96D6-1FEEAE0D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82E-CA7A-4670-B6BF-F237EDF1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DEA-757A-4BBE-8BD9-12B377FD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57F-565C-4BD3-93AB-783892A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4C2-6EC5-43DC-A15C-8C6FA84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154-75D5-4233-8A1C-EDAC004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DB9-49A1-46A0-9FC7-9BD2973E7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t&#345;edn&#237;_Amerik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ŘEDOAMERICKÉ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EM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o_dzungle_bananovnik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46400" cy="6114960"/>
          </a:xfrm>
          <a:prstGeom prst="rect">
            <a:avLst/>
          </a:prstGeom>
          <a:ln w="0">
            <a:noFill/>
          </a:ln>
        </p:spPr>
      </p:pic>
      <p:pic>
        <p:nvPicPr>
          <p:cNvPr id="43" name="Panamsky_pruplav01_z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572000" cy="2671920"/>
          </a:xfrm>
          <a:prstGeom prst="rect">
            <a:avLst/>
          </a:prstGeom>
          <a:ln w="0">
            <a:noFill/>
          </a:ln>
        </p:spPr>
      </p:pic>
      <p:pic>
        <p:nvPicPr>
          <p:cNvPr id="44" name="18257n" descr=""/>
          <p:cNvPicPr/>
          <p:nvPr/>
        </p:nvPicPr>
        <p:blipFill>
          <a:blip r:embed="rId3"/>
          <a:stretch/>
        </p:blipFill>
        <p:spPr>
          <a:xfrm>
            <a:off x="4419720" y="3530520"/>
            <a:ext cx="4495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jisti podle atlasu a učeb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řední Amerika leží mezi šíjemi……,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pomůže ti obrázek na str.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tří k ní souostroví………,…………,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ř. Amerika leží …………….podnebném pá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jdeme zde vegetační pásy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o pevninské části Stření Ameriky patří tyto země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ernoši, mulati, mestici, indiáni, bělo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tv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álo rozvinuté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vládá monokulturní zemědělství (cukrová třtina, banány, káv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ůmysl: potravinářský (třtinový cukr, výroba Rumu), cestovní ruch, těžba (ropa, bauxit – Jamaj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čti společně šedý rámeček x samostatně žlutý rámeček (str. 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920" y="5451480"/>
            <a:ext cx="834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ímavé odkazy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s.wikipedia.org/wiki/St%C5%99edn%C3%AD_Amer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řední Ameri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6:41:11Z</dcterms:created>
  <dc:creator>kk</dc:creator>
  <dc:description/>
  <dc:language>en-US</dc:language>
  <cp:lastModifiedBy>kk</cp:lastModifiedBy>
  <dcterms:modified xsi:type="dcterms:W3CDTF">2005-12-08T21:06:59Z</dcterms:modified>
  <cp:revision>5</cp:revision>
  <dc:subject/>
  <dc:title>STŘEDOAMERICKÉ ZEMĚ</dc:title>
</cp:coreProperties>
</file>