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BDA-73C6-4CD3-A235-29792035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22C-6B1C-4591-99A1-AC6F3DD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EB4-C3B5-44D1-98A3-5CF10736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C2C-0F0E-485A-A828-D2B71697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35F-E14F-4290-8222-B455D97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F7F-053C-46A1-9BF9-784663C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5A6-223F-49C3-9FE0-DEB2442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903-D5E2-4CFD-A978-7C50DD7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6CF-6ED2-4646-AC2D-6E81E5F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9A3-70C8-459E-AD5C-43CC46F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A8F-F535-4A98-A898-E4BEF8C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3B8-2FA8-4187-A25A-EE3B31E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20D-D2B0-4572-A96A-190E4A2D0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e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lké obilnice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lemberk.vcm.cz/husice1_kopie.jpg"/>
          <p:cNvPicPr/>
          <p:nvPr/>
        </p:nvPicPr>
        <p:blipFill>
          <a:blip r:embed="rId1"/>
          <a:stretch/>
        </p:blipFill>
        <p:spPr>
          <a:xfrm>
            <a:off x="2666880" y="2590920"/>
            <a:ext cx="5715000" cy="410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://countrystudies.us/united-states/American-Indian.jpg"/>
          <p:cNvPicPr/>
          <p:nvPr/>
        </p:nvPicPr>
        <p:blipFill>
          <a:blip r:embed="rId2"/>
          <a:stretch/>
        </p:blipFill>
        <p:spPr>
          <a:xfrm>
            <a:off x="762120" y="838080"/>
            <a:ext cx="21034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228600" y="3049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epi leží v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kontinentálním mírném pás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Rusko, USA, Argentina aj.) – vyšší rozdíly teplot a méně srážek neumožňují růst souvislého lesa, ale pouz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ra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různě pojmenovány:  SA = prérie, JA = pam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http://www.horolezec.cz/images/galery/gal_66/jamerika/nahledy/pampy.jpg"/>
          <p:cNvPicPr/>
          <p:nvPr/>
        </p:nvPicPr>
        <p:blipFill>
          <a:blip r:embed="rId1"/>
          <a:stretch/>
        </p:blipFill>
        <p:spPr>
          <a:xfrm>
            <a:off x="4495680" y="609480"/>
            <a:ext cx="464832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mypage.bluewin.ch/klipsi/160503c.jpg"/>
          <p:cNvPicPr/>
          <p:nvPr/>
        </p:nvPicPr>
        <p:blipFill>
          <a:blip r:embed="rId2"/>
          <a:stretch/>
        </p:blipFill>
        <p:spPr>
          <a:xfrm>
            <a:off x="1066680" y="3949560"/>
            <a:ext cx="7848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usté kořeny trav dodávají potřebné živiny (humus) do půdy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Obilnice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ste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říve mnoho kočovných kmenů (indiáni) i zvířat (bizoni, hlodavci – zajíc, sysel, hraboš, ptáci – křepelka, orlové, sup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http://www.wcs.org/media/image/NAP.SZack.Bison%20drinking%20from%20stream.jpg"/>
          <p:cNvPicPr/>
          <p:nvPr/>
        </p:nvPicPr>
        <p:blipFill>
          <a:blip r:embed="rId1"/>
          <a:stretch/>
        </p:blipFill>
        <p:spPr>
          <a:xfrm>
            <a:off x="4191120" y="3608280"/>
            <a:ext cx="472428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www.gltours.com/Countries/Pics/argentina%20la%20pampa.jpg"/>
          <p:cNvPicPr/>
          <p:nvPr/>
        </p:nvPicPr>
        <p:blipFill>
          <a:blip r:embed="rId2"/>
          <a:stretch/>
        </p:blipFill>
        <p:spPr>
          <a:xfrm>
            <a:off x="4191120" y="228600"/>
            <a:ext cx="4724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aoblený obdélník 3"/>
          <p:cNvSpPr/>
          <p:nvPr/>
        </p:nvSpPr>
        <p:spPr>
          <a:xfrm>
            <a:off x="2771640" y="2401920"/>
            <a:ext cx="2808360" cy="11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STE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3121920" y="76500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ÍRNÝ P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KONITINENTÁL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6525360" y="15955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5987520" y="29941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V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5214600" y="473724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spodářské vy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1201680" y="4797360"/>
            <a:ext cx="3138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 Ukrajiny po Mongolsko (celi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everní Amerika (prér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rgentina (pamp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ďarsko (pus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243000" y="2863800"/>
            <a:ext cx="1969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ětrná ero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orná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rušení biodiverz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640800" y="15955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OSTE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615240" y="9698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íce vláhy v lé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576720" y="15084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viny + str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4863600" y="61167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ov sko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6433920" y="610236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bilniny – obilnice svě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šenice, kukuř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7202160" y="243540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vyly a vousat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7160400" y="3659040"/>
            <a:ext cx="2044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zon (hrozí vyhub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odav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jo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rlové a su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Přímá spojnice se šipkou 19"/>
          <p:cNvCxnSpPr/>
          <p:nvPr/>
        </p:nvCxnSpPr>
        <p:spPr>
          <a:xfrm flipV="1">
            <a:off x="4355640" y="1595160"/>
            <a:ext cx="108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 flipV="1">
            <a:off x="5580000" y="2056680"/>
            <a:ext cx="9518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Přímá spojnice se šipkou 23"/>
          <p:cNvCxnSpPr>
            <a:endCxn id="54" idx="1"/>
          </p:cNvCxnSpPr>
          <p:nvPr/>
        </p:nvCxnSpPr>
        <p:spPr>
          <a:xfrm>
            <a:off x="5580000" y="3225600"/>
            <a:ext cx="41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Přímá spojnice se šipkou 25"/>
          <p:cNvCxnSpPr/>
          <p:nvPr/>
        </p:nvCxnSpPr>
        <p:spPr>
          <a:xfrm>
            <a:off x="5452920" y="3587760"/>
            <a:ext cx="659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Přímá spojnice se šipkou 27"/>
          <p:cNvCxnSpPr/>
          <p:nvPr/>
        </p:nvCxnSpPr>
        <p:spPr>
          <a:xfrm flipH="1">
            <a:off x="2267640" y="3587400"/>
            <a:ext cx="108036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Přímá spojnice se šipkou 29"/>
          <p:cNvCxnSpPr>
            <a:stCxn id="51" idx="1"/>
          </p:cNvCxnSpPr>
          <p:nvPr/>
        </p:nvCxnSpPr>
        <p:spPr>
          <a:xfrm flipH="1">
            <a:off x="1907280" y="2993760"/>
            <a:ext cx="86436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Přímá spojnice se šipkou 31"/>
          <p:cNvCxnSpPr/>
          <p:nvPr/>
        </p:nvCxnSpPr>
        <p:spPr>
          <a:xfrm flipH="1" flipV="1">
            <a:off x="2123280" y="2057040"/>
            <a:ext cx="68508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Přímá spojnice se šipkou 33"/>
          <p:cNvCxnSpPr/>
          <p:nvPr/>
        </p:nvCxnSpPr>
        <p:spPr>
          <a:xfrm flipV="1">
            <a:off x="1358640" y="1410840"/>
            <a:ext cx="108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Přímá spojnice se šipkou 35"/>
          <p:cNvCxnSpPr/>
          <p:nvPr/>
        </p:nvCxnSpPr>
        <p:spPr>
          <a:xfrm flipV="1">
            <a:off x="1358640" y="594720"/>
            <a:ext cx="108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Přímá spojnice se šipkou 39"/>
          <p:cNvCxnSpPr/>
          <p:nvPr/>
        </p:nvCxnSpPr>
        <p:spPr>
          <a:xfrm flipV="1">
            <a:off x="7192440" y="2803320"/>
            <a:ext cx="1882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Přímá spojnice se šipkou 41"/>
          <p:cNvCxnSpPr/>
          <p:nvPr/>
        </p:nvCxnSpPr>
        <p:spPr>
          <a:xfrm>
            <a:off x="7192440" y="3357360"/>
            <a:ext cx="18828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Přímá spojnice se šipkou 46"/>
          <p:cNvCxnSpPr>
            <a:stCxn id="55" idx="2"/>
          </p:cNvCxnSpPr>
          <p:nvPr/>
        </p:nvCxnSpPr>
        <p:spPr>
          <a:xfrm flipH="1">
            <a:off x="5579640" y="5567400"/>
            <a:ext cx="9518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Přímá spojnice se šipkou 48"/>
          <p:cNvCxnSpPr>
            <a:stCxn id="55" idx="2"/>
          </p:cNvCxnSpPr>
          <p:nvPr/>
        </p:nvCxnSpPr>
        <p:spPr>
          <a:xfrm>
            <a:off x="6530760" y="5567400"/>
            <a:ext cx="3452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ovéPole 1"/>
          <p:cNvSpPr/>
          <p:nvPr/>
        </p:nvSpPr>
        <p:spPr>
          <a:xfrm>
            <a:off x="6733440" y="0"/>
            <a:ext cx="2427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yšlenková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6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epi a lesostepi – obilnice svě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ží v sušším vnitrozemském podnebí mírného pásu (srážky nestačí k růstu stromů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tvořeny travnatými porosty - na úrodných černozemích (dnes zemědělsky využíván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ířata – býložravci (bizoni, domestifikovaný dobytek, hlodavci, ptá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35:04Z</dcterms:created>
  <dc:creator>kk</dc:creator>
  <dc:description/>
  <dc:language>en-US</dc:language>
  <cp:lastModifiedBy>Uživatel</cp:lastModifiedBy>
  <dcterms:modified xsi:type="dcterms:W3CDTF">2014-03-29T07:42:31Z</dcterms:modified>
  <cp:revision>7</cp:revision>
  <dc:subject/>
  <dc:title>Stepi</dc:title>
</cp:coreProperties>
</file>