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E32-A28A-4105-8B2A-D2278B7F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275-B683-4B7A-B476-152807AA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819-E7C3-460F-9E60-F9CEFAFC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2CF-14BE-4A91-941A-AD5FA6A9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A49-DB13-4059-8B96-F2A61E9D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A2F-BF97-4307-9627-DE657AD7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BC4-364B-4C2D-9140-2C77EB4B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777-062F-48FF-B113-466E4F10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48A-2AA8-4E6B-9A1A-5CF26C91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8CE-BFC8-4133-8A09-CDC3E70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876-5941-4144-BBEA-0B0A8830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10B-76AD-463A-9D1A-F1E12BE3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C25-70C1-4222-94A5-6222ED3B1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news.bbc.co.uk/1/hi/sci/tech/4126809.stm" TargetMode="External"/><Relationship Id="rId4" Type="http://schemas.openxmlformats.org/officeDocument/2006/relationships/hyperlink" Target="http://news.bbc.co.uk/1/hi/sci/tech/4972366.stm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www.jindrichpolak.wz.cz/encyklopedie/abc/sopka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jindrichpolak.wz.cz/encyklopedie/abc/zemetreseni.php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9400" y="40464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PKY A ZEMĚTŘES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995640" cy="264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1600200"/>
            <a:ext cx="4932360" cy="3083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ULKANISNUS A 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1440" y="573408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c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ZEMĚTŘESENÍ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SOP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55560" y="4797360"/>
            <a:ext cx="49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jetím na mapu získáte další informace o ohniscích vulkanis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0960" y="2336760"/>
            <a:ext cx="1738080" cy="2286000"/>
          </a:xfrm>
          <a:custGeom>
            <a:avLst/>
            <a:gdLst/>
            <a:ahLst/>
            <a:rect l="l" t="t" r="r" b="b"/>
            <a:pathLst>
              <a:path w="1095" h="1440">
                <a:moveTo>
                  <a:pt x="263" y="64"/>
                </a:moveTo>
                <a:cubicBezTo>
                  <a:pt x="332" y="47"/>
                  <a:pt x="262" y="72"/>
                  <a:pt x="321" y="22"/>
                </a:cubicBezTo>
                <a:cubicBezTo>
                  <a:pt x="326" y="18"/>
                  <a:pt x="379" y="6"/>
                  <a:pt x="380" y="6"/>
                </a:cubicBezTo>
                <a:cubicBezTo>
                  <a:pt x="424" y="9"/>
                  <a:pt x="469" y="11"/>
                  <a:pt x="513" y="14"/>
                </a:cubicBezTo>
                <a:cubicBezTo>
                  <a:pt x="549" y="16"/>
                  <a:pt x="593" y="0"/>
                  <a:pt x="622" y="22"/>
                </a:cubicBezTo>
                <a:cubicBezTo>
                  <a:pt x="667" y="55"/>
                  <a:pt x="609" y="130"/>
                  <a:pt x="672" y="173"/>
                </a:cubicBezTo>
                <a:cubicBezTo>
                  <a:pt x="681" y="298"/>
                  <a:pt x="692" y="403"/>
                  <a:pt x="747" y="515"/>
                </a:cubicBezTo>
                <a:cubicBezTo>
                  <a:pt x="753" y="528"/>
                  <a:pt x="775" y="520"/>
                  <a:pt x="789" y="523"/>
                </a:cubicBezTo>
                <a:cubicBezTo>
                  <a:pt x="827" y="561"/>
                  <a:pt x="846" y="607"/>
                  <a:pt x="864" y="657"/>
                </a:cubicBezTo>
                <a:cubicBezTo>
                  <a:pt x="867" y="682"/>
                  <a:pt x="866" y="708"/>
                  <a:pt x="872" y="732"/>
                </a:cubicBezTo>
                <a:cubicBezTo>
                  <a:pt x="875" y="744"/>
                  <a:pt x="886" y="753"/>
                  <a:pt x="889" y="765"/>
                </a:cubicBezTo>
                <a:cubicBezTo>
                  <a:pt x="900" y="812"/>
                  <a:pt x="892" y="888"/>
                  <a:pt x="922" y="932"/>
                </a:cubicBezTo>
                <a:cubicBezTo>
                  <a:pt x="951" y="974"/>
                  <a:pt x="971" y="984"/>
                  <a:pt x="1006" y="1007"/>
                </a:cubicBezTo>
                <a:cubicBezTo>
                  <a:pt x="1040" y="1098"/>
                  <a:pt x="1095" y="1250"/>
                  <a:pt x="997" y="1316"/>
                </a:cubicBezTo>
                <a:cubicBezTo>
                  <a:pt x="984" y="1325"/>
                  <a:pt x="941" y="1331"/>
                  <a:pt x="931" y="1333"/>
                </a:cubicBezTo>
                <a:cubicBezTo>
                  <a:pt x="839" y="1400"/>
                  <a:pt x="964" y="1317"/>
                  <a:pt x="847" y="1366"/>
                </a:cubicBezTo>
                <a:cubicBezTo>
                  <a:pt x="817" y="1379"/>
                  <a:pt x="793" y="1402"/>
                  <a:pt x="764" y="1416"/>
                </a:cubicBezTo>
                <a:cubicBezTo>
                  <a:pt x="437" y="1407"/>
                  <a:pt x="565" y="1440"/>
                  <a:pt x="405" y="1358"/>
                </a:cubicBezTo>
                <a:cubicBezTo>
                  <a:pt x="370" y="1307"/>
                  <a:pt x="409" y="1357"/>
                  <a:pt x="363" y="1316"/>
                </a:cubicBezTo>
                <a:cubicBezTo>
                  <a:pt x="335" y="1291"/>
                  <a:pt x="307" y="1245"/>
                  <a:pt x="271" y="1233"/>
                </a:cubicBezTo>
                <a:cubicBezTo>
                  <a:pt x="240" y="1212"/>
                  <a:pt x="227" y="1186"/>
                  <a:pt x="204" y="1158"/>
                </a:cubicBezTo>
                <a:cubicBezTo>
                  <a:pt x="164" y="1111"/>
                  <a:pt x="122" y="1058"/>
                  <a:pt x="87" y="1007"/>
                </a:cubicBezTo>
                <a:cubicBezTo>
                  <a:pt x="74" y="965"/>
                  <a:pt x="44" y="943"/>
                  <a:pt x="21" y="907"/>
                </a:cubicBezTo>
                <a:cubicBezTo>
                  <a:pt x="5" y="788"/>
                  <a:pt x="0" y="676"/>
                  <a:pt x="21" y="557"/>
                </a:cubicBezTo>
                <a:cubicBezTo>
                  <a:pt x="24" y="504"/>
                  <a:pt x="25" y="451"/>
                  <a:pt x="29" y="398"/>
                </a:cubicBezTo>
                <a:cubicBezTo>
                  <a:pt x="30" y="387"/>
                  <a:pt x="31" y="374"/>
                  <a:pt x="37" y="365"/>
                </a:cubicBezTo>
                <a:cubicBezTo>
                  <a:pt x="59" y="333"/>
                  <a:pt x="103" y="294"/>
                  <a:pt x="129" y="264"/>
                </a:cubicBezTo>
                <a:cubicBezTo>
                  <a:pt x="167" y="220"/>
                  <a:pt x="198" y="172"/>
                  <a:pt x="246" y="139"/>
                </a:cubicBezTo>
                <a:cubicBezTo>
                  <a:pt x="284" y="81"/>
                  <a:pt x="290" y="106"/>
                  <a:pt x="263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28080" y="2487600"/>
            <a:ext cx="1114200" cy="2052720"/>
          </a:xfrm>
          <a:custGeom>
            <a:avLst/>
            <a:gdLst/>
            <a:ahLst/>
            <a:rect l="l" t="t" r="r" b="b"/>
            <a:pathLst>
              <a:path w="702" h="1293">
                <a:moveTo>
                  <a:pt x="248" y="27"/>
                </a:moveTo>
                <a:cubicBezTo>
                  <a:pt x="231" y="33"/>
                  <a:pt x="211" y="32"/>
                  <a:pt x="198" y="44"/>
                </a:cubicBezTo>
                <a:cubicBezTo>
                  <a:pt x="95" y="146"/>
                  <a:pt x="213" y="61"/>
                  <a:pt x="139" y="111"/>
                </a:cubicBezTo>
                <a:cubicBezTo>
                  <a:pt x="129" y="131"/>
                  <a:pt x="111" y="147"/>
                  <a:pt x="106" y="169"/>
                </a:cubicBezTo>
                <a:cubicBezTo>
                  <a:pt x="82" y="281"/>
                  <a:pt x="89" y="429"/>
                  <a:pt x="22" y="528"/>
                </a:cubicBezTo>
                <a:cubicBezTo>
                  <a:pt x="19" y="536"/>
                  <a:pt x="14" y="544"/>
                  <a:pt x="14" y="553"/>
                </a:cubicBezTo>
                <a:cubicBezTo>
                  <a:pt x="14" y="736"/>
                  <a:pt x="0" y="682"/>
                  <a:pt x="181" y="670"/>
                </a:cubicBezTo>
                <a:cubicBezTo>
                  <a:pt x="228" y="655"/>
                  <a:pt x="277" y="662"/>
                  <a:pt x="323" y="645"/>
                </a:cubicBezTo>
                <a:cubicBezTo>
                  <a:pt x="335" y="664"/>
                  <a:pt x="344" y="673"/>
                  <a:pt x="348" y="695"/>
                </a:cubicBezTo>
                <a:cubicBezTo>
                  <a:pt x="352" y="714"/>
                  <a:pt x="341" y="741"/>
                  <a:pt x="356" y="754"/>
                </a:cubicBezTo>
                <a:cubicBezTo>
                  <a:pt x="378" y="772"/>
                  <a:pt x="440" y="770"/>
                  <a:pt x="440" y="770"/>
                </a:cubicBezTo>
                <a:cubicBezTo>
                  <a:pt x="437" y="795"/>
                  <a:pt x="439" y="822"/>
                  <a:pt x="431" y="846"/>
                </a:cubicBezTo>
                <a:cubicBezTo>
                  <a:pt x="427" y="857"/>
                  <a:pt x="413" y="862"/>
                  <a:pt x="406" y="871"/>
                </a:cubicBezTo>
                <a:cubicBezTo>
                  <a:pt x="363" y="926"/>
                  <a:pt x="332" y="998"/>
                  <a:pt x="273" y="1038"/>
                </a:cubicBezTo>
                <a:cubicBezTo>
                  <a:pt x="261" y="1056"/>
                  <a:pt x="243" y="1070"/>
                  <a:pt x="231" y="1088"/>
                </a:cubicBezTo>
                <a:cubicBezTo>
                  <a:pt x="226" y="1095"/>
                  <a:pt x="227" y="1105"/>
                  <a:pt x="223" y="1113"/>
                </a:cubicBezTo>
                <a:cubicBezTo>
                  <a:pt x="204" y="1152"/>
                  <a:pt x="169" y="1191"/>
                  <a:pt x="139" y="1221"/>
                </a:cubicBezTo>
                <a:cubicBezTo>
                  <a:pt x="151" y="1258"/>
                  <a:pt x="143" y="1266"/>
                  <a:pt x="181" y="1280"/>
                </a:cubicBezTo>
                <a:cubicBezTo>
                  <a:pt x="212" y="1274"/>
                  <a:pt x="263" y="1293"/>
                  <a:pt x="273" y="1263"/>
                </a:cubicBezTo>
                <a:cubicBezTo>
                  <a:pt x="285" y="1225"/>
                  <a:pt x="272" y="1209"/>
                  <a:pt x="314" y="1196"/>
                </a:cubicBezTo>
                <a:cubicBezTo>
                  <a:pt x="333" y="1128"/>
                  <a:pt x="370" y="1134"/>
                  <a:pt x="423" y="1104"/>
                </a:cubicBezTo>
                <a:cubicBezTo>
                  <a:pt x="440" y="1094"/>
                  <a:pt x="473" y="1071"/>
                  <a:pt x="473" y="1071"/>
                </a:cubicBezTo>
                <a:cubicBezTo>
                  <a:pt x="479" y="1063"/>
                  <a:pt x="484" y="1054"/>
                  <a:pt x="490" y="1046"/>
                </a:cubicBezTo>
                <a:cubicBezTo>
                  <a:pt x="498" y="1037"/>
                  <a:pt x="508" y="1030"/>
                  <a:pt x="515" y="1021"/>
                </a:cubicBezTo>
                <a:cubicBezTo>
                  <a:pt x="568" y="953"/>
                  <a:pt x="524" y="987"/>
                  <a:pt x="573" y="954"/>
                </a:cubicBezTo>
                <a:cubicBezTo>
                  <a:pt x="576" y="919"/>
                  <a:pt x="581" y="806"/>
                  <a:pt x="598" y="762"/>
                </a:cubicBezTo>
                <a:cubicBezTo>
                  <a:pt x="605" y="743"/>
                  <a:pt x="632" y="712"/>
                  <a:pt x="632" y="712"/>
                </a:cubicBezTo>
                <a:cubicBezTo>
                  <a:pt x="651" y="651"/>
                  <a:pt x="616" y="584"/>
                  <a:pt x="673" y="545"/>
                </a:cubicBezTo>
                <a:cubicBezTo>
                  <a:pt x="702" y="463"/>
                  <a:pt x="626" y="339"/>
                  <a:pt x="557" y="295"/>
                </a:cubicBezTo>
                <a:cubicBezTo>
                  <a:pt x="546" y="266"/>
                  <a:pt x="537" y="211"/>
                  <a:pt x="523" y="186"/>
                </a:cubicBezTo>
                <a:cubicBezTo>
                  <a:pt x="517" y="176"/>
                  <a:pt x="506" y="170"/>
                  <a:pt x="498" y="161"/>
                </a:cubicBezTo>
                <a:cubicBezTo>
                  <a:pt x="492" y="153"/>
                  <a:pt x="489" y="143"/>
                  <a:pt x="481" y="136"/>
                </a:cubicBezTo>
                <a:cubicBezTo>
                  <a:pt x="466" y="123"/>
                  <a:pt x="431" y="103"/>
                  <a:pt x="431" y="103"/>
                </a:cubicBezTo>
                <a:cubicBezTo>
                  <a:pt x="411" y="71"/>
                  <a:pt x="393" y="48"/>
                  <a:pt x="356" y="36"/>
                </a:cubicBezTo>
                <a:cubicBezTo>
                  <a:pt x="306" y="44"/>
                  <a:pt x="300" y="42"/>
                  <a:pt x="256" y="27"/>
                </a:cubicBezTo>
                <a:cubicBezTo>
                  <a:pt x="174" y="0"/>
                  <a:pt x="205" y="11"/>
                  <a:pt x="248" y="2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685960"/>
            <a:ext cx="1795320" cy="855720"/>
          </a:xfrm>
          <a:custGeom>
            <a:avLst/>
            <a:gdLst/>
            <a:ahLst/>
            <a:rect l="l" t="t" r="r" b="b"/>
            <a:pathLst>
              <a:path w="1131" h="539">
                <a:moveTo>
                  <a:pt x="0" y="170"/>
                </a:moveTo>
                <a:cubicBezTo>
                  <a:pt x="13" y="222"/>
                  <a:pt x="18" y="215"/>
                  <a:pt x="67" y="203"/>
                </a:cubicBezTo>
                <a:cubicBezTo>
                  <a:pt x="123" y="147"/>
                  <a:pt x="95" y="160"/>
                  <a:pt x="142" y="145"/>
                </a:cubicBezTo>
                <a:cubicBezTo>
                  <a:pt x="176" y="122"/>
                  <a:pt x="210" y="113"/>
                  <a:pt x="250" y="103"/>
                </a:cubicBezTo>
                <a:cubicBezTo>
                  <a:pt x="300" y="107"/>
                  <a:pt x="357" y="93"/>
                  <a:pt x="401" y="119"/>
                </a:cubicBezTo>
                <a:cubicBezTo>
                  <a:pt x="410" y="124"/>
                  <a:pt x="411" y="137"/>
                  <a:pt x="417" y="145"/>
                </a:cubicBezTo>
                <a:cubicBezTo>
                  <a:pt x="438" y="172"/>
                  <a:pt x="462" y="184"/>
                  <a:pt x="493" y="195"/>
                </a:cubicBezTo>
                <a:cubicBezTo>
                  <a:pt x="552" y="174"/>
                  <a:pt x="556" y="179"/>
                  <a:pt x="634" y="186"/>
                </a:cubicBezTo>
                <a:cubicBezTo>
                  <a:pt x="679" y="198"/>
                  <a:pt x="716" y="222"/>
                  <a:pt x="760" y="236"/>
                </a:cubicBezTo>
                <a:cubicBezTo>
                  <a:pt x="768" y="233"/>
                  <a:pt x="778" y="233"/>
                  <a:pt x="785" y="228"/>
                </a:cubicBezTo>
                <a:cubicBezTo>
                  <a:pt x="795" y="222"/>
                  <a:pt x="799" y="206"/>
                  <a:pt x="810" y="203"/>
                </a:cubicBezTo>
                <a:cubicBezTo>
                  <a:pt x="821" y="200"/>
                  <a:pt x="832" y="208"/>
                  <a:pt x="843" y="211"/>
                </a:cubicBezTo>
                <a:cubicBezTo>
                  <a:pt x="923" y="266"/>
                  <a:pt x="876" y="218"/>
                  <a:pt x="902" y="278"/>
                </a:cubicBezTo>
                <a:cubicBezTo>
                  <a:pt x="906" y="287"/>
                  <a:pt x="914" y="294"/>
                  <a:pt x="918" y="303"/>
                </a:cubicBezTo>
                <a:cubicBezTo>
                  <a:pt x="922" y="311"/>
                  <a:pt x="924" y="320"/>
                  <a:pt x="927" y="328"/>
                </a:cubicBezTo>
                <a:cubicBezTo>
                  <a:pt x="930" y="361"/>
                  <a:pt x="926" y="396"/>
                  <a:pt x="935" y="428"/>
                </a:cubicBezTo>
                <a:cubicBezTo>
                  <a:pt x="940" y="447"/>
                  <a:pt x="957" y="461"/>
                  <a:pt x="968" y="478"/>
                </a:cubicBezTo>
                <a:cubicBezTo>
                  <a:pt x="995" y="519"/>
                  <a:pt x="1030" y="509"/>
                  <a:pt x="1077" y="520"/>
                </a:cubicBezTo>
                <a:cubicBezTo>
                  <a:pt x="1085" y="526"/>
                  <a:pt x="1092" y="539"/>
                  <a:pt x="1102" y="537"/>
                </a:cubicBezTo>
                <a:cubicBezTo>
                  <a:pt x="1131" y="531"/>
                  <a:pt x="1115" y="477"/>
                  <a:pt x="1110" y="470"/>
                </a:cubicBezTo>
                <a:cubicBezTo>
                  <a:pt x="1107" y="465"/>
                  <a:pt x="1050" y="454"/>
                  <a:pt x="1043" y="453"/>
                </a:cubicBezTo>
                <a:cubicBezTo>
                  <a:pt x="1023" y="392"/>
                  <a:pt x="1015" y="411"/>
                  <a:pt x="1027" y="337"/>
                </a:cubicBezTo>
                <a:cubicBezTo>
                  <a:pt x="1024" y="323"/>
                  <a:pt x="1012" y="308"/>
                  <a:pt x="1018" y="295"/>
                </a:cubicBezTo>
                <a:cubicBezTo>
                  <a:pt x="1023" y="282"/>
                  <a:pt x="1074" y="273"/>
                  <a:pt x="1085" y="270"/>
                </a:cubicBezTo>
                <a:cubicBezTo>
                  <a:pt x="1044" y="229"/>
                  <a:pt x="1000" y="228"/>
                  <a:pt x="943" y="220"/>
                </a:cubicBezTo>
                <a:cubicBezTo>
                  <a:pt x="822" y="138"/>
                  <a:pt x="743" y="128"/>
                  <a:pt x="593" y="119"/>
                </a:cubicBezTo>
                <a:cubicBezTo>
                  <a:pt x="533" y="108"/>
                  <a:pt x="485" y="80"/>
                  <a:pt x="426" y="69"/>
                </a:cubicBezTo>
                <a:cubicBezTo>
                  <a:pt x="391" y="46"/>
                  <a:pt x="361" y="23"/>
                  <a:pt x="317" y="19"/>
                </a:cubicBezTo>
                <a:cubicBezTo>
                  <a:pt x="225" y="12"/>
                  <a:pt x="42" y="3"/>
                  <a:pt x="42" y="3"/>
                </a:cubicBezTo>
                <a:cubicBezTo>
                  <a:pt x="31" y="6"/>
                  <a:pt x="13" y="0"/>
                  <a:pt x="8" y="11"/>
                </a:cubicBezTo>
                <a:cubicBezTo>
                  <a:pt x="3" y="22"/>
                  <a:pt x="20" y="70"/>
                  <a:pt x="25" y="86"/>
                </a:cubicBezTo>
                <a:cubicBezTo>
                  <a:pt x="22" y="97"/>
                  <a:pt x="20" y="108"/>
                  <a:pt x="17" y="119"/>
                </a:cubicBezTo>
                <a:cubicBezTo>
                  <a:pt x="12" y="136"/>
                  <a:pt x="0" y="170"/>
                  <a:pt x="0" y="17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54160"/>
            <a:ext cx="1017360" cy="2401920"/>
          </a:xfrm>
          <a:custGeom>
            <a:avLst/>
            <a:gdLst/>
            <a:ahLst/>
            <a:rect l="l" t="t" r="r" b="b"/>
            <a:pathLst>
              <a:path w="641" h="1513">
                <a:moveTo>
                  <a:pt x="354" y="42"/>
                </a:moveTo>
                <a:cubicBezTo>
                  <a:pt x="346" y="92"/>
                  <a:pt x="345" y="106"/>
                  <a:pt x="304" y="133"/>
                </a:cubicBezTo>
                <a:cubicBezTo>
                  <a:pt x="282" y="167"/>
                  <a:pt x="255" y="203"/>
                  <a:pt x="221" y="225"/>
                </a:cubicBezTo>
                <a:cubicBezTo>
                  <a:pt x="201" y="254"/>
                  <a:pt x="187" y="272"/>
                  <a:pt x="154" y="284"/>
                </a:cubicBezTo>
                <a:cubicBezTo>
                  <a:pt x="106" y="354"/>
                  <a:pt x="175" y="244"/>
                  <a:pt x="129" y="417"/>
                </a:cubicBezTo>
                <a:cubicBezTo>
                  <a:pt x="119" y="454"/>
                  <a:pt x="58" y="514"/>
                  <a:pt x="29" y="534"/>
                </a:cubicBezTo>
                <a:cubicBezTo>
                  <a:pt x="0" y="647"/>
                  <a:pt x="6" y="597"/>
                  <a:pt x="20" y="768"/>
                </a:cubicBezTo>
                <a:cubicBezTo>
                  <a:pt x="22" y="793"/>
                  <a:pt x="27" y="823"/>
                  <a:pt x="54" y="835"/>
                </a:cubicBezTo>
                <a:cubicBezTo>
                  <a:pt x="87" y="850"/>
                  <a:pt x="173" y="856"/>
                  <a:pt x="204" y="860"/>
                </a:cubicBezTo>
                <a:cubicBezTo>
                  <a:pt x="248" y="874"/>
                  <a:pt x="238" y="897"/>
                  <a:pt x="246" y="943"/>
                </a:cubicBezTo>
                <a:cubicBezTo>
                  <a:pt x="249" y="985"/>
                  <a:pt x="253" y="1026"/>
                  <a:pt x="254" y="1068"/>
                </a:cubicBezTo>
                <a:cubicBezTo>
                  <a:pt x="260" y="1280"/>
                  <a:pt x="153" y="1466"/>
                  <a:pt x="346" y="1511"/>
                </a:cubicBezTo>
                <a:cubicBezTo>
                  <a:pt x="368" y="1508"/>
                  <a:pt x="393" y="1513"/>
                  <a:pt x="413" y="1503"/>
                </a:cubicBezTo>
                <a:cubicBezTo>
                  <a:pt x="424" y="1497"/>
                  <a:pt x="420" y="1478"/>
                  <a:pt x="429" y="1469"/>
                </a:cubicBezTo>
                <a:cubicBezTo>
                  <a:pt x="435" y="1463"/>
                  <a:pt x="446" y="1464"/>
                  <a:pt x="454" y="1461"/>
                </a:cubicBezTo>
                <a:cubicBezTo>
                  <a:pt x="511" y="1404"/>
                  <a:pt x="494" y="1329"/>
                  <a:pt x="429" y="1285"/>
                </a:cubicBezTo>
                <a:cubicBezTo>
                  <a:pt x="424" y="1271"/>
                  <a:pt x="417" y="1258"/>
                  <a:pt x="413" y="1244"/>
                </a:cubicBezTo>
                <a:cubicBezTo>
                  <a:pt x="406" y="1222"/>
                  <a:pt x="396" y="1177"/>
                  <a:pt x="396" y="1177"/>
                </a:cubicBezTo>
                <a:cubicBezTo>
                  <a:pt x="393" y="1132"/>
                  <a:pt x="390" y="1088"/>
                  <a:pt x="388" y="1043"/>
                </a:cubicBezTo>
                <a:cubicBezTo>
                  <a:pt x="381" y="907"/>
                  <a:pt x="425" y="874"/>
                  <a:pt x="329" y="843"/>
                </a:cubicBezTo>
                <a:cubicBezTo>
                  <a:pt x="293" y="818"/>
                  <a:pt x="255" y="801"/>
                  <a:pt x="212" y="793"/>
                </a:cubicBezTo>
                <a:cubicBezTo>
                  <a:pt x="171" y="752"/>
                  <a:pt x="151" y="705"/>
                  <a:pt x="120" y="659"/>
                </a:cubicBezTo>
                <a:cubicBezTo>
                  <a:pt x="108" y="597"/>
                  <a:pt x="96" y="589"/>
                  <a:pt x="162" y="576"/>
                </a:cubicBezTo>
                <a:cubicBezTo>
                  <a:pt x="186" y="552"/>
                  <a:pt x="201" y="528"/>
                  <a:pt x="229" y="509"/>
                </a:cubicBezTo>
                <a:cubicBezTo>
                  <a:pt x="241" y="491"/>
                  <a:pt x="267" y="480"/>
                  <a:pt x="271" y="459"/>
                </a:cubicBezTo>
                <a:cubicBezTo>
                  <a:pt x="280" y="412"/>
                  <a:pt x="269" y="363"/>
                  <a:pt x="279" y="317"/>
                </a:cubicBezTo>
                <a:cubicBezTo>
                  <a:pt x="281" y="307"/>
                  <a:pt x="296" y="306"/>
                  <a:pt x="304" y="300"/>
                </a:cubicBezTo>
                <a:cubicBezTo>
                  <a:pt x="334" y="275"/>
                  <a:pt x="321" y="276"/>
                  <a:pt x="354" y="259"/>
                </a:cubicBezTo>
                <a:cubicBezTo>
                  <a:pt x="387" y="243"/>
                  <a:pt x="373" y="259"/>
                  <a:pt x="404" y="234"/>
                </a:cubicBezTo>
                <a:cubicBezTo>
                  <a:pt x="413" y="227"/>
                  <a:pt x="418" y="214"/>
                  <a:pt x="429" y="209"/>
                </a:cubicBezTo>
                <a:cubicBezTo>
                  <a:pt x="467" y="190"/>
                  <a:pt x="522" y="190"/>
                  <a:pt x="563" y="175"/>
                </a:cubicBezTo>
                <a:cubicBezTo>
                  <a:pt x="605" y="133"/>
                  <a:pt x="641" y="25"/>
                  <a:pt x="563" y="0"/>
                </a:cubicBezTo>
                <a:cubicBezTo>
                  <a:pt x="506" y="5"/>
                  <a:pt x="472" y="15"/>
                  <a:pt x="421" y="25"/>
                </a:cubicBezTo>
                <a:cubicBezTo>
                  <a:pt x="354" y="38"/>
                  <a:pt x="376" y="17"/>
                  <a:pt x="354" y="4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07320" y="2955960"/>
            <a:ext cx="565200" cy="1049400"/>
          </a:xfrm>
          <a:custGeom>
            <a:avLst/>
            <a:gdLst/>
            <a:ahLst/>
            <a:rect l="l" t="t" r="r" b="b"/>
            <a:pathLst>
              <a:path w="356" h="661">
                <a:moveTo>
                  <a:pt x="73" y="626"/>
                </a:moveTo>
                <a:cubicBezTo>
                  <a:pt x="112" y="639"/>
                  <a:pt x="111" y="621"/>
                  <a:pt x="148" y="609"/>
                </a:cubicBezTo>
                <a:cubicBezTo>
                  <a:pt x="165" y="592"/>
                  <a:pt x="197" y="583"/>
                  <a:pt x="199" y="559"/>
                </a:cubicBezTo>
                <a:cubicBezTo>
                  <a:pt x="208" y="450"/>
                  <a:pt x="176" y="470"/>
                  <a:pt x="232" y="450"/>
                </a:cubicBezTo>
                <a:cubicBezTo>
                  <a:pt x="256" y="426"/>
                  <a:pt x="280" y="412"/>
                  <a:pt x="299" y="384"/>
                </a:cubicBezTo>
                <a:cubicBezTo>
                  <a:pt x="304" y="356"/>
                  <a:pt x="303" y="326"/>
                  <a:pt x="315" y="300"/>
                </a:cubicBezTo>
                <a:cubicBezTo>
                  <a:pt x="319" y="292"/>
                  <a:pt x="334" y="298"/>
                  <a:pt x="340" y="292"/>
                </a:cubicBezTo>
                <a:cubicBezTo>
                  <a:pt x="346" y="286"/>
                  <a:pt x="346" y="275"/>
                  <a:pt x="349" y="267"/>
                </a:cubicBezTo>
                <a:cubicBezTo>
                  <a:pt x="334" y="199"/>
                  <a:pt x="356" y="240"/>
                  <a:pt x="315" y="217"/>
                </a:cubicBezTo>
                <a:cubicBezTo>
                  <a:pt x="297" y="207"/>
                  <a:pt x="265" y="183"/>
                  <a:pt x="265" y="183"/>
                </a:cubicBezTo>
                <a:cubicBezTo>
                  <a:pt x="241" y="146"/>
                  <a:pt x="226" y="125"/>
                  <a:pt x="215" y="83"/>
                </a:cubicBezTo>
                <a:cubicBezTo>
                  <a:pt x="204" y="40"/>
                  <a:pt x="212" y="24"/>
                  <a:pt x="174" y="0"/>
                </a:cubicBezTo>
                <a:cubicBezTo>
                  <a:pt x="92" y="22"/>
                  <a:pt x="112" y="12"/>
                  <a:pt x="98" y="91"/>
                </a:cubicBezTo>
                <a:cubicBezTo>
                  <a:pt x="95" y="122"/>
                  <a:pt x="100" y="154"/>
                  <a:pt x="90" y="183"/>
                </a:cubicBezTo>
                <a:cubicBezTo>
                  <a:pt x="87" y="191"/>
                  <a:pt x="70" y="185"/>
                  <a:pt x="65" y="192"/>
                </a:cubicBezTo>
                <a:cubicBezTo>
                  <a:pt x="48" y="218"/>
                  <a:pt x="47" y="320"/>
                  <a:pt x="32" y="367"/>
                </a:cubicBezTo>
                <a:cubicBezTo>
                  <a:pt x="23" y="432"/>
                  <a:pt x="13" y="494"/>
                  <a:pt x="7" y="559"/>
                </a:cubicBezTo>
                <a:cubicBezTo>
                  <a:pt x="15" y="636"/>
                  <a:pt x="0" y="661"/>
                  <a:pt x="73" y="62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PEČNÁ Č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4859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iny ve svrchním plášti, které jsou v plastickém stavu, jsou při pohybech litosférických desek přemísťovány. Někdy prostupují na povrch, kde dochází k jejich výlevu. Místo, kde roztavená hornina (magma) vytéká na povrch v podobě lávy se nazývá sopk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4211640" cy="25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299736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éma průřezu sop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4105440" cy="257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1160" y="6237360"/>
            <a:ext cx="34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Tichooceánský ohnivý prsten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4000" y="64008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íc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19920" y="3068640"/>
            <a:ext cx="3124080" cy="2943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4076640"/>
            <a:ext cx="3241800" cy="2432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ři výbuchu sopky dochází k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úniku plynů, výtoku lávy, sopečné balvany, sopečné bomby, sopečný písek, sopečný po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opečnou činnost doprovází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zemětřesení, hydrotermální aktivita (gejzíry, termální prameny) a výrony sopečných plynů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66100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hnoucí láva na Havajských ostrov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6560" y="64911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klad výlevné (efuzivní) sop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440" y="595008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íklad výbuš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plozivní) sop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kanická N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72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84440" y="2276640"/>
            <a:ext cx="57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lušti křížovku – sopky ve svě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334800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95640" y="37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8840" y="5950080"/>
            <a:ext cx="43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Nejvyšší sopka Evropy, ostrov Sicíl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28480" y="3789360"/>
            <a:ext cx="59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osvátná sopka Japonska, asi 100 km na JZ od Tok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85120" y="4362480"/>
            <a:ext cx="58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Sopka na Islandu s nadmořskou výškou 1491 m.n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47240" y="4867200"/>
            <a:ext cx="50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Též zvaná Kamerunská hora, 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š. a 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35280" y="3282840"/>
            <a:ext cx="63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talská sopka, která způsobila zkázu starověkých Pompej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2720" y="5443560"/>
            <a:ext cx="56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Sopka s největším sopečným výbuchem (viz. NEJ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00000" y="6237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enka: _ _ _ _ _´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řížovka sopky ve světě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4149720"/>
            <a:ext cx="493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ichterova stup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Není cítit, lze pouze měřit přístroj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Nejmenší hodnota, kterou člověk rozpozná; bez poškoz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labé zemětřes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labé poškození budov blízko epicent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Vážné poškození špatně postavených bud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Velké poškození bud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éměř úplné znič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38560" y="1341360"/>
            <a:ext cx="4105440" cy="406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35960" y="54468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éma vzniku a průběh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0" y="1196640"/>
            <a:ext cx="4859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niká v zemské kůře, když horniny nevydrží napětí nahromaděné z pohybu litosférických desek. Z ohniska (hypocentra) se vlny šíří všemi směry až na povrch (epicentru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určování síly slouží Richterova stupn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8560" y="62578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íc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1:10:26Z</dcterms:created>
  <dc:creator>kk</dc:creator>
  <dc:description/>
  <dc:language>en-US</dc:language>
  <cp:lastModifiedBy>jj</cp:lastModifiedBy>
  <dcterms:modified xsi:type="dcterms:W3CDTF">2009-12-01T19:03:21Z</dcterms:modified>
  <cp:revision>11</cp:revision>
  <dc:subject/>
  <dc:title>Prezentace aplikace PowerPoint</dc:title>
</cp:coreProperties>
</file>