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D909-A370-47AE-B703-39A721976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47C8-7F5C-43EA-BCBF-9278F139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897F-3435-4C02-85E8-A2E04D861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9E2E-DA5D-4A07-9CEA-4396FEE5E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B898-BEA7-40D8-AE79-CE9AB584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1101-7621-472E-9001-799BD9A7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B712-5EC8-4E50-BB9B-7795CCD3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34A5-20BA-4BE2-BCA3-F463E06D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100D-1550-415E-B07A-82F37C46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75DE-1658-4318-B822-94743710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B3E7-0893-4386-8850-E5259BE8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8692-642F-4ECB-856F-C5507689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DE4E-919A-47E3-9EC9-1E2E8D869C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e-education.psu.edu/files/geog482/flash/coord_practice_geo_v22.swf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LÓBUS A ZEMĚPISNÁ SÍ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3284640"/>
            <a:ext cx="914400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Myšlený bod na zeměkouli (9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. + j.š.)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, ve kterém se protínají všechny poledníky. Jejich spojnicí je zemská os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Myšlená spojnice severního a jižního pólu se nazývá zemská…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olokružnice spojující oba póly. Pomocí ní určujeme zeměpisnou délk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Hvězda, která zůstává stále na témže místě. Spolehlivě slouží k určení sever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Označení obratníku na severní polokou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Kružnice vedené souběžně s rovníkem se nazývají? Pomocí nich určujeme zeměpisnou šířk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ovrch země je pokryt pomyslnou sítí čar, kterou nazýváme zeměpisná …, pomocí ní můžeme určit jakékoliv místo na Zem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oslední rovnoběžka na jih a na sever od rovníku, nad níž Slunce vrcholí v nadhlavníku (sluneční paprsky zde dopadají kolmo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Nejdelší rovnoběžka (asi 40 000 km), která rozděluje zeměkouli na jižní a severní polokou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Zmenšený model Země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Obratník na  23,5 stupně jižní šířky nad nimž Slunce  vrcholí 21. prosince.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763640" y="0"/>
            <a:ext cx="475164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Křížovka - řeš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0" y="580536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Tajenka: polární kruh - je myšlená kružnice, která odděluje na povrchu Země oblasti, kde alespoň jeden den v roce nevystoupí Slunce nad obzor (tzv. polární noc) nebo nesestoupí pod obzor (polární den). A odpovídá rovnoběžce přibližně 66° 33' 39"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69850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33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liknutím na obrázek spustíš interaktivní hru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eměpisné souřadnice (pozn. Latitude – šířka, Longitude – délk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052640"/>
            <a:ext cx="759924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27000" y="-14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lób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803760" y="119700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lóbus je zmenšený model Zem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menšení je vyjádřeno měřítk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a glóbusu vytváří poledníky a rovnoběžky zeměpisnou sí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mocí této sítě můžeme určit jakoukoliv zeměpisnou poloh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79280" y="20520"/>
            <a:ext cx="2841840" cy="3479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://www.repliky.info/Fyzicky---Politicky-globus-photo-detailweb-GL%20891379.jpg"/>
          <p:cNvPicPr/>
          <p:nvPr/>
        </p:nvPicPr>
        <p:blipFill>
          <a:blip r:embed="rId2"/>
          <a:stretch/>
        </p:blipFill>
        <p:spPr>
          <a:xfrm>
            <a:off x="1600200" y="3508200"/>
            <a:ext cx="21351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eměpisné souřad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vrch země je pokryt pomyslnou sítí č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oledníků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spojují pó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rovnoběže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(obruče okolo Zem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Ty pak vytváří tzv. ZEMĚPISNOU SÍŤ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 podle nich určujeme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ZEMĚPISNÉ SOUŘADN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4191120" y="312408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4653000" y="1905120"/>
            <a:ext cx="36669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OLEDNÍ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áry spojující S a J pó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ákladní poledník je nultý tzv. Grenwichsk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zdálenost mezi poledníky je v úhlových stupní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d nultého stupně 180 na ZÁPAD a 180 na VÝ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rčují zeměpisnou dél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4789440" y="1557360"/>
            <a:ext cx="41958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F:\zeměpis\6.třída\DSCN3901.JPG"/>
          <p:cNvPicPr/>
          <p:nvPr/>
        </p:nvPicPr>
        <p:blipFill>
          <a:blip r:embed="rId1"/>
          <a:stretch/>
        </p:blipFill>
        <p:spPr>
          <a:xfrm>
            <a:off x="468360" y="-6480"/>
            <a:ext cx="8388360" cy="688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OVNOBĚŽ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bíhají od V k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vník rozděluje polokoule na S a J (je nejdelší rovnoběžkou 40 tis. km směrem k pólům se délka snižuj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íslujeme je od 0 po 90 stupňů na póle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rčují zeměpisnou šíř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4486320" y="1484280"/>
            <a:ext cx="4189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F:\zeměpis\6.třída\DSCN3903.JPG"/>
          <p:cNvPicPr/>
          <p:nvPr/>
        </p:nvPicPr>
        <p:blipFill>
          <a:blip r:embed="rId1"/>
          <a:stretch/>
        </p:blipFill>
        <p:spPr>
          <a:xfrm>
            <a:off x="395280" y="0"/>
            <a:ext cx="83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ápis</a:t>
            </a:r>
            <a:br>
              <a:rPr sz="18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lóbus a zeměpisná sí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lóbus je zmenšený model Země (zmenšení je vyjádřeno měřítk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4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3946320" cy="4608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9"/>
          <p:cNvSpPr/>
          <p:nvPr/>
        </p:nvSpPr>
        <p:spPr>
          <a:xfrm>
            <a:off x="179280" y="1700280"/>
            <a:ext cx="19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OLEDNÍ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721760" y="162864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ROVNOBĚŽ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5" descr=""/>
          <p:cNvPicPr/>
          <p:nvPr/>
        </p:nvPicPr>
        <p:blipFill>
          <a:blip r:embed="rId2"/>
          <a:stretch/>
        </p:blipFill>
        <p:spPr>
          <a:xfrm>
            <a:off x="4788000" y="2060640"/>
            <a:ext cx="38336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F:\zeměpis\6.třída\DSCN3899.JPG"/>
          <p:cNvPicPr/>
          <p:nvPr/>
        </p:nvPicPr>
        <p:blipFill>
          <a:blip r:embed="rId1"/>
          <a:stretch/>
        </p:blipFill>
        <p:spPr>
          <a:xfrm>
            <a:off x="0" y="0"/>
            <a:ext cx="831852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5"/>
          <p:cNvSpPr/>
          <p:nvPr/>
        </p:nvSpPr>
        <p:spPr>
          <a:xfrm>
            <a:off x="6509160" y="4005360"/>
            <a:ext cx="2519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znač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˚ š. a 0˚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0˚ s.š. a 0˚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˚ s.š. a 20˚ z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˚ j.š. a 40˚ z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0˚ s.š. a 20˚ v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˚ j.š. a 30˚ v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1T07:02:22Z</dcterms:created>
  <dc:creator>kk</dc:creator>
  <dc:description/>
  <dc:language>en-US</dc:language>
  <cp:lastModifiedBy>PC</cp:lastModifiedBy>
  <dcterms:modified xsi:type="dcterms:W3CDTF">2013-10-13T14:41:46Z</dcterms:modified>
  <cp:revision>11</cp:revision>
  <dc:subject/>
  <dc:title>ZEMĚPISNÁ SÍŤ</dc:title>
</cp:coreProperties>
</file>