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F7B-ABEC-44ED-BC67-5A342CF9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5B2-8AA5-4098-9226-53DE29A4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4E5-44B4-4F26-89A3-71A89DC0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B99-58E9-4469-8F9D-B5D6EDD8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8D1-4737-443E-B380-86F3A050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269-E87B-437F-BD65-4318C76B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3A2-29D0-4B1B-B1B4-358537A0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FE2-E9DE-4853-A8B3-5EF9A740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97B-6DC4-4501-B8F0-E0667F8B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BD5-9B6A-452F-8C9D-C9CEC840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787-11DF-4BDF-8559-1EC8CF83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90D-C288-4630-BC01-565444B7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6649-4548-4706-A577-7E5292259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TNÍ ZŘÍZENÍ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MY VLÁD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70088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0" y="5157720"/>
            <a:ext cx="13320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0" y="5300640"/>
            <a:ext cx="1619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0" y="5445000"/>
            <a:ext cx="16192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0" y="5589720"/>
            <a:ext cx="1692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0" y="5734080"/>
            <a:ext cx="169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77000"/>
            <a:ext cx="161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21360"/>
            <a:ext cx="161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65720"/>
            <a:ext cx="169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308640"/>
            <a:ext cx="16923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53360"/>
            <a:ext cx="1692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lišujeme dvě základní formy stá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monarc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republ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92360" y="2492280"/>
          <a:ext cx="5832360" cy="41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92280"/>
                    <a:ext cx="583236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RC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archové mají různé tituly – král, velkovévoda, císař, sultán, emír, kníže - tituly jsou dědič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lutní monarch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elkem 10)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c v rukou panovní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 státních záležitostech rozhoduje sám nebo s rádci, které sám volí i odvolává, má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c výkonnou i soud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AE, Omán, Saudská Arábie, Vatikán aj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onstituční (parlamentní) monarch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elkem 36)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c panovníka je omez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píše reprezentační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ýkonnou moc má vlá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estavená na základě voleb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ákony vydává parlament, soudy jsou nezávisl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B, Belgie, Nizozemsko, Japonko, Maroko aj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UBL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46432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lamentní republi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avomoci prezidenta omezeny vládou a parlamentem (např. ČR, N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zidentská republi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elké pravomoci v rukou prezidenta (např. USA, Rus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" y="98100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čele stojí volený prezident, zákony – parlament, výkonná moc – vláda a prezident, soudní – nezávislé so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56000" y="1844640"/>
            <a:ext cx="4581720" cy="3905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4520" y="575316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ém parlamentní republ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y se Čechy staly královstvím? Jak se jmenoval první a poslední český krá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eďte jména našich nejvyšších představitelů. Znáš jména dřívějších prezidentů Čech a ve kterém období vlád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větlete rozdíly mezi základními typy monarchií a republik a uveďte příkl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jistěte státní zřízení: Bruneje, Srí Lanky, Dánska, Finska, Maroka, Monaka, Litvy, Rakouska, Polska, Maďarska, Slovenska, Německa, Saúdské Arábie, Turecka, Austrál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é jsou tři základní složky státní mo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5:24:18Z</dcterms:created>
  <dc:creator>kk</dc:creator>
  <dc:description/>
  <dc:language>en-US</dc:language>
  <cp:lastModifiedBy>kk</cp:lastModifiedBy>
  <dcterms:modified xsi:type="dcterms:W3CDTF">2007-06-05T19:41:33Z</dcterms:modified>
  <cp:revision>6</cp:revision>
  <dc:subject/>
  <dc:title>STÁTNÍ ZŘÍZENÍ  (FORMY VLÁDY)</dc:title>
</cp:coreProperties>
</file>