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746D-0CAA-4F34-A2A6-43D5638B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3DD9-F78B-4AE0-8299-A81DC07C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D90B-9D09-4210-A1CE-8456D341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984F-F36D-4E46-B4AB-5C68E64D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045F-2533-486D-9DF5-E6BA1081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AF6-9668-4417-82A9-EF5FC5FE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AF59-2AC4-458B-BFA5-DF41EBF9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601-459D-41E7-BEC1-62AD6D62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064A-FCE4-43AB-B05D-E086025B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7BA0-921E-48BE-AF66-9ECEBBC5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4DBC-2B12-43B8-BC3D-85BAF50C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1CF5-9145-48B3-AFA8-C36DDEFA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6300-3AE4-49BD-8E54-AEAA54EBD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PŮSOB VLÁ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ká moc ve státě je uplatňována způsobe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kratický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talitní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íra demokracie a dodržování  lidských prá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4407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6280" y="5877000"/>
            <a:ext cx="832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= nejvyšší míra demokracie. Rozdělení do skupin dle řady ukazatelů (svobod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lby, nezávislost soudů, míra korupce apod.) – dle organizace Freedom H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kratický systé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tní systém je postaven 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ělbě mo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ákonodárné (parlament), výkonné (ministři, premiér, prezident) a soud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tní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odvozena o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bčan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demokracie=vláda lidu) – prostřednictvím vole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 státě jsou zajiště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dská prá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bčanská svobo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es ve většině států svě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itní reži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ou založeny n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vládání obyvat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át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ládnoucí skupin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sob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ašistické, komunistické, nacistické režimy), která řídí a kontroluje život lidí ve stát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čanská prá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vobo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rušová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bo neexistují, vládne atmosféra strachu a nedůvě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současnosti existují totalitní systémy v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omunistických zemí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Čína, KLDR, Kuba aj. 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jenských diktaturá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údán, Nigérie a ve státech 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žimem silné osobní nebo vládní moc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rán, Libye a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rovnání voleb v demokratických a totalitních režim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KRATICKÝ ST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uje více politických stran, které navrhují své zástupce do zastupitelských sb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ny soutěží o přízeň voličů, o jejich hl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sledky voleb jsou rozhodující pro složení státních orgá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lament se člení na stoupence vlády a opozici (je „různobarevný“), přijímání zákonů je často výsledkem kompromisu, nutností hledat přijatelná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ITNÍ ST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uje jednotná kandidátka schválená vládnoucí stra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Žádná politická soutěž neexist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sledky voleb nemají žádný praktický význam, o obsazení mocenských orgánů rozhoduje vládnoucí st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lament je „jednobarevný“, jeho pravomoci jsou form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125360"/>
            <a:ext cx="0" cy="573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é rysy jsou typické pro totalitní a demokratické systém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ým způsobem se podílejí občané demokratického státu na jeho říz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demokracii se mluví o pravicové a levicové politice. Co znamenají tyto pojm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řaď jména diktátorů k zemím ve kterých vládnou nebo vlád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ména: Pinochet, Stalin, Hitler, Mussollini, Franco, Saddám Husajn, Fidel Castro, Kim Ir-Sen, Mao Ce-tung, Muammar Kaddáf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áty: Kuba, Itálie, Chile, Španělsko, KLDR, Čína, Irák, Rusko (SSSR), Německo, Lib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19:19:00Z</dcterms:created>
  <dc:creator>kk</dc:creator>
  <dc:description/>
  <dc:language>en-US</dc:language>
  <cp:lastModifiedBy>kk</cp:lastModifiedBy>
  <dcterms:modified xsi:type="dcterms:W3CDTF">2007-06-16T06:06:52Z</dcterms:modified>
  <cp:revision>3</cp:revision>
  <dc:subject/>
  <dc:title>ZPŮSOB VLÁDY</dc:title>
</cp:coreProperties>
</file>