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3FA-5CD9-4C76-AE4D-A0E1220E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739-F984-404D-B703-6E5FC505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48A-8FDA-4F87-B7BA-BB5A4BD6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B0C-D678-4CC2-9A28-C5D51CEF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F3F-B3DF-4E82-A01F-E03F9FFD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98B-58A9-4B50-A11F-EA3E0034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D7A-9B21-4B60-89B2-B1B2E22A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8AB-B5A3-4560-8227-8615CF2F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F37-9B9E-4F6A-AF72-99225C6B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5B2-D2A5-4C4F-9E2C-1AF710A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306-CA02-484A-8906-59542C9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1AC-65F5-444B-875A-084B5521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0D2C-83CD-4A6B-B407-EF056A4E1F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eferaty-seminarky.cz/sidla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KOVSKÁ SÍ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62028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ÍDLA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ídla jsou základními centry lidské aktivity (hospodářské, bydlení atd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ídlem rozumíme seskupení sídelních jednotek (domů ) včetně hospodářských objektů a dopravních zařízení na určitém vymezeném území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lišujeme:  město, vesnici, osadu, samot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ídla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Í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4324320"/>
            <a:ext cx="3324240" cy="253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48360" y="4338720"/>
            <a:ext cx="3527280" cy="25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763640" y="1700280"/>
            <a:ext cx="5256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kter venkovských sídel byl změněn vzestupem populace v 19 a 20. stole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říve: zemědělství, řemesla, tradiční stavební materiál, zvyky a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es: modernizace (zánik řemesel a tradičního zemědělství apod.) a urbanizace (odliv obyvatel z vesni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e venkovských sídel: obytná, rekreační, ochranářské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3529080" cy="281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Kramolna - řadová výstavba"/>
          <p:cNvPicPr/>
          <p:nvPr/>
        </p:nvPicPr>
        <p:blipFill>
          <a:blip r:embed="rId2"/>
          <a:stretch/>
        </p:blipFill>
        <p:spPr>
          <a:xfrm>
            <a:off x="4788000" y="3429000"/>
            <a:ext cx="35290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kladní typy venkovských síde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rozptýlená (samotové osídlení) - převažuje v Americe,  Austrál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skupinová (skupinové osídlení) - převaha v Evropě, Africe, As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podle formy půdorysů - sídla silničního (potočního) a návesního ty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podle polohy – údolní, hřbet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dle trvání obydlení – dočasná (kočovníci – stany, iglú aj.) stálé (stav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4797360"/>
            <a:ext cx="3168720" cy="202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Villag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904000" y="1916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211640" y="0"/>
            <a:ext cx="3960720" cy="219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5364000" y="4157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3276720" y="4653000"/>
            <a:ext cx="30477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ednosti a nedostatky života na venkov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076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vesnici bych nikdy bydlet nechtěl, prohlašují někteří lidé a naopak lidé z vesnic nechápou jak někdo může bydlet ve městě. Tam či tam přináší život vedle výhod i některé nevýh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yd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ociální vyb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echnické vyb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vztah k přírodě a li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život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292720" y="4149720"/>
            <a:ext cx="3095640" cy="2138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07760" y="3573360"/>
            <a:ext cx="32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tbalové hřiště patří neodmyslitelně 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životu ves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292720" y="1413000"/>
            <a:ext cx="3095640" cy="213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06320" y="6308640"/>
            <a:ext cx="375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ůležitá výstavba komunikace a autobusov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stávky pro spojení s okolí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é 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é horské, údolní, skupinové a rozptýlené obce v regionu znáte? Použijte při hodnocení turistických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čete polohu vaší obce: vzhledem k reliéfu, vzhledem k nejbližšímu většímu měs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považujete za přednosti a nedostatky bydlení ve vaší obci (co podle vás v obci chybí)? Myslíte si, že bydlení v některé sousední obci je lepší? Pro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ište a charakterizujte vesnici, kterou dobře zná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5:59:38Z</dcterms:created>
  <dc:creator>kk</dc:creator>
  <dc:description/>
  <dc:language>en-US</dc:language>
  <cp:lastModifiedBy>PC91</cp:lastModifiedBy>
  <dcterms:modified xsi:type="dcterms:W3CDTF">2009-03-18T13:19:24Z</dcterms:modified>
  <cp:revision>14</cp:revision>
  <dc:subject/>
  <dc:title>VENKOVSKÁ SÍDLA</dc:title>
</cp:coreProperties>
</file>