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6EA-4B33-4047-92C7-AF6F6FB5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B09-F827-44E6-812B-46F7388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E43-1ACD-4DFC-AC1E-FE6D35A8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0BB-309D-4BFC-B2AD-411BFB4C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24D-60F3-413C-A3D0-CBA19ED7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D15-AD18-4514-9849-AE1DDD38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3A3-EB29-486E-9F0F-D348EF9D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F86-A43E-4080-88E4-F9595979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669-098E-40BD-AC08-5758F794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F48-AEF8-4E29-9C88-79B602F6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003-B88D-4B68-B406-82E93F75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C96-1F8C-4474-8899-4A4C905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5239-CFF0-449F-B95D-560B8C3F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listy.cz/art/10310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O-EKONOMICKÁ GEOGRA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ŮŽEME DĚLIT NA GEOGRAF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yvatel a sí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ůst obyvatel, rozmístění, migrace, rasy, národy, struktura obyvatel, sídla a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podářstv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blasti, zemědělství, těžba, průmysl, služby, obchod, organizace a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ký zeměp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ozloha, poloha, hranice, státní zřízení, správní členění, vláda, rozvoj státu, politická seskupení, konflikty a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tto: „Věda je znalost příč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“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Francis Bac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istické znaky současného svě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erovnoměrnos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dosaženém stupni hospodářského, sociálního i kulturního vývo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ospodářsko-sociální dělení světa 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bohatý a rozvinutý „sever“Sever (asi 1/6 lidstva a 3/4 vší spotřeb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chudý a zaostalý „jih“ (5/6 lidstva a ¼ spotřeb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!Které státy zde patří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ulturní dělení svě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íce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: západní, latinskoamerickou, africko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slámskou, čínskou, hinduistickou, pravoslavnou, buddhistickou,japonskou. (dle Samuela P. Huntingto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ynam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ocio-ekonomických změ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ětová civilizace se pohybuje směrem na západ (počátek Čína, Egypt – Středomoří – západní Evropa a Amerika – tichomořské oblas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mě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litických poměrů (pád kolonií, vzestup a pád totalitních politických systémů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6:38:48Z</dcterms:created>
  <dc:creator>kk</dc:creator>
  <dc:description/>
  <dc:language>en-US</dc:language>
  <cp:lastModifiedBy>kk</cp:lastModifiedBy>
  <dcterms:modified xsi:type="dcterms:W3CDTF">2007-01-31T20:28:48Z</dcterms:modified>
  <cp:revision>5</cp:revision>
  <dc:subject/>
  <dc:title>SOCIO-EKONOMICKÁ GEOGRAFIE</dc:title>
</cp:coreProperties>
</file>