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425-A9AD-4702-B74D-29734B68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781-4A39-460A-A424-EC2DC81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B7E-59E7-4722-9019-6F7C6A4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64F-3F53-4DAF-ABDE-A8CDA0F8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9AF-CB00-42CC-8BDE-61D48A4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C48-55AB-4E80-ACC2-3AB835C6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FF3-4BF0-4C6F-93C5-FA9BB12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904-B001-487C-8915-B5D5A811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4A7-D18C-42FB-A482-011D489C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C92-3A33-477A-8D54-34C511B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90F-A88C-4209-B39E-533BCE9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876-24DD-49ED-B3DD-703934F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6B4-0210-4401-8292-28416A066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ktualne.centrum.cz/zahranici/afrika/clanek.phtml?id=609142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 ve světě a mezinárodní tero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4149720"/>
            <a:ext cx="3384360" cy="250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8772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163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336600"/>
            <a:ext cx="8351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rané 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apomenuté konflikty interakti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funguje Al-Ká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kánské konfli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lka v Irá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zrael vs. Arab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čenský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8:13:36Z</dcterms:created>
  <dc:creator>jj</dc:creator>
  <dc:description/>
  <dc:language>en-US</dc:language>
  <cp:lastModifiedBy>jj</cp:lastModifiedBy>
  <dcterms:modified xsi:type="dcterms:W3CDTF">2009-05-31T18:35:16Z</dcterms:modified>
  <cp:revision>2</cp:revision>
  <dc:subject/>
  <dc:title>Konflikty ve světě a mezinárodní terorismus</dc:title>
</cp:coreProperties>
</file>