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4D25-729C-4F27-AD70-0E30153AA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8FF6-1B18-4F01-8DB9-6AD433D2C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20E2-92EE-4F74-9BED-391F17D25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4837-DA5E-4ED8-B941-BA436928E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B99C-C5DA-44E7-B894-9B81B5104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EEC5-6A19-431E-B29D-14B78CE23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7338-4438-457A-9880-0108F64C6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BEBA-01B1-4FF7-9C77-40AAB4F40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2CAA-9EB3-495B-9C70-1D53C90C2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7F4D-6327-4139-BAF3-EDF844E4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E013-A0B7-4B08-8164-ADB10A1D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AE0B-E92A-49EF-A2B2-B35F1B15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1828F-A495-41D5-A480-8262D9F79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CIÁRNÍ SFÉ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lužná sfé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de 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evýrobní činnost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při niž jedna skupina lidí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oskytuje služb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jiné skupině lidí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ybavenost službami roste s velikostí sídla (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středisková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a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nestředisková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sídl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vyspělostí státu roste i podíl lidí pracující v terciéru-službách (viz. graf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547640" y="3141720"/>
          <a:ext cx="6264360" cy="3568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3141720"/>
                    <a:ext cx="6264360" cy="35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ostatné úko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ím se liší terciární sféra od ostatních ekonomických činností (priméru, sekundéru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kuste se vyjmenovat co největší množství služeb. Které z nich se nachází takřka všude a které se vyskytují jen ve větších střediscí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 kterými službami musíte vyjíždět do většího středisk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světlete, jak souvisí hospodářská vyspělost země s podílem pracujících ve službá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kuste se vymezit spádové území vaší školy a zakreslete je do mapy vhodného měřítk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1T15:49:41Z</dcterms:created>
  <dc:creator>kk</dc:creator>
  <dc:description/>
  <dc:language>en-US</dc:language>
  <cp:lastModifiedBy>kk</cp:lastModifiedBy>
  <dcterms:modified xsi:type="dcterms:W3CDTF">2007-05-11T16:10:48Z</dcterms:modified>
  <cp:revision>2</cp:revision>
  <dc:subject/>
  <dc:title>TERCIÁRNÍ SFÉRA</dc:title>
</cp:coreProperties>
</file>