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8BF-1647-4B17-9E6D-A805DD8B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433-694F-404B-8982-3565ADCB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0DF-CF1E-4083-A900-D84B1D07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CA5-B58F-4D60-ADD4-112810D0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AB3-D82D-4A38-9022-86EF989D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475-6130-4A87-A90A-3774865A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07D-197A-4720-95AE-B10BB36A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481-4361-45EB-BEE6-BABB0C3D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2F2-CDAB-4774-9AFC-39B1F9B3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2AB-AA36-468C-8A8A-C0F5A41A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FC8-8B2E-4321-A7D7-95FDDEC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AD9-E673-4061-8761-2B0EF66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BB06-06C2-4BB2-976B-C46FB7630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ĚTOVÉ HOSPODÁŘ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ělení hospodářské čin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mární sekto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rimér, prvovýrob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ekundární sekto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ekundér, druhovýro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erciární sekto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erciér, obslužná sfé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Kvartérní sekto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kvart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kladní hospodářské systémy souča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ředně řízené hospodářstv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žní hospodá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chodné hospodá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kladní hospodářské ukazat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ý domácí produkt (H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DP na jednoho obyvatele (velmi nízký – do 755 USD, středně nízký – 756 až 2995 USD, středně vysoký 2 996 až 9  265 USD, vysoký – 9266 a více US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ita kupní sí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 lidského rozvoje – charakterizuje civilizačně kulturní vyspělost země (indexem 1,0 =nejvíce až 0,0 nejméně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ývoj průmys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6432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asný stav je výsledkem hospodářského vývoje v průběhu posledních dvou tisícile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vovýrob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očátek hosp. dějin = samozásobitelé, dnes = rozvojové stá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ruhovýrob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období vědecko-technické revoluce = zrychlení hosp. vývoje v 19. století, dne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é energetické zdroje,  výpočetní technika, automatizace, know-h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bslužná sfér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rozvoj obchodu na počátku, dnes = rozvoj služ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současnosti velké oblastní rozdíl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erovnoměrný hospodářský růs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iz. graf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viz. Struktura obyvatel dle průmyslových odvě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3280" y="1197000"/>
          <a:ext cx="45007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197000"/>
                    <a:ext cx="4500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řaď zaměstnání k jednotlivým sférá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čitel, zemědělec, kovář, doktor, prodavač, řidič, dělník, zedník, servírka, ekonom, vědec…a vymyslete ke každému sektoru jeden obor a zařízení patřící k jednotlivým sektorům (např. banka, plantáž, laboratoř, vysoká pec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edej v geografických tabulkách tabulku HDP. Vyhledej nejvyšší a nejnižší HDP a nejvyšší HDP na jednoho obyvatele. Jedná se o různé nebo stejné státy? Pokud ne proč tomu tak 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1:29:39Z</dcterms:created>
  <dc:creator>kk</dc:creator>
  <dc:description/>
  <dc:language>en-US</dc:language>
  <cp:lastModifiedBy>kk</cp:lastModifiedBy>
  <dcterms:modified xsi:type="dcterms:W3CDTF">2007-04-12T06:46:28Z</dcterms:modified>
  <cp:revision>12</cp:revision>
  <dc:subject/>
  <dc:title>SVĚTOVÉ HOSPODÁŘSTVÍ</dc:title>
</cp:coreProperties>
</file>