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442-E543-4FC6-8FB3-EFB7627C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061-0A6A-44AE-A1AF-DD26611C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729-C547-4373-94A9-8819923A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237-0BCC-446D-AEF0-2F9506E5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07A-66DA-40A5-99E8-12ADD9FF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F61-47AD-4CFF-B72C-B939B6EB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336-72DA-4806-AE24-7E7B1786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350-0D8F-47F5-8FFA-86447B5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210-FE56-4123-976E-6FDAD08E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7A7-8E3B-4472-9C9B-BBFE4CF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321-D558-4914-B44F-85084C5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8F9-7A56-461C-9C3C-3DDDE77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5CB-C830-4F5E-A8DD-387E9DEEB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KTURA OBYVATEL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ou obyvatelstva nejčastěji rozumíme dělení obyvatel pod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hl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087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ožení dle věku a pohla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ěková pyrami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odel pro složení obyvatel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rozvojov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vyspěl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emě. Věkové pyramidy mohou zaznamenat i historické změny (války, migrace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třední délka života (naděje na dožití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řední věk (průměrný věk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Nejvyšší střední délka života Japonsko 81 let x nejnižší věk 39 let v Sierra Leone. Střední věk je nejnižší v Africe a L. Americe nedosahuje 20 let, ve vyspělých státech překračuje 30 l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ny se většinou dožívají vyššího věku (v ČR až o 8 let), výjimku tvoří některé islámské státy (nerovnoprávné postavení ž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3703680"/>
            <a:ext cx="4968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žení dle zapojení do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4500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1. dle produktivity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ěk předproduktiv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(do 15 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ěk produktiv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od 15 do 60 – 65 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ekonomicky aktivní (pracujíc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ekonomicky pasivní (studenti, invalidé, nezaměstnaní, ženy v domácnosti, mateřské dovol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ěk poproduktivní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ad 60 – 65 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2. dle zapojení do sektor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primární (zemědělství, lesnictví, rybol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sekundární (těžba, průmy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) terciární (služby a výzk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ký vývoj zaměstnanosti (viz. graf)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předindustriá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industriá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postindustriá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změny na trhu pracovních 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62440" y="765000"/>
            <a:ext cx="4381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čem nás informuje věková pyramida? Jak se liší v rozvojových a vyspělých zemí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te povolání a zaměstnání, která považujete za nejdůležitější, kterých si vážíte? Která jsou pro vás nezajímavá? Vysvětlete 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ým změnám ve struktuře zaměstnanosti dochází v současné době u nás? (použij tabulky na str. 137, a str.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1:08:40Z</dcterms:created>
  <dc:creator>kk</dc:creator>
  <dc:description/>
  <dc:language>en-US</dc:language>
  <cp:lastModifiedBy>kk</cp:lastModifiedBy>
  <dcterms:modified xsi:type="dcterms:W3CDTF">2007-03-18T12:59:28Z</dcterms:modified>
  <cp:revision>12</cp:revision>
  <dc:subject/>
  <dc:title>STRUKTURA OBYVATELSTVA</dc:title>
</cp:coreProperties>
</file>