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FE4A-D3B9-409A-8797-4ADA9FB91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4864-CEA8-46E2-B301-06BEC3F5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6AE1-8F9D-461B-B2E4-4D051FCA0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C045-CA9C-4C7F-A5F6-4CFC6EFA4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5C69-11CF-41DB-B86E-CEE3FA3C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22E9-C35E-45AC-9286-CF92D5E3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E7AB-3032-4395-9565-B33CFD32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DC90-7B13-4774-BE81-6E093B17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0C69-C28F-4B8A-B792-E16F133E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C29C-B4FB-4BD9-A526-77759E34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F5CD-4781-4679-8645-559D65EB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F6E8-6799-409E-8660-5BD436B2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4D6A-F5C7-4531-A351-1C4467C7F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2492280"/>
            <a:ext cx="86421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KTURA A FUNKCE MĚ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5761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Územní struktura měs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536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ždé město má vlastní územní uspořádání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yspělé stá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historické jádr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současné městské cent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průmyslové zó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obytné zó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zeleň a odpočin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ozvojové stá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kontrasty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bohatství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a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chudo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špatné  či chybějící územní plán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8"/>
          <a:stretch/>
        </p:blipFill>
        <p:spPr>
          <a:xfrm>
            <a:off x="5240160" y="1125360"/>
            <a:ext cx="36547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381200" y="189000"/>
            <a:ext cx="4762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ta: struktura mě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647640"/>
            <a:ext cx="5364000" cy="3502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564000" y="3138480"/>
            <a:ext cx="558000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nkce měs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ětšina měst plní zpravidla více funkc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Některá mají převládající funkc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střediska státní správy (Washington, Canberra, Brasíl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průmyslová a obchodní (Porúří, Slezsko, hlavní měs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obytnou (Havíř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rekreační (přímořská, horská, lázeňská, historická, zábavná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univerzitní (Oxford, Uppsala aj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náboženská (Vatikán, Mekka, Váránasí aj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dopravní (přístavy, letiště aj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sah služeb závisí na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velikosti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ídla a jeho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střediskovém význam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ěkterá města překračují svým významem hranice státu (mezinárodní organizace – OSN, NATO, EU aj., veletržní, finanční a obchodní centra, hudební a filmové festivaly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71640" y="260280"/>
            <a:ext cx="7272360" cy="6281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51200" y="6453360"/>
            <a:ext cx="423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 dat: Pacione M. (2001): Urban geography: a global perspective. Routledg,e Lond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ta: funkce měs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235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Oxford University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176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427640" y="3382920"/>
            <a:ext cx="4716360" cy="3475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0" y="3573360"/>
            <a:ext cx="4572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ostatná prá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40384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ktura měs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ište územní uspořádání města, ve kterém bydlíte, nebo které dobře znáte. Pokuste se tuto strukturu (uspořádání) města jednoduše nakresli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jmenujte různé typy obytné zástavby. Jaký typ je podle vás nejlepší a proč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přesmyčkách se skrývají města České republiky s významnými historickými jád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HRAPA, LOVČE KRUMSKÝ, ČLET, OCOULOMO, HOKU RATN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3280" y="1196640"/>
            <a:ext cx="4321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unkce mě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pište vybavenost službami sídla, která znáte, ve kterém žijete. Které služby u vás chybí? Kde je můžete vyhled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ké jsou výhody a nebo nevýhody života ve městě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řaďte města a funkci měs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města: Brasília, New York, Karlovy Vary, Cannes, Ženeva, Rotterdam, Jeruzalém, Cambridge, Manche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funkce: mezinárodní administrativní, festivalové, správní, veletržní, náboženská, univerzitní, průmyslová, lázeňská, doprav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1T13:53:47Z</dcterms:created>
  <dc:creator>kk</dc:creator>
  <dc:description/>
  <dc:language>en-US</dc:language>
  <cp:lastModifiedBy>PC71</cp:lastModifiedBy>
  <dcterms:modified xsi:type="dcterms:W3CDTF">2009-03-18T14:13:38Z</dcterms:modified>
  <cp:revision>11</cp:revision>
  <dc:subject/>
  <dc:title>STRUKTURA A FUNKCE MĚST</dc:title>
</cp:coreProperties>
</file>