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45D1C-B386-4EAF-977B-3F92A2FDC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22E92-6F85-4800-AB4A-F4B1CEFDC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96E8B-557B-4440-87EE-B0251F9DA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11992-B032-42AD-960C-55AC5F994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120C7-AAA3-4D90-96A1-FF93088F4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A98F6-1FDF-4F3A-9013-EE9D0B86D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A3633-F5E0-4748-8886-DC608E3B3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BF9A5-DECF-4C72-8BDE-04272EDE8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585B9-00B9-41AC-A223-BF7954CE0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7F667-BFA8-4206-8007-E757F4DAB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3D930-E007-44E3-B8F1-C25855AE4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F0681-CA08-434A-A2B2-F6E105049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A5E4A-C292-4A84-8A5E-C6683ABF6A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261,6,Sn&#237;mek 6" TargetMode="External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kundární sek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ůmyslová výrob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ůmysl se dělí na průmyslová odvětví a průmyslové obory (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</a:rPr>
              <a:t>viz. tabulka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</a:rPr>
              <a:t>Lokalizační faktor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jsou: poloha, zdroje surovin a energie, voda, pracovní síla a kvalifikované vzdělání, doprava, odbyt výrobků, životní prostředí, fin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ývoj průmyslu: konec 18. století =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</a:rPr>
              <a:t>průmyslová revoluc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x 70. léta 20. století =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</a:rPr>
              <a:t>vědecko-technická revolu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ěžba surovinových zdroj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-360" y="836280"/>
            <a:ext cx="88930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roviny jsou OBNOVITELNÉ (voda, lesy, potraviny, živé organismy) a NEOBNOVITELNÉ (paliva, rudy, nerudné suroviny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zmístění surovin je na Zemi nerovnoměrné. Těžba nerostů se přesouvá do rozvojových zemí, vyspělé státy si své zdroje chrání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blémem je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rychlé vyčerpávání surovinových zdrojů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178920" y="2565360"/>
            <a:ext cx="87138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PALI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Jsou zákl. surovinou pro průmysl (uhlí, ropa, zem. plyn, jaderné paliv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Uhlí se těží především na severní polokouli v blízkosti míst největší spotřeby (palivo, léčiva, barviva aj.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Ropa – pohonné hmoty, topné oleje, léčiva, umělé hmoty. Těžba (Perský záliv, Rusko, Mexický záliv aj.) není totožná s místy spotřeby (nutný dovoz – tankery, potrubí). V místech těžby ropy se těží i zemní ply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Uran – palivo pro jaderné elektrár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ENERGETI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Produkce energie neustále stoupá (za 10 let více než o 40%). Nejvíce produkují TEPELNÉ ELEKTRÁRNY (2/3) – znečišťují prostředí, JADERNÉ (asi 18%) – nebezpečné, VODNÍ a ALTERNATIVNÍ ZDROJE (slunečná, větrná, přílivová, geotermální) – vhodné ale málo využívané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ostatné úko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yjmenujte libovolné průmyslové výrobky a řekněte, z čeho se vyrábějí a ke kterému odvětví patří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piš co jsou to lokalizační faktory a jak ovlivňují rozmístění průmyslu (např. poloha, pracovní síla, surovinové zdroje aj.)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zdělte suroviny na obnovitelné a neobnovitelné zdroje: ropa, obilí, železná ruda, vápenec, voda, kaolín, uhlí, dřevo, vlna aj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teré suroviny patří mezi paliva, k čemu se využívají a kde jsou hlavní oblasti těžb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k se může vyrábět elektrická energie? Jaké jsou výhody a nevýhody výroby el. energi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teré energetické zdroje se počítají mezi alternativní? Zhodnoťte, jak se mohou využít u ná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k můžeme šetřit energií a surovinovými zdroji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9999"/>
                </a:solidFill>
                <a:uFillTx/>
                <a:latin typeface="Arial"/>
              </a:rPr>
              <a:t>Průmyslová výroba a obo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68360" y="1052640"/>
          <a:ext cx="8229600" cy="5457600"/>
        </p:xfrm>
        <a:graphic>
          <a:graphicData uri="http://schemas.openxmlformats.org/drawingml/2006/table">
            <a:tbl>
              <a:tblPr/>
              <a:tblGrid>
                <a:gridCol w="3097080"/>
                <a:gridCol w="5132520"/>
              </a:tblGrid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DVĚTV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BO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ěžebn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liv, rud, nerudných surov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ěžk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liv a energetik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lektrárny, briketárn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utn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utnictví železa a barevných kovů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ěžké strojírenstv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opravní prostředky, těžební zařízen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ěžká chemi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etrochemi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avební hmo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ementárny, ciheln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potřebn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rojírenstv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lektrotechnika, přesné strojírenstv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hemick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rvy, laky, farmaceutick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klo, keramik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řevozpracujíc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ábytkářský, výroba zápale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pírensk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xtilní a oděvn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řádelny, konfek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ožedělný, obuvnick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otravinářsk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ukrovary, mlékárenský aj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statn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324000" y="476280"/>
          <a:ext cx="6984720" cy="596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476280"/>
                    <a:ext cx="6984720" cy="596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7667640" y="5877000"/>
            <a:ext cx="1079640" cy="718920"/>
          </a:xfrm>
          <a:prstGeom prst="rightArrow">
            <a:avLst>
              <a:gd name="adj1" fmla="val 50000"/>
              <a:gd name="adj2" fmla="val 3754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PĚ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3T05:29:57Z</dcterms:created>
  <dc:creator>kk</dc:creator>
  <dc:description/>
  <dc:language>en-US</dc:language>
  <cp:lastModifiedBy>kk</cp:lastModifiedBy>
  <dcterms:modified xsi:type="dcterms:W3CDTF">2007-05-12T13:40:11Z</dcterms:modified>
  <cp:revision>9</cp:revision>
  <dc:subject/>
  <dc:title>Sekundární sektor</dc:title>
</cp:coreProperties>
</file>