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0F5-6A0D-4C4C-BAC4-1ADC000F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DE4-68AB-4042-8BB6-1572C896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06E-381E-4891-996D-2716CDA0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510-74FF-4BE0-8802-098A853A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FD6-3D71-4520-8D64-09A830A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D69-BEB8-437A-8550-DCF73C07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B5D-9ECF-4F80-B4B1-2D26B4E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736-6009-446F-B80E-32CC19A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8F5-8F48-4215-BAD8-BBCC8247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6C8-5DF1-4472-B069-9F91948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2B8-8C71-43B3-BA10-B48D41F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6D7-B97E-43D2-87B7-510741A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280-3C7F-4D9D-9658-B25948D66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ŮST OBYVATELSTVA NA Z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5949720"/>
            <a:ext cx="6913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Zemi přibude 250 000 lidí za d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680000" cy="325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4200" y="1916280"/>
            <a:ext cx="42498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 obyvatel na Zemi je v roce 2007 - 6,6 mld.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ychl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rovnoměrn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ůst obyvatelstva je globální problém č.1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azatel, který vyjadřuje změny v počtu obyvatel na Zemi je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HYB OBYVATELST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ohyb přirozený – porodnost a úmrtnost (+ přirozený přírůstek/ - přirozený úbyt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územní pohyb (migrace/stěh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ní růst obyvatelstva (viz. gra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876400"/>
            <a:ext cx="6409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435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grafická revol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akteristická j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kles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ubé mí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odnos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ubé mí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mrtnos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s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k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jenecká úmrtn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vyšuje se naděje dožit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bvykle se průběh revoluce rozděluje do dvou a více fází. Podle toho, jak jsou synchronizovány změny porodnosti a úmrtnosti v průběhu obou fází demografické revoluce, rozlišujeme tři její typ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ouzský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chází k poklesu porodnosti a k zlepšování úrovně úmrtnosti téměř současně v obou fázích revoluce. Důsledkem je relativně malý růst popu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 Anglický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úmrtnost zlepšuje v obou fázích, porodnost však v první fází neklesá, stagnuje, což má za důsledek dosti značný nárůst popul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) Japonsko – mexický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hází ke zlepšování úmrtnosti v obou fázích, nicméně porodnost v první fází dokonce stoupá. Tento typ je charakteristický pro rozvojové země (vysoký nárost popu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zaměňujte demografickou revolu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populační explozí!!! (U demografick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oluce nemusí dojít k nárůstu popul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šem populační exploze je termín p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chlý nárůst obyvatelstv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95640" y="3357720"/>
            <a:ext cx="51483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51280" y="333360"/>
            <a:ext cx="4392720" cy="291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5280" y="3357720"/>
            <a:ext cx="4068720" cy="325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3943440" cy="315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3800" y="285264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ouzský ty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3240" y="6165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ick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6160" y="62373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o-mexick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78000" y="396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0920" y="135000"/>
            <a:ext cx="43210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 ½ 20. století výrazné zrychlení – problémem je výživa - hla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úmrtnost klesá, porodnost stagnuje = počet obyvatel ro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é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írůstek vysoký v chudých zemích x nízký přírůstek až úbytek ve vyspělých zem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Řešení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ční polit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mezení porodnosti (Čína, Indie, Afrika) x zvýšení porodnosti (Evropa, As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výšení produkce potrav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zelená revoluce, genetické potraviny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ývoj počtu obyva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Pomocí tabulek (Počet obyvatel států a zemí světa – str. 43) zjisti a vytvoř graf vývoje počtu obyvatel v těchto zemí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Česká repub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z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kus se okomentovat výsledný g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Vyhodnoť podle geografických tabulek, změny podílu světadílů na světovém obyvatelst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20:43:43Z</dcterms:created>
  <dc:creator>kk</dc:creator>
  <dc:description/>
  <dc:language>en-US</dc:language>
  <cp:lastModifiedBy>jj</cp:lastModifiedBy>
  <dcterms:modified xsi:type="dcterms:W3CDTF">2008-02-01T12:53:14Z</dcterms:modified>
  <cp:revision>18</cp:revision>
  <dc:subject/>
  <dc:title>RŮST OBYVATELSTVA NA ZEMI</dc:title>
</cp:coreProperties>
</file>