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685-C70E-4A10-9037-EACF525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F5A-731E-4E4F-9778-2C38ED6F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4DC-BC5E-423A-A96B-F0FA00CF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7E4-990B-4578-A77D-F7A9B8ED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A7A-E050-4357-B6E0-E7FFA7C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87B-A7DF-4B62-985B-25DBED1A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BA9-6F66-4844-8CB9-E8EC2A72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A50-914B-402C-BAA9-D0BD0FB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400-6B3A-4785-ADC0-186ECF0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E21-2579-41B8-882F-8FF8386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4E7-6F0A-4DBD-BE60-E9ECCF9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DA6-FDB1-4998-914D-CBDDE55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6CF-DEB2-4ECB-BDD9-D2F64A28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PEŇ ROZVOJE STÁTŮ SVĚ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áty světa podle stupně rozvoje (země prvního až pátého svět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203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y „prvního“ svě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ty s vyspělou tržní ekonomikou (západní Evropa, USA, Kanada, Austrálie, Japonsko atd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y „druhého“ svě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stkomunistické státy, jejichž hospodářství prochází transformačními změnami (střední, východní a jihovýchodní Evro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y „třetího“ svě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emě překonávající svoji zaostalost rychlým rozvojem: státy vyvážející ropu (státy Perského zálivu, severoafrické státy, Karibská oblast) a nově industrializované země (asijští tygř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y „čtvrtého“ svě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řekonávání zaostalosti je teprve v počátcích (většina států Asie a Latinské Ameriky, státy Guinejského zálivu + komunistické stá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y „pátého“ svě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jchudší země světa (země Sahelu, střední a východní Afrika, některé státy Asie – Afghánistán, Laos, Nepál, Bangladéš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0:00:49Z</dcterms:created>
  <dc:creator>kk</dc:creator>
  <dc:description/>
  <dc:language>en-US</dc:language>
  <cp:lastModifiedBy>kk</cp:lastModifiedBy>
  <dcterms:modified xsi:type="dcterms:W3CDTF">2007-06-16T06:11:42Z</dcterms:modified>
  <cp:revision>3</cp:revision>
  <dc:subject/>
  <dc:title>STUPEŇ ROZVOJE STÁTŮ SVĚTA</dc:title>
</cp:coreProperties>
</file>