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C75-0E06-4DF8-8C15-971C5743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3C6-C46C-4E3A-95B3-E59AF9C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5FE-8374-4741-847F-0E753BD8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B44-203E-424F-B337-8BD60F42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CA4-7136-4D2A-B792-53DAFE6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A36-9671-4273-8C9E-0C79915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130-E0D1-4EAD-AC7B-5A5C5BE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9C6-EDF2-498D-9913-0F05767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CDE-8864-42B9-8A19-FAF9D6A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A55-DDD9-4A3F-AFD5-D4FCDE9A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AFF-9C85-4D07-8F1D-017B9D8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21D-C718-4667-A67A-3D8D3EB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A80D-077F-4362-A397-5868E9E10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4366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místění obyvatelstva na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766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stota osí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6520" y="5373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753080" cy="3163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08360" y="1197000"/>
            <a:ext cx="4535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stota osídlení j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OVNOMĚR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5% souše=1/2 obyvatel), celosvětový průměr je 40 ob./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ypočítej hustotu zalidnění Č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Činitelé ovlivňující osídl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řírodní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dnebí (srážky, teplo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zdálenost od moře (do 200 km od moře žije 50% obyvatelstva na Zem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dmořská výška (do výšky 200 m.n.m. žije 60% obyvatel na Zem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ůdy (úrodnost, možnost závlah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ge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roviny (kovy, paliva, dřevo aj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ioekonomick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ěžba nerostných surov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spodářská vyspělost (migrac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istorické fak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munik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stupnost služe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rbanizace (stěhování lidí z venkova do měs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ě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obydlené obla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5% obyvatel) – oblasti od 0 do 10 ob.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tarktida, pralesy, SLO, pouštní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ízká hustota osídle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37% obyvatel) – oblasti do 10 do 200 ob.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yhledej v atl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ysoká hustota osídl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48% obyvatel) – nad 200 ob.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lasti vysokého zalidnění dle světad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Evropa: Anglie, Benelux, Porýní, sev. Itálie, Slez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Asie: SV Čína, Japonsko, Korejský pol., Indie, Bangladé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Afrika: nilská delta, Bengálský zál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Severní Amerika: SV + Z USA, JV Kana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Jižní Amerika: La P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Austrálie a Oceánie: JV Austrá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35280" y="1773360"/>
            <a:ext cx="5333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cí geografických tabulek (Přehled států a zemí světa – str. 21) najdi státy s hustotou vyšší než 400 ob/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táty s hustotou nižší než 5 ob./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kterých šířkových pásmech a ve kterých výškových stupních je hustota zalidnění nejnižš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mapě světa sledujte země ležící přibližně na 40 stupni severní šířky a pokuste se stanovit příčiny rozdílů v jejich hustotě zalidně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4:59:48Z</dcterms:created>
  <dc:creator>kk</dc:creator>
  <dc:description/>
  <dc:language>en-US</dc:language>
  <cp:lastModifiedBy>jj</cp:lastModifiedBy>
  <dcterms:modified xsi:type="dcterms:W3CDTF">2008-02-01T12:55:30Z</dcterms:modified>
  <cp:revision>15</cp:revision>
  <dc:subject/>
  <dc:title>Rozmístění obyvatelstva na Zemi</dc:title>
</cp:coreProperties>
</file>