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B62-2960-408B-9A74-9F67D671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9FF-DCCE-4F07-AE1A-D46CF474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3C6-9D79-483C-AA28-2F814DFC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D62-15FF-4601-B8D5-C6EA2460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538-5028-4DDD-9B57-B07C81C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288-6420-4650-ACA5-E2B3BA07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1D4-1901-4333-9228-6EDAE8D3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320-9FF0-492F-9B74-14564487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FC3-3EE6-47CF-9F72-C2B6E60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1AD-692D-4DC8-8677-48DA98D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EBB-D3BC-4A8A-BB59-3242FEF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028-8F03-43FF-9181-89085B9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592A-D2FF-4C90-A318-F33EA005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Y, NÁRODY, JAZY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upiny lidí, které se odlišují: vnějšími znaky a složením krve. Rozlišujem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3 základní ras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iz. graf)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íšené ras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ambové, mulati, mesticové) – vzniklé díky migr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j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rasismus, antisemitismus, 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amostatná prá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 mapě vyhled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základní rozmís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as podle světadí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51280" y="3052800"/>
          <a:ext cx="5292720" cy="38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052800"/>
                    <a:ext cx="5292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ÁR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ýznamné lidské společ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57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olečné zna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území, jazyk, historický vývoj, kultura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Zemi as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0 národ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elké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 vyhledej v atlase??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lé, nezformované – kmeny, nové – Australané, Moldavané aj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j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vlastenectví, nacionalismus, šovinismus, občanská vál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854360"/>
            <a:ext cx="4321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46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vní dorozumívací (komunikační) prostředek mezi lid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le příbuznosti dělíme n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zykové skup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lovanské, germánské, románské aj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větové jazy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akové, kterými mluví velké národy, jež v minulosti ovládali rozsáhlé kolonie (angličtina, francouzština, španělšt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ostatná práce:              V tabulkách vyhledej jazyky, kterými mluví více než 100 milionů lid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43280" y="1957320"/>
            <a:ext cx="4500720" cy="3291120"/>
            <a:chOff x="4643280" y="1957320"/>
            <a:chExt cx="4500720" cy="3291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643280" y="1957320"/>
              <a:ext cx="4500720" cy="32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643280" y="1957320"/>
              <a:ext cx="4500720" cy="32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evropské jazy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356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žívání písma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2228760"/>
            <a:ext cx="7921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04:26Z</dcterms:created>
  <dc:creator>kk</dc:creator>
  <dc:description/>
  <dc:language>en-US</dc:language>
  <cp:lastModifiedBy>kk</cp:lastModifiedBy>
  <dcterms:modified xsi:type="dcterms:W3CDTF">2007-03-29T19:39:14Z</dcterms:modified>
  <cp:revision>12</cp:revision>
  <dc:subject/>
  <dc:title>RASY, NÁRODY, JAZYKY</dc:title>
</cp:coreProperties>
</file>