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641-A6BA-4F86-8150-B4110504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C75-3BBA-4A50-B785-60EC9681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830-75B0-4E71-A22C-1E034F75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CD6-D32E-405C-BA6B-1BF9E309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958-9EBD-4440-817F-EDEE628A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342-EB9E-4C50-86A7-837FE1C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148-A60E-41B7-9E60-7154F8E0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365-42DC-4C09-9742-D12E35A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E98-FB21-4C6D-B5E0-4094DCC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9FD-8ADF-41CC-B1A2-308C8C7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D03-5285-4F26-B962-51A90FA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723-8DC1-4717-BCB8-90CC147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259-824D-4136-8B6B-424ADEAB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ÁRNÍ SE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ětové zeměděl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emědělství poskyt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traviny, suroviny pro průmysl, chov zvíř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á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ZEMĚDĚLSTVÍ VYSPĚLÝCH ZEMÍ: produkce pro trh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dproduk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, 5% aktivního obyvatelstva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ntenzifika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hnojení, mechanizace, moderní technologie)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pecializa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agrokomple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ZEMĚDĚLSTVÍ NEVYVINUTÝCH ZEM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lo výkonné – není schopno uživit rychle rostoucí počet obyvatelstvo (hlad a podvýživa) –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zelená revolu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50% aktivního obyvatelstva, samozásobitelské zemědělství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žárov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usedl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závlahov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1332000" y="3376440"/>
            <a:ext cx="61214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é úkoly – svět. zeměděl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ý je hlavní cíl zemědělstv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se liší zemědělství ve vyspělých a málo vyspělých zemí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je to agrokomplex, zelená revoluce, specializace, intenzifik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se OSN podílí na řešení problémů nedostatku potravin na ze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tabulkách vyhledej produkci a spotřebu hnojiv (tabulky str. 1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kreslete kruhový graf využití půdního fondu dvou nejlidnatějších zemí světa (podle údajů v tabulkách na str. 10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04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tlinná výro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392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ěle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kce potravin (lidi), krmiv (zvířata) a surovin (průmy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zmístění plodiny určuj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řírodní podmínk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pásmovitost, stupňovitost – viz obrázek, úrodnost půd) a hospodářská vyspělost st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větové obil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vropská (Francie-Ukrajina) – pše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veroamerická (USA a Kanada) – pšenice a kukuř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sijská (monzunová oblast) – 90% světové produkce rý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hoamerická – pše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ustralská – pše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ělení plodin – viz obr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2503440" cy="486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84760" y="0"/>
            <a:ext cx="3459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é úkoly – rostlinná výro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ovlivňuje rozmístění plodin na Ze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které skupiny plodin patří: kukuřice, čočka, vinná réva, káva, chmel, cibule, jetel, maniok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lň dvě plodiny, které se pěstují v tropech, subtropech, mírném pá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až významné obilnice, na jaký vegetační a podnebný pás se váž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plodiny se pěstují v blízkosti vašeho bydlišt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tabulek vyhledej největší producenty pšenice (str. 103) a rýže (str. 1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v zvíř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jištění– výživa (živočišné bílkoviny), suroviny (kůže, hedvábí, vlna), dopravní prostřed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ůležitější je chov – skotu (USA, Argentina), prasat (mírný pás), ovcí (Austrálie) a drůbeže (celosvětově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y chov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čovné pasteve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zivní pastevectví (velké počty zvěře na velkých plochách – USA, Al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zivní pastevectví (velkocho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lternativní (ekologické) – návrat zvířat do přírodní krajiny (Nizozem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 – chov zvíř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ré druhy hospodářských zvířat se nejvíce chovají v mírném podnebném pásu? Které v jiných klimatických podmínká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é suroviny produkuje živočišná výroba? Proč jsou důležité bílkoviny a kde je najd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je: intenzivní, extenzivní, kočovné a ekologické pastevectv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ybolov                  Lesní hospodář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42764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 mořských (90%) a sladkovodních (10%) ry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ísta výlov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elfová moře (dostatek živin z ř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mísení studených a teplých proudů (dostatek plankto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řské pouště (moře bez plankto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ělé chovy (sádky, rybníky, přehrady, rýžoviště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blé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znečištění oceánů, úbytek ryb, zvýšení výlovu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6000" y="1268280"/>
            <a:ext cx="47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ýzn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zdroj dřeva, ovlivnění teploty a vlhkosti půdy, zdroj kyslíku, brání erozi půdy, domov živočichů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yuži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livo, nábytek, papírny, stavebnictví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znamná mí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ské lesy(Tajga)-jehličn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y mírného pásu – listna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opické lesy – vzácná dřeva a druhová pest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blé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dlesňování naší planety, průmyslové emise, monokultury a škůdci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é úkoly – rybolov a le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eďte státy, které zaujímají přední postavení v lovu mořských ry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zi lovené mořské ryby nepatří: treska, sardinka, pstruh, tuňák, losos, ka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děte v mapě šelfová moře a místa mísení mořských proudů (teplé a studen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jádřete význam lesů pro lidskou společ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ím se liší pás tropických a severských les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1:00:40Z</dcterms:created>
  <dc:creator>kk</dc:creator>
  <dc:description/>
  <dc:language>en-US</dc:language>
  <cp:lastModifiedBy>kk</cp:lastModifiedBy>
  <dcterms:modified xsi:type="dcterms:W3CDTF">2007-04-26T07:43:29Z</dcterms:modified>
  <cp:revision>19</cp:revision>
  <dc:subject/>
  <dc:title>Primární sektor</dc:title>
</cp:coreProperties>
</file>