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71B-7436-46DB-90AE-F8CE93DE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28A-8E4B-45C9-BEF3-D960A2D2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F29-A299-4795-B007-31299053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B4B-A720-4395-B880-B0CB51CE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00E-CD65-4091-A57A-C8DE0E4B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D73-F178-4256-8642-EFDC9909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082-C9CC-4494-8141-3342397E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846-145C-4EA9-A80E-C74DDAF9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D5B-717D-4E72-B5B5-F43BE443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671-5115-4CA1-8984-477A86E5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3EF-FB95-49A4-AB8A-2162D00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723-A2F6-4444-B967-D16D60AE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6459-7245-4C50-8980-5768AFFB4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OHA, ROZLOHA A LIDNAT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267920"/>
            <a:ext cx="7561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ha má vliv na historický vývoj státu. Rozloha a lidnatost nesouvisí s hospodářskou vyspělostí stá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4800600" cy="30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2600280" cy="2076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6840" y="5589720"/>
            <a:ext cx="88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iš polohu, rozlohu, lidnatost a vyspělost těchto dvou států vyobrazených na map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O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ruhy určování polohy stát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ická – zeměpisné souřadnice, poloha vůči jiným státům, poloha na kontinentu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a podle polohy vůči moři: přímořské, ostrovní, souostrovní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vnitrozemské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hlediska hospodářství: dopravní tahy, zdroje surov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ká a vojensko-strategická polo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ZLO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57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loze jsou na politické mapě obrovské rozdí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jvětší státy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10 největších států světa tvoří 50% souše. 13 států má více než 2 mil. 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jmenší (trpasličí) státy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jvíce rozdrobená je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vrop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jméně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ustrál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inistáty mají většinou malý počet obyvatel, ale vysokou hustotu zalid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43280" y="1413000"/>
          <a:ext cx="4249800" cy="4719600"/>
        </p:xfrm>
        <a:graphic>
          <a:graphicData uri="http://schemas.openxmlformats.org/drawingml/2006/table">
            <a:tbl>
              <a:tblPr/>
              <a:tblGrid>
                <a:gridCol w="474840"/>
                <a:gridCol w="1685880"/>
                <a:gridCol w="2089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á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loha (mil.k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zíl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ál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gen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zachst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úd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žír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údská Aráb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DNAT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0 nejlidnatější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átech žije více než 50% celé lidské populace. Celosvětový průměr na 1 stát je 30 mil.obyva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to velké státy mají i vysoký počet obyvatel, ale není to pravidlo (např. Kanada, Austrálie, Japonsko, Bangladéš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284720" y="1052640"/>
          <a:ext cx="4680000" cy="5010120"/>
        </p:xfrm>
        <a:graphic>
          <a:graphicData uri="http://schemas.openxmlformats.org/drawingml/2006/table">
            <a:tbl>
              <a:tblPr/>
              <a:tblGrid>
                <a:gridCol w="369720"/>
                <a:gridCol w="957240"/>
                <a:gridCol w="1014480"/>
                <a:gridCol w="368280"/>
                <a:gridCol w="957240"/>
                <a:gridCol w="10130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k 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k 2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á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yv. v m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á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yv. v mi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onés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ákist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zí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onés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ákist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gé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gladé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gladé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zí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po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io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gé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xi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xi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y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lipí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po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Ír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037400" y="609300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lidnatější země – s více než 100 mil. oby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é 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rozlišujeme polohu státu vůči moři? Pro každou skupinu uveď pár příkladů za každý světadí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kterizujte polohu těchto států podle různých hledisek: Velká Británie, Rakousko, Indie, Indonésie, Mexiko, Japonsko, Maďarsko, Etiopie, Argentina, Egypt, Nigérie, Nový Zé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t nejrozlehlejších států již známe, jaké je pořadí pěti nejmenších států světa (použij tabul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čete pět evropských států s menší a vyšší rozlohou než má Česká republ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hrajte si: Kdo uvede největší počet států počínajících zvolenou hláskou (písmen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9:00:35Z</dcterms:created>
  <dc:creator>kk</dc:creator>
  <dc:description/>
  <dc:language>en-US</dc:language>
  <cp:lastModifiedBy>kk</cp:lastModifiedBy>
  <dcterms:modified xsi:type="dcterms:W3CDTF">2007-06-01T06:24:24Z</dcterms:modified>
  <cp:revision>9</cp:revision>
  <dc:subject/>
  <dc:title>POLOHA, ROZLOHA A LIDNATOST</dc:title>
</cp:coreProperties>
</file>