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2561-3664-44CD-9ECA-1C04B0AB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1836-0109-4BA6-9611-B8F69D98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D64-3853-41B8-A630-FE14EE25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E599-B3FB-4C31-BE23-42F73815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23A-37A8-478B-810E-EFD145FE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D809-8D56-45C4-B17C-06859114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AF2-4E73-4DDD-8630-539AAEE3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1360-5180-42AC-9975-099CD21B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3F5-4500-4680-A3ED-E37E34E8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0B9A-A893-4E4B-8131-BFC19402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947-3DCA-45D0-9C5E-095A776D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A11-210D-4FEA-BE72-36ADA98A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32AD-A103-4E91-A596-0111A1D9F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eznam_st&#225;t&#367;_sv&#283;ta" TargetMode="External"/><Relationship Id="rId2" Type="http://schemas.openxmlformats.org/officeDocument/2006/relationships/hyperlink" Target="http://cs.wikipedia.org/wiki/Seznam_st&#225;t&#367;_sv&#283;ta" TargetMode="External"/><Relationship Id="rId3" Type="http://schemas.openxmlformats.org/officeDocument/2006/relationships/hyperlink" Target="http://cs.wikipedia.org/wiki/Seznam_z&#225;visl&#253;ch_&#250;zem&#237;" TargetMode="External"/><Relationship Id="rId4" Type="http://schemas.openxmlformats.org/officeDocument/2006/relationships/hyperlink" Target="http://cs.wikipedia.org/wiki/Seznam_z&#225;visl&#253;ch_&#250;zem&#237;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ká mapa (mapa států) současného svě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45560" cy="4468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30720" y="6021360"/>
            <a:ext cx="808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kus vyhledat co nejvíce rozdílů v politické mapě světa z roku 1914 a dnešního svě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tyto rozdíly mohlo způsob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současnosti na politické mapě světa převládají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ezávislé státy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v roce 2007 je jich 194), k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tátům závislým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v roce 2007 je jich 49) patří pouze nevelká nebo řídce osídlená územ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voj politické mapy svě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)  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</a:rPr>
              <a:t>období kolonizac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začíná velkými zámořskými objevnými cestami a vrcholí v závěru 19. stolet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</a:rPr>
              <a:t>období dekoloniz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o 1. světové vál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změny v Evropě – rozpad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kouska-Uherska a vznik Sovětského svaz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o 2. světové vál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postupný zánik kolonií v Asii 40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50. léta, v Africe od 60. l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a počátku 90. le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změna v Evropě díky pád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unismu v Sovětském svazu, Jugoslávii, ČSFR aj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 konce 2. světové války do roku 2007 vzniklo 124 nezávislých států (poslední změny: Východní Timor – 2002, Srbsko – 2006, Černá hora – 200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měnou na politické mapě jsou i časté změny rozsahu státního území – změny státní hranic (např. po 2. světové vál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razové přílo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002120" cy="3852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111640" y="0"/>
            <a:ext cx="40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eďte příklady nezávislých států, které byly dříve britskými, francouzskými, belgickými a portugalskými koloniemi. Najdete je na mapě. Jakými problémy musí dnes tyto země čel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teré nezávislé státy vznikly po rozpadu SSS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teré samostatné státy vznikly až v posledních lete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5:55:10Z</dcterms:created>
  <dc:creator>kk</dc:creator>
  <dc:description/>
  <dc:language>en-US</dc:language>
  <cp:lastModifiedBy>kk</cp:lastModifiedBy>
  <dcterms:modified xsi:type="dcterms:W3CDTF">2007-05-25T12:36:44Z</dcterms:modified>
  <cp:revision>7</cp:revision>
  <dc:subject/>
  <dc:title>Politická mapa (mapa států) současného světa</dc:title>
</cp:coreProperties>
</file>