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18DC-C711-4510-B9AF-E7C690E3E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6B60-063C-46F3-A860-9CCF684EF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8849-3263-4631-B6AC-81F2264AE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FAD3-80CB-46EF-9675-47F0BC58C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F57A-B37F-44C9-B6E6-5CA2BA17B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4E9A-E365-430E-9502-859D61156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E77C-F683-4DD0-83B1-8B06C7E45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65EB-42F5-4A5B-8E2B-9DE140737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A42F-DF35-464D-9D3B-26E9B276F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34EB-BCDD-4F1C-B539-02EBAFBAF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BBC8-FCD8-4AC3-8961-9015D6335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BD17-5029-4271-ADAB-95FAF3323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E9D40-D302-43FB-B8D3-0D20520405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hyperlink" Target="http://cs.wikipedia.org/wiki/Organizace_spojen&#253;ch_n&#225;rod&#367;#Odborn.C3.A9_organizace_OSN" TargetMode="External"/><Relationship Id="rId4" Type="http://schemas.openxmlformats.org/officeDocument/2006/relationships/hyperlink" Target="http://www.un.org/" TargetMode="External"/><Relationship Id="rId5" Type="http://schemas.openxmlformats.org/officeDocument/2006/relationships/hyperlink" Target="http://www.osn.cz/" TargetMode="External"/><Relationship Id="rId6" Type="http://schemas.openxmlformats.org/officeDocument/2006/relationships/slide" Target="slide2.xml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image" Target="../media/image3.png"/><Relationship Id="rId4" Type="http://schemas.openxmlformats.org/officeDocument/2006/relationships/hyperlink" Target="http://www.nato.int/" TargetMode="External"/><Relationship Id="rId5" Type="http://schemas.openxmlformats.org/officeDocument/2006/relationships/hyperlink" Target="http://www.natoaktual.cz/" TargetMode="External"/><Relationship Id="rId6" Type="http://schemas.openxmlformats.org/officeDocument/2006/relationships/slide" Target="slide3.xml"/><Relationship Id="rId7" Type="http://schemas.openxmlformats.org/officeDocument/2006/relationships/image" Target="../media/image4.png"/><Relationship Id="rId8" Type="http://schemas.openxmlformats.org/officeDocument/2006/relationships/slide" Target="slide3.xml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zemepis.com/osn.php" TargetMode="External"/><Relationship Id="rId2" Type="http://schemas.openxmlformats.org/officeDocument/2006/relationships/hyperlink" Target="http://www.zemepis.com/ce.php" TargetMode="Externa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zinárodní politické organizace a seskupe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79280" y="1773360"/>
            <a:ext cx="8785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71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SN – Organizace spojených národ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-360" y="907560"/>
            <a:ext cx="878508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SN je nejvýznamnější mezinárodní organizací se sídlem v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New Yorku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 založení došlo v roce 1945 v San Francisku a jejími členy jsou téměř všechny nezávislé státy (v roce 2006 je jich 192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ákladním dokumentem je CHARTA – zajištěni světového míru, spolupráce při řešení politických, sociálních a ekonomických problém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Orgány OS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ALNÉ SHROMÁŽĎĚNÍ je nejvyšším orgánem, členy jsou všechny státy, usnesení mají doporučující charak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ADA BEZPEČNOST je výkonným orgánem, 15 členů (5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stálých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– USA, Rusko, Velká Británie, Francie, Čína + 10 nestálých volených na 2 rok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EKRETARIÁT jehož nejvyšším správním úředníkem je GENERÁLNÍ TAJEMNÍK (od roku 2007 je jim Pan Ki-mun z Jižní Korej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Další organizace, výbory a komise při OS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ezinárodní soudní dvůr v Haag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ezinárodní měnový fond (IM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rganizace pro výchovu, vědu a osvětu (UNESC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rganizace pro výživu a zemědělství (FA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větová zdravotnická organizace (WHO) a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dalš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42080" y="6451560"/>
            <a:ext cx="23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Oficiální stránky OSN (E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407200" y="6451560"/>
            <a:ext cx="321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Informační centrum OSN v Praze (CZ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Vlajka OSN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6732720" y="4365720"/>
            <a:ext cx="2087280" cy="138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ATO – Severoatlantická ali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920" y="764640"/>
            <a:ext cx="842472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ojensko-politické seskupení států evropských a severoamerických států, vzniklá v roce 1949 (ČR vstoupila v roce 12. března 1999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jvyšším řídícím orgánem je </a:t>
            </a: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RAD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NATO. Vojenské velení i generální tajemník (v současnosti jeJaap de Hoop Scheffer ) a celá organizace NATO má sídlo v Brusel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Vlajka NATO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2843280" y="5300640"/>
            <a:ext cx="1714320" cy="12859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70800" y="6380280"/>
            <a:ext cx="204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Oficiální stránky NATO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00760" y="6381720"/>
            <a:ext cx="188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Stránky o NATO (CZ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0" y="3213000"/>
            <a:ext cx="4968720" cy="18939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5364000" y="3068640"/>
            <a:ext cx="302112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alší mezinárodní politické organizace a seskupen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1116000" y="1989000"/>
          <a:ext cx="6696000" cy="4160880"/>
        </p:xfrm>
        <a:graphic>
          <a:graphicData uri="http://schemas.openxmlformats.org/drawingml/2006/table">
            <a:tbl>
              <a:tblPr/>
              <a:tblGrid>
                <a:gridCol w="1809720"/>
                <a:gridCol w="1036800"/>
                <a:gridCol w="2813040"/>
                <a:gridCol w="1036440"/>
              </a:tblGrid>
              <a:tr h="439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áze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zni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ídl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člen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Arial"/>
                          <a:hlinkClick r:id="rId1"/>
                        </a:rPr>
                        <a:t>O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ew York (Wien, Genev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Arial"/>
                          <a:hlinkClick r:id="rId2"/>
                        </a:rPr>
                        <a:t>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rasbour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B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7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odaň, Prah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A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rus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un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ins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mmonweal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7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PL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ostatná prá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jistěte plný i anglický název OSN a její symbo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teré státy patří mezi stálé členy Rady bezpečnosti a kteří další členové sem v současnosti patří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 rámci OSN působí ještě další organizace, mimo jiné UNESCO, UNICEF, FAO, WHO. Co se skrývá za zkratkami a jaké mají poslání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ký je vztah ČR k NATO a OS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k se jmenuje současný generální tajemník NATO a OS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8T09:19:56Z</dcterms:created>
  <dc:creator>kk</dc:creator>
  <dc:description/>
  <dc:language>en-US</dc:language>
  <cp:lastModifiedBy>kk</cp:lastModifiedBy>
  <dcterms:modified xsi:type="dcterms:W3CDTF">2007-06-18T20:40:30Z</dcterms:modified>
  <cp:revision>20</cp:revision>
  <dc:subject/>
  <dc:title>Mezinárodní politické organizace a seskupení</dc:title>
</cp:coreProperties>
</file>