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AFD-74B7-4617-A334-A4030ADC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46A-691D-4B05-9E3B-934C0955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E90-B2E5-4D4A-AAF4-72ECF9A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C69-AD1D-44A8-A5F6-9DD214BB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B7B-260A-4240-BAE9-24318AC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F8A-4F02-48E7-8792-0DF777B6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347-2B94-42C1-873B-D6950E54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447-380D-4DCB-9A37-55C01F5B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BFA-8ED3-4CDC-96D0-FFE212D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F30-B919-444B-9794-C7E080DA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238-9854-4E9F-8862-893AA6A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3E9-B3AC-4D06-A73B-76F8596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0A7-4CC0-4145-AEF4-B7710794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áboženství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408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zor na svět: věřící, bez vyznání a ateis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28920" y="1514520"/>
            <a:ext cx="4286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l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větová 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křesťanství (2,2 mld. věřících), islám (1,3 mld.), buddhismus (382 mi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rodnost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akticky jej vyznává jen jeden národ) – hinduismus (870 mil.), judaismus (15 mi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rodní 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šamanismus, totemismus, animismus aj. (asi 300 mi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derní 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ekty (Mormoni, Svědci Jehovovi), ideologie (Juche – KL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95640" y="1844640"/>
          <a:ext cx="514836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514836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ozmístění obyvatel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8166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avní nábožen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54356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ŘESŤANSTV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e dělí na: katolíky, protestanty (evangelíky), pravoslavné (ortodoxní). Víra v Ježíše Krista – Syn Boží, bible – Nový zákon a evangelia, víra v posmrtný život, kost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SLÁ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á dva směry šíité (v Iránu) a sunnité.  Stoupenci Muslimové, Mohamed=prorok, Alláh=bůh, korán, meš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INDUIST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íra v převtělování, rozdělení obyvatel na kasty, posvátná Ganga, zvířata, rostliny, zikku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UDHIST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zakladatel Buddha, tolerance a omezování vlastních potřeb, pag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UDAISMU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židovství) Židé vyvolený národ, Starý zákon, Zeď nářků, Izrael – kolébka tří nábožen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90160" y="6308640"/>
            <a:ext cx="2262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šíření viz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map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640" y="6329520"/>
            <a:ext cx="29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vátná místa viz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abul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14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některé náboženství i sekty je typický fanatismus a fundamentalismus, který může přecházet až v extremismus (např. terorismus). Náboženská nesnášenlivost tak vede k řadě konfliktům (Severní Irsko, bývalá Jugoslávie, Palestina a Izrael)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5221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ybraná svatá místa nábožen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68280"/>
          <a:ext cx="8362440" cy="5256000"/>
        </p:xfrm>
        <a:graphic>
          <a:graphicData uri="http://schemas.openxmlformats.org/drawingml/2006/table">
            <a:tbl>
              <a:tblPr/>
              <a:tblGrid>
                <a:gridCol w="2112120"/>
                <a:gridCol w="3511080"/>
                <a:gridCol w="2739240"/>
              </a:tblGrid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BOŽEN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Ě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Á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řesťan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lém, Nazaret, Jeruzalé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tolická círk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tiká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tiká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oslavn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stantinopolis, Athé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ecko, Řec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likánsk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erbu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ká Britá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kka, Medina, Jeruza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udská Arábie, Iz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ndu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ránás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dh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pburi, Bodh, Gaya, Sarn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pál, In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hjongj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h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ritsar, Punj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da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uzalé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á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f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rik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ri-š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ons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in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ana, Guje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znáte křesťanské svátky během roku? Kdy se konají a k jaké příležit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ste se načrtnout tvar kostela, mešity a pag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pojmy k jednotlivým náboženství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boženství: křesťanství, islám, juda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: mešita, korán, bible, Írán, Mekka, tóra, ramadán, velikonoce, svatý kříž, Polsko, Ježíš, Davidova hvězda, šíité, Jeruzalém, Vatikán, Zeď nářků, papež (dokážeš vymyslet dal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s se vytvořit příběh ve kterém by se objevily tyto pojm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0:48:43Z</dcterms:created>
  <dc:creator>kk</dc:creator>
  <dc:description/>
  <dc:language>en-US</dc:language>
  <cp:lastModifiedBy>kk</cp:lastModifiedBy>
  <dcterms:modified xsi:type="dcterms:W3CDTF">2007-03-29T19:40:46Z</dcterms:modified>
  <cp:revision>9</cp:revision>
  <dc:subject/>
  <dc:title>Náboženství ve světě</dc:title>
</cp:coreProperties>
</file>