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454-7BD0-48E4-A54A-320006D7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175-4EF9-4C89-906D-FEDA6F57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791-648D-4BEF-A956-59A894BB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569-1944-4909-A6F7-D1C71AF6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414-2B12-411C-8158-E6EA3EC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FDF-0F4A-4FF9-A0D1-D5BD9A62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D3F-8EB5-4B25-B717-75DC8BF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8EB-ED34-45C1-BD1C-60E1BF19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E83-3027-48CE-AE13-89B31C0B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F58-4BD3-4D8B-BC4E-20778B6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987-C80F-4350-AFB1-9C3210F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403-034C-43ED-8926-1694963F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6A97-2179-4722-BF17-39CA7D03D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ZINÁRODNÍ OBC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ádná země nevyrábí vše, zboží si země mezi sebou směňují, vzniká zahraniční (mezinárodní) obc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ření obchod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zvojové zem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yváží nezpracované nerostné suroviny a zemědělské produ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yspělé zem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yváží průmyslové výrobky a 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616360" cy="3730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73400" y="623736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ěření mezinárodního obchodu ve svě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ahraniční obchod tvoř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voz (import - I) a vývoz (export - 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kazatele zahraničního obcho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čet I a E = OB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díl I a E = OBCHODNÍ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ktivní bilance – převažuje E na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pasivní bilance – převažuje I nad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jdůležitějšími centry světového obchodu jsou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A, Japonsko a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4572000" cy="328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5720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572000" y="0"/>
          <a:ext cx="4572000" cy="328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0"/>
                    <a:ext cx="457200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4076640"/>
          <a:ext cx="6767640" cy="2305080"/>
        </p:xfrm>
        <a:graphic>
          <a:graphicData uri="http://schemas.openxmlformats.org/drawingml/2006/table">
            <a:tbl>
              <a:tblPr/>
              <a:tblGrid>
                <a:gridCol w="1698480"/>
                <a:gridCol w="50691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ÍLOVÉ ZEM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, Bolívie, Filipíny, Chile, Kolum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ko, Panama, Saúdská Arábie,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ropská u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zílie, ČR, Chorvatsko, Srbsko, Černá H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ďarsko, Polsko, Slovensko, Slovinsko, Ru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on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rálie, Korejská republika, Malajsie, Thaj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837080" y="3645000"/>
            <a:ext cx="55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LASTI SMĚŘOVÁNÍ ZAHRANIČNÍCH INV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s se zjistit co tyto pojmy znamenají: clo, kvóty, Světová obchodní organizace (WTO), zóny volného obchodu, bártrový obchod, převod plateb přes banku, monokulturní hospodářství, ropné země, obchodní bi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22:29Z</dcterms:created>
  <dc:creator>kk</dc:creator>
  <dc:description/>
  <dc:language>en-US</dc:language>
  <cp:lastModifiedBy>kk</cp:lastModifiedBy>
  <dcterms:modified xsi:type="dcterms:W3CDTF">2007-05-16T06:50:20Z</dcterms:modified>
  <cp:revision>8</cp:revision>
  <dc:subject/>
  <dc:title>MEZINÁRODNÍ OBCHOD</dc:title>
</cp:coreProperties>
</file>