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D08-9662-4626-9C4A-02836EDF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8EF-D1A2-4529-906F-FA5928FA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16B-DEB0-4481-8870-6162AA2A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7C3-9CFA-41BD-9223-1F72A6B3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110-BDEC-4624-AC8F-1C8A4E9A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AE0-A27E-4634-852A-84A1A61F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3B1-DC90-4D25-A9DE-76E20F69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E9B-B62F-46C3-B6DF-177561A1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AFA-9720-4751-89F3-CA628ABA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060-BBB0-4E6B-8D34-FC6C7C5E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3C3-7A06-4418-AA45-B9DDBF9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FFB-BA54-4152-B233-228B674C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9732-1FAF-4F0A-B0F5-A5046F9A0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ZEMNÍ POHYB OBYVATELST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092640"/>
            <a:ext cx="91440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ážete vymyslet důvody pohybu obyvatelstva v historii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1582560"/>
            <a:ext cx="6697800" cy="39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zemní pohyb obyvatelstva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gra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ěhování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nitrostátní – trend stěhování do měst = urb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mezistátní popř. mezikontinent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lší dělení migr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krátké x dlouhé, venkov x město, pravidelné x nepravidelné, dobrovolné x nucené, individuální x skupinové, legální x ilegální 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kazate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olutní počty, migrační saldo (MS=přistěhovalí – vystěhoval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ův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hospodářské (levná pracovní síla, odliv mozků aj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politické (emigrace, imigrace) – kde není demokratický režim - az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náboženské, národnostní a rasové – nesnášenliv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dobrovolné a násilné stěhování (vojenské oblasti, změny hranic aj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přírodní – stěhování do úrodných oblastí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blém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lém uprchlíků, etnická čistka, asimilace x segregace, extrémistické h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oučasné trendy ve svět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z „chudého jihu do bohatého severu“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z „východu na západ“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uprchlíci patří k nejdůležitějším typům migr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roste význam ilegálních migračních proud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roste účast ž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uplatňuje se přísnější politika imigračních zemí (víza apod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oučasné trendy v Č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ohyb z velkého města do jeho zázemí (suburbanizac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okračuje stěhování ze středně velkých měst s 20-50 tis. Obyvatel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ejvyšší migrační přírůstky jsou v obcích do 5 tis. obyvat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grace svě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211640" cy="270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4895640" cy="2981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500720" y="836640"/>
            <a:ext cx="44640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6360" y="0"/>
            <a:ext cx="37432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grace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324792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38560" y="476280"/>
            <a:ext cx="4105440" cy="2897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24000" y="3836880"/>
            <a:ext cx="4248000" cy="286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292720" y="3213000"/>
            <a:ext cx="28288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35:52Z</dcterms:created>
  <dc:creator>kk</dc:creator>
  <dc:description/>
  <dc:language>en-US</dc:language>
  <cp:lastModifiedBy>kk</cp:lastModifiedBy>
  <dcterms:modified xsi:type="dcterms:W3CDTF">2007-02-21T21:01:52Z</dcterms:modified>
  <cp:revision>16</cp:revision>
  <dc:subject/>
  <dc:title>ÚZEMNÍ POHYB OBYVATELSTVA</dc:title>
</cp:coreProperties>
</file>