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934-A32E-493D-AACC-AE7322EE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7C3-BE7C-478C-B182-A50B2C62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5E8-FF8A-4746-BA21-80511B7F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CE3-9BED-4E07-B282-CB131729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504-C820-4C49-8365-00E59EAB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8EA-627D-47C8-BFA6-BA747DF6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3D9-C72B-4ACC-8214-8A14D1EA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45A-5A2F-40A0-B375-44329123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C6D-2BCB-4829-AC5E-5551139B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308-3ED6-4F98-BECE-1E8B60D2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316-8F82-466B-9CD5-43FE5D39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5A6-E3BF-4148-A3DD-8E548F1B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EFB7-5303-4ED3-8BAA-C04EB432C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ĚSTSKÁ SÍD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856944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rčujeme podle několika hledis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čet obyvatel (v ČR nad 5000 obyva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stota obyv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vaha obyvatel pracujících v průmyslu a služb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áz zástavby (vícepodlažní dom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ožství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2541600"/>
            <a:ext cx="784872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ývoj mě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rově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třediska obchodu, řemesel a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ředově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spodářská a vojenská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čátek novověk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obchod (rozmach přístavů díky zámořským objevů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vově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řechod od agrární společnosti ke společnosti industriální (rozvoj průmyslu = výstavba obytných čtvr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časn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třediska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kteristické rysy vývoje v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19280" y="836640"/>
            <a:ext cx="3816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Urbaniz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soustřeďování obyvatel do měst (stěhování lidí do mě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glomer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soustředění sídel v prostoru  (souvisle zastavěné územ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onurb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spojení aglomer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gapoli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spojení více aglomerací či konurb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86640" y="1125360"/>
            <a:ext cx="1557360" cy="5069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315144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56360" y="1052640"/>
            <a:ext cx="1511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372360" y="2636640"/>
            <a:ext cx="1368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236000" y="414936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4360" y="5084640"/>
            <a:ext cx="576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ěkterá nej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starší známé město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JERICH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Izra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starší hlavní město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DAMAŠEK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Sý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rozlehlejší město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MOUNT IS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Austrá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výše položené město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WENCHUA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Čí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výše položené hl. město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LA PAZ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Bolív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ostatné úk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le tabulky zjisti následující úko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o kterých zemí patří jednotlivá mě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terá města prodělala nejvyšší přírůstek obyvatel, která naopak úby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jaký je celkový počet obyvatel 15-ti největších měst v roce 1950 a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e kterých světadílech jsou největší města (urči jejich počet) v letech 1950, 1990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76327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5:44:21Z</dcterms:created>
  <dc:creator>kk</dc:creator>
  <dc:description/>
  <dc:language>en-US</dc:language>
  <cp:lastModifiedBy>kk</cp:lastModifiedBy>
  <dcterms:modified xsi:type="dcterms:W3CDTF">2007-03-29T19:35:55Z</dcterms:modified>
  <cp:revision>10</cp:revision>
  <dc:subject/>
  <dc:title>MĚSTSKÁ SÍDLA</dc:title>
</cp:coreProperties>
</file>