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BF7C6-5FB2-4DB2-A713-38DA434E3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AB48F-7A94-40E4-808A-46EB6522E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30C43-11D2-40C0-82B2-96605054D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CB311-5DAC-434A-9EA2-E7C0A6EF8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FC5AB-B8F2-4107-A520-1B299E71F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5878E-A19B-426A-A6FC-ACCE72E6D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25ABA-8C66-4A67-8FB2-83A1BAD6F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FAF32-7D55-46DF-B473-70D95D7A8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3E3EF-DF7D-46D4-9CBB-C933E747A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E29D0-FCEB-424F-8C4C-0135E3738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D04D7-D32B-49A4-A25B-38A288920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DD71D-0045-4A1A-8928-67E374490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629D-2944-4242-833E-4F0A2C9449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HNISKA NEKLIDU V SOUČASNÉM SVĚTĚ</a:t>
            </a:r>
            <a:endParaRPr b="0" lang="en-US" sz="4400" spc="-1" strike="noStrike">
              <a:solidFill>
                <a:srgbClr val="000000"/>
              </a:solidFill>
              <a:latin typeface="Arial"/>
            </a:endParaRPr>
          </a:p>
        </p:txBody>
      </p:sp>
      <p:pic>
        <p:nvPicPr>
          <p:cNvPr id="42" name="" descr=""/>
          <p:cNvPicPr/>
          <p:nvPr/>
        </p:nvPicPr>
        <p:blipFill>
          <a:blip r:embed="rId1"/>
          <a:stretch/>
        </p:blipFill>
        <p:spPr>
          <a:xfrm>
            <a:off x="0" y="1557360"/>
            <a:ext cx="9144000" cy="502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5187960"/>
          </a:xfrm>
          <a:prstGeom prst="rect">
            <a:avLst/>
          </a:prstGeom>
          <a:ln w="0">
            <a:noFill/>
          </a:ln>
        </p:spPr>
      </p:pic>
      <p:sp>
        <p:nvSpPr>
          <p:cNvPr id="44" name="PlaceHolder 1"/>
          <p:cNvSpPr>
            <a:spLocks noGrp="1"/>
          </p:cNvSpPr>
          <p:nvPr>
            <p:ph/>
          </p:nvPr>
        </p:nvSpPr>
        <p:spPr>
          <a:xfrm>
            <a:off x="179280" y="5373360"/>
            <a:ext cx="8785440" cy="148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ěhem I. a II. světové války zahynulo přes 70 milionů obětí. V důsledku jaderného konfliktu vznikla tzv. studená válka během nichž ve 200 konfliktech zahynulo na 40 milionů lidí. Ale i v současnosti existuje na Zemi spousta konflikt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79280" y="620640"/>
            <a:ext cx="8964720" cy="56167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současnosti jsou nejméně stabilní regiony Afriky, Blízkého východu, jižní Asie.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000000"/>
                </a:solidFill>
                <a:uFillTx/>
                <a:latin typeface="Arial"/>
              </a:rPr>
              <a:t>Příčiny konfliktů:</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Občanská válka</a:t>
            </a:r>
            <a:r>
              <a:rPr b="0" lang="cs-CZ" sz="2000" spc="-1" strike="noStrike">
                <a:solidFill>
                  <a:srgbClr val="000000"/>
                </a:solidFill>
                <a:latin typeface="Arial"/>
              </a:rPr>
              <a:t> (např. Somálsko, Srí Lanka, Sierra Leone aj.)</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Národnostní a etnické</a:t>
            </a:r>
            <a:r>
              <a:rPr b="0" lang="cs-CZ" sz="2000" spc="-1" strike="noStrike">
                <a:solidFill>
                  <a:srgbClr val="000000"/>
                </a:solidFill>
                <a:latin typeface="Arial"/>
              </a:rPr>
              <a:t> (např. Kosovo a Srbsko, Turecko, Niger aj.)</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Náboženský konflikt</a:t>
            </a:r>
            <a:r>
              <a:rPr b="0" lang="cs-CZ" sz="2000" spc="-1" strike="noStrike">
                <a:solidFill>
                  <a:srgbClr val="000000"/>
                </a:solidFill>
                <a:latin typeface="Arial"/>
              </a:rPr>
              <a:t> (např. Indonésie, Egypt, Súdán aj.)</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Ozbrojený separatismus</a:t>
            </a:r>
            <a:r>
              <a:rPr b="0" lang="cs-CZ" sz="2000" spc="-1" strike="noStrike">
                <a:solidFill>
                  <a:srgbClr val="000000"/>
                </a:solidFill>
                <a:latin typeface="Arial"/>
              </a:rPr>
              <a:t> (např. Baskicko, Severní Irsko, Čečensko aj.)</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Guerillové hnutí</a:t>
            </a:r>
            <a:r>
              <a:rPr b="0" lang="cs-CZ" sz="2000" spc="-1" strike="noStrike">
                <a:solidFill>
                  <a:srgbClr val="000000"/>
                </a:solidFill>
                <a:latin typeface="Arial"/>
              </a:rPr>
              <a:t> (např. Laos, Nepál, Uganda, Kolumbie aj.)</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Snaha o samostatnost či autonomii pomocí politických prostředků</a:t>
            </a:r>
            <a:r>
              <a:rPr b="0" lang="cs-CZ" sz="2000" spc="-1" strike="noStrike">
                <a:solidFill>
                  <a:srgbClr val="000000"/>
                </a:solidFill>
                <a:latin typeface="Arial"/>
              </a:rPr>
              <a:t> (např. Québec, Tibet aj.)</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Dlouhodobé napětí mezi státy</a:t>
            </a:r>
            <a:r>
              <a:rPr b="0" lang="cs-CZ" sz="2000" spc="-1" strike="noStrike">
                <a:solidFill>
                  <a:srgbClr val="000000"/>
                </a:solidFill>
                <a:latin typeface="Arial"/>
              </a:rPr>
              <a:t> (např. Severní a Jižní Korea, Indie a Pákistán aj.)</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Sporné území</a:t>
            </a:r>
            <a:r>
              <a:rPr b="0" lang="cs-CZ" sz="2000" spc="-1" strike="noStrike">
                <a:solidFill>
                  <a:srgbClr val="000000"/>
                </a:solidFill>
                <a:latin typeface="Arial"/>
              </a:rPr>
              <a:t> (např. Kašmír, Ekvádor a Peru aj.)</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Perzekuce politických</a:t>
            </a:r>
            <a:r>
              <a:rPr b="0" lang="cs-CZ" sz="2000" spc="-1" strike="noStrike">
                <a:solidFill>
                  <a:srgbClr val="000000"/>
                </a:solidFill>
                <a:latin typeface="Arial"/>
              </a:rPr>
              <a:t> </a:t>
            </a:r>
            <a:r>
              <a:rPr b="1" i="1" lang="cs-CZ" sz="2000" spc="-1" strike="noStrike">
                <a:solidFill>
                  <a:srgbClr val="000000"/>
                </a:solidFill>
                <a:latin typeface="Arial"/>
              </a:rPr>
              <a:t>vězňů</a:t>
            </a:r>
            <a:r>
              <a:rPr b="0" lang="cs-CZ" sz="2000" spc="-1" strike="noStrike">
                <a:solidFill>
                  <a:srgbClr val="000000"/>
                </a:solidFill>
                <a:latin typeface="Arial"/>
              </a:rPr>
              <a:t> (např. Irák, Afghánistán, Bělorusko, Čína aj.)</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Osvobozenecký boj</a:t>
            </a:r>
            <a:r>
              <a:rPr b="0" lang="cs-CZ" sz="2000" spc="-1" strike="noStrike">
                <a:solidFill>
                  <a:srgbClr val="000000"/>
                </a:solidFill>
                <a:latin typeface="Arial"/>
              </a:rPr>
              <a:t> (např. Západní Sahara)</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Teroristické útoky</a:t>
            </a:r>
            <a:r>
              <a:rPr b="0" lang="cs-CZ" sz="2000" spc="-1" strike="noStrike">
                <a:solidFill>
                  <a:srgbClr val="000000"/>
                </a:solidFill>
                <a:latin typeface="Arial"/>
              </a:rPr>
              <a:t> (např. Libye, Irák, Afghánistán a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e vojsk OSN („modré přilby“)</a:t>
            </a:r>
            <a:endParaRPr b="0" lang="en-US" sz="4000" spc="-1" strike="noStrike">
              <a:solidFill>
                <a:srgbClr val="000000"/>
              </a:solidFill>
              <a:latin typeface="Arial"/>
            </a:endParaRPr>
          </a:p>
        </p:txBody>
      </p:sp>
      <p:sp>
        <p:nvSpPr>
          <p:cNvPr id="47" name="PlaceHolder 2"/>
          <p:cNvSpPr>
            <a:spLocks noGrp="1"/>
          </p:cNvSpPr>
          <p:nvPr>
            <p:ph/>
          </p:nvPr>
        </p:nvSpPr>
        <p:spPr>
          <a:xfrm>
            <a:off x="178920" y="1197000"/>
            <a:ext cx="475308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N vytvořila záhy po svém vzniku ozbrojené mnohonárodní mírové síly (modré přilby), jejichž úkolem je dohlížet na dodržování příměří, zabraňovat konfliktům, pomáhat při humanitárních akcích apod. Rozhodující slovo při jejich vysílání má Rada bezpečnosti. Vojáky vysílají pak jednotlivé členské země OSN, které pak podléhají velení OSN. </a:t>
            </a:r>
            <a:endParaRPr b="0" lang="en-US" sz="2800" spc="-1" strike="noStrike">
              <a:solidFill>
                <a:srgbClr val="000000"/>
              </a:solidFill>
              <a:latin typeface="Arial"/>
            </a:endParaRPr>
          </a:p>
        </p:txBody>
      </p:sp>
      <p:graphicFrame>
        <p:nvGraphicFramePr>
          <p:cNvPr id="48" name=""/>
          <p:cNvGraphicFramePr/>
          <p:nvPr/>
        </p:nvGraphicFramePr>
        <p:xfrm>
          <a:off x="5292720" y="2060640"/>
          <a:ext cx="3600360" cy="3911400"/>
        </p:xfrm>
        <a:graphic>
          <a:graphicData uri="http://schemas.openxmlformats.org/drawingml/2006/table">
            <a:tbl>
              <a:tblPr/>
              <a:tblGrid>
                <a:gridCol w="1476360"/>
                <a:gridCol w="1042920"/>
                <a:gridCol w="108108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blast působení</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ůsobení o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čet vojáků</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zrael - Egyp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ie - Pákistá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yp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6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lanské výši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ižní Liban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ák - Kuvaj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Západní Sahar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ruzie (Abcházi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ea typeface="Arial"/>
                        </a:rPr>
                        <a:t>Bosna a Hercegovni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ait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ředoafrická republi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osov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ea typeface="Arial"/>
                        </a:rPr>
                        <a:t>Sierra Leo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7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onžská republi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5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ea typeface="Arial"/>
                        </a:rPr>
                        <a:t>Východní Timo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0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
          <p:cNvSpPr/>
          <p:nvPr/>
        </p:nvSpPr>
        <p:spPr>
          <a:xfrm>
            <a:off x="5356800" y="1700280"/>
            <a:ext cx="346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ůsobení modrých přileb do roku 199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62028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zemní miny</a:t>
            </a:r>
            <a:endParaRPr b="0" lang="en-US" sz="4000" spc="-1" strike="noStrike">
              <a:solidFill>
                <a:srgbClr val="000000"/>
              </a:solidFill>
              <a:latin typeface="Arial"/>
            </a:endParaRPr>
          </a:p>
        </p:txBody>
      </p:sp>
      <p:sp>
        <p:nvSpPr>
          <p:cNvPr id="51" name="PlaceHolder 2"/>
          <p:cNvSpPr>
            <a:spLocks noGrp="1"/>
          </p:cNvSpPr>
          <p:nvPr>
            <p:ph/>
          </p:nvPr>
        </p:nvSpPr>
        <p:spPr>
          <a:xfrm>
            <a:off x="0" y="1341000"/>
            <a:ext cx="4788000" cy="576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ří k nejhrůznějším zbraním. Není obtížné je vyrobit a jsou laciné (asi 50-150 Kč) a proto se rozšířily do celého světa – podle odhadů je jich v 60 zemích více než 105 milionů min. Ty zůstávají v zemi i dlouhou dobu po ukončení konfliktu a představují hrozbu pro civilní obyvatelstvo. Každý rok zabíjí miny přibližně 25 000 lidí a mnoho lidí navíc zmrzačí. Likvidace min se pohybuje od 10-30 tisíc korun. </a:t>
            </a:r>
            <a:endParaRPr b="0" lang="en-US" sz="2400" spc="-1" strike="noStrike">
              <a:solidFill>
                <a:srgbClr val="000000"/>
              </a:solidFill>
              <a:latin typeface="Arial"/>
            </a:endParaRPr>
          </a:p>
        </p:txBody>
      </p:sp>
      <p:graphicFrame>
        <p:nvGraphicFramePr>
          <p:cNvPr id="52" name=""/>
          <p:cNvGraphicFramePr/>
          <p:nvPr/>
        </p:nvGraphicFramePr>
        <p:xfrm>
          <a:off x="5003640" y="1989000"/>
          <a:ext cx="4032360" cy="4069080"/>
        </p:xfrm>
        <a:graphic>
          <a:graphicData uri="http://schemas.openxmlformats.org/drawingml/2006/table">
            <a:tbl>
              <a:tblPr/>
              <a:tblGrid>
                <a:gridCol w="1440000"/>
                <a:gridCol w="1297080"/>
                <a:gridCol w="1295280"/>
              </a:tblGrid>
              <a:tr h="541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á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očet mi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očet min/km</a:t>
                      </a:r>
                      <a:r>
                        <a:rPr b="1" lang="en-US" sz="1400" spc="-1" strike="noStrike" baseline="30000">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gyp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Arial"/>
                        </a:rPr>
                        <a:t>23 000 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3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Írá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Arial"/>
                        </a:rPr>
                        <a:t>16 000 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go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Arial"/>
                        </a:rPr>
                        <a:t>15 000 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Čín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Arial"/>
                        </a:rPr>
                        <a:t>10 000 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fghánistá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Arial"/>
                        </a:rPr>
                        <a:t>10 000 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ambodž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Arial"/>
                        </a:rPr>
                        <a:t>.6 000 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tnam</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 500 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3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horvatsk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Arial"/>
                        </a:rPr>
                        <a:t>3 000 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osna a Hercegovin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Arial"/>
                        </a:rPr>
                        <a:t>3 000 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krajina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Arial"/>
                        </a:rPr>
                        <a:t>1 000 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
          <p:cNvSpPr/>
          <p:nvPr/>
        </p:nvSpPr>
        <p:spPr>
          <a:xfrm>
            <a:off x="6085800" y="1557360"/>
            <a:ext cx="178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zemní min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ostatná práce</a:t>
            </a:r>
            <a:endParaRPr b="0" lang="en-US" sz="4400" spc="-1" strike="noStrike">
              <a:solidFill>
                <a:srgbClr val="000000"/>
              </a:solidFill>
              <a:latin typeface="Arial"/>
            </a:endParaRPr>
          </a:p>
        </p:txBody>
      </p:sp>
      <p:sp>
        <p:nvSpPr>
          <p:cNvPr id="55"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kterých konfliktech v současnosti čtete v novinách nebo je vidíte ve zprávách? Jaké jsou jejich příčin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yhledejte v médiích (TV, noviny, internetu aj.) informace o právě probíhajícím konfliktu a diskutujte o ně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ysvětlete příčiny konfliktů na Balkáně, Blízkém východě, Afr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 se změnila politická situace v posledním desetiletí 20. století a v prvním desetiletí 21. století?</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é teroristické útoky proběhly v posledních letech? Které patřily k těm nejhorším? Jaké jsou důvody teroristických útoků? Myslíte, že média pomáhají teroristickým útoků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é konflikty proběhly v nedávné historii na území Č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9T13:33:50Z</dcterms:created>
  <dc:creator>kk</dc:creator>
  <dc:description/>
  <dc:language>en-US</dc:language>
  <cp:lastModifiedBy>kk</cp:lastModifiedBy>
  <dcterms:modified xsi:type="dcterms:W3CDTF">2007-06-19T20:21:49Z</dcterms:modified>
  <cp:revision>10</cp:revision>
  <dc:subject/>
  <dc:title>OHNISKA NEKLIDU V SOUČASNÉM SVĚTĚ</dc:title>
</cp:coreProperties>
</file>