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230-7B04-402E-B7A0-086AF30B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696-FCBE-4CF9-B7E3-67A9714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F27-8E73-4208-830B-256C3C5E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D1C-DFC2-4B63-A17A-95CD7F65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6D7-BC2B-4CCA-8DC7-602695E1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40F-894B-46C2-97F9-101B4F9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3BD-EE03-4DE1-8861-3207243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610-5DB0-4E95-AE88-C881A9EC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D9D-36D5-4B5E-8EFA-BC0139E4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046-915F-48B6-8543-8A40195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949-56E5-4254-8F73-9C8225A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409-BA65-4E49-B80A-9203FFA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317-8945-488E-A746-9FAAA3BE4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ÁDROVÉ A PERIFERN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8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ádrové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5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lké soustředění lidí, průmyslu, služeb, dopravy a finan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e světovém měřít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východ a západ USA, Honšú, západní Evropa (NSR, Francie, Nizozemsko, Anglie, Itálie), Moskva, Dom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 rámci státu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ČR (Praha, Plzeň Ostrava, Brno), Polsko (Varšava, Horní Slezsko, Katovice), Velká Británie (od Temže po Liverpool), Nizozemsko („Randstadt Holland“ – Rotterdam, Amsterodam, Utrecht), Francie – Pařiž, Německo – Porúří a Porý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57680" y="0"/>
            <a:ext cx="3586320" cy="388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2781360"/>
            <a:ext cx="3443400" cy="407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9134400">
            <a:off x="5239440" y="4214880"/>
            <a:ext cx="2243160" cy="23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fer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50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ízká hospodářská vyspělost, většinou i nízký počet obyva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ení podmínkou – např. Bangladéš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lasti: se špatnými přírodními podmínkami, území s nízkou životní úrovní i když hustě zalidněná (střední Asie, střední Afrika, Střední Amerika), místa kde dožívají původní obyvatelé (severní Kanada, Oceánie, Sahara, Amazonie, Sibiř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00720" y="1009800"/>
            <a:ext cx="4643280" cy="318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51640" y="4508640"/>
            <a:ext cx="255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mapě vyhledejte nejvýznamnější jádrové oblasti světa (viz. prezentace). Které z nich překračují hranice stá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á z uvedených měst jsou součástí čtyř největších jádrových oblastí světa (viz. prezentace): Detroit, Montevideo, Rangún, Jokohama, Toronto, Madrás, Essen, Nagoja, Los Angeles, Torino, Oslo, Ósaka, Cleve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jádrové a periferní oblasti jde najít v ČR? Vysvětlete příčiny jejich vzni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mezte jádrovou a periferní oblast vašeho regio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na mapě tyto periferní oblasti: Namibie, Středosibiřská vysočina, Středoafrická republika, Grónsko, Amazonie. Co mají tyto místa společ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20:00:28Z</dcterms:created>
  <dc:creator>kk</dc:creator>
  <dc:description/>
  <dc:language>en-US</dc:language>
  <cp:lastModifiedBy>kk</cp:lastModifiedBy>
  <dcterms:modified xsi:type="dcterms:W3CDTF">2007-04-11T20:48:00Z</dcterms:modified>
  <cp:revision>7</cp:revision>
  <dc:subject/>
  <dc:title> JÁDROVÉ A PERIFERNÍ OBLASTI</dc:title>
</cp:coreProperties>
</file>