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86F-98BF-4261-ABBA-E330A3E9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C38-110A-45CE-911E-22A86066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751-A1EB-43FA-9739-6F839FF5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D55-2954-41C3-A2E5-8C31ABB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91A-6538-4DF1-AE11-B589163C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95C-A9BF-4E8C-8CDA-E0E04DED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CEF-B4AB-475E-9D38-D43780E9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766-60DE-49FC-AF48-1C437CC4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B45-BCBC-4E57-9717-8EB9F865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5FB-0E64-4DA9-8995-C268BE1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3DB-91CB-4AF5-B907-87C8AF20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B42-7854-4EB5-AEED-20FCF51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D890-880C-4D94-9B4B-C85A87FB6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TNÍ HRA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3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zemí státu je suchozemský prostor, vnitřní a pobřežní vody i pod nimi a vzdušný prostor nad nimi – odděleno státní hranic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lení hran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řírod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ohoří – Pyreneje, řeky – Mekong, jezera – Velká jezera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uměl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ytvořeny kolonizátory, podél rovnoběžek a poledníků, geometrick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lediska vymez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istorick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ychází z dříve vymezených celk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rodnost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území obývané jediným národem – časté v Evrop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ombin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átní hranice v čísl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ranice mezi všemi státy světa činí celkem 250 708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íce sousedních států mají Rusko a Čína (1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4 států nemá přístup k moři - jsou to vnitrozemské stá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 vnitrozemské státy (Lichtenštejnsko a Uzbekistán) sousedí pouze s dalšími vnitrozemskými stá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vnitrozemské státy, které sousedí pouze s jedním státem, jsou Vatikán, San Marino (oba s Itálií) a Lesotho (s Jihoafrickou republiko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iné hlavní město, které leží na hranici 3 států je Bratislava (hlavní město Slovenska) - hraničí s Rakouskem a Maďarsk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183280" cy="3524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4365720"/>
            <a:ext cx="80755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a USA je typickým příkladem kombinací tvarů státních hranic. Ve kterých oblastech USA je použito tvaru hranice umělé a kde přírod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ry o stanovení hranic probíhaly a probíhaj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itickými prostřed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apř. po vál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ojenskými prostřed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apř. zabírání koloni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 hlediska vojensko-strategických se hovoří o hranicí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hod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kruhový tvar – např. Polsko)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hod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otáhlý tvar – např. Norsko) – viz. obr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řežení hran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minulosti (např. období studené války – ostnatý drá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současnosti (volnější pohyb - přináší problémy např. uprchlíci, pašerá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budoucnosti (zcela volný pohyb – např. Evropská un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3640" y="3860640"/>
            <a:ext cx="27954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znáš státy podle tvaru hran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1317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4338720"/>
            <a:ext cx="170028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9280" y="4508640"/>
            <a:ext cx="2880000" cy="197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348000" y="4437000"/>
            <a:ext cx="1690560" cy="217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95920" y="4192560"/>
            <a:ext cx="254808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372360" y="2060640"/>
            <a:ext cx="1643040" cy="2724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179280" y="692280"/>
            <a:ext cx="2752920" cy="2323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1979640" y="3068640"/>
            <a:ext cx="1452600" cy="1604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987640" y="981000"/>
            <a:ext cx="1300320" cy="184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3708360" y="2276640"/>
            <a:ext cx="2752920" cy="218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5219640" y="549360"/>
            <a:ext cx="2879640" cy="183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8560" y="1695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356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57280" y="5151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36560" y="3782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73280" y="17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9440" y="3187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0920" y="5222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2920" y="11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02360" y="313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7080" y="5851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5800" y="5996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vary hranic - 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131760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76720" y="4338720"/>
            <a:ext cx="1700280" cy="2519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4508640"/>
            <a:ext cx="2880000" cy="1974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348000" y="4437000"/>
            <a:ext cx="1690560" cy="217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595920" y="4192560"/>
            <a:ext cx="2548080" cy="266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372360" y="2060640"/>
            <a:ext cx="164304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79280" y="692280"/>
            <a:ext cx="2752920" cy="2323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1979640" y="3068640"/>
            <a:ext cx="1452600" cy="1604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2987640" y="981000"/>
            <a:ext cx="1300320" cy="184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708360" y="2276640"/>
            <a:ext cx="2752920" cy="2181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5219640" y="549360"/>
            <a:ext cx="2879640" cy="1832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88720" y="1700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360" y="35733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7640" y="5157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raj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7080" y="37893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0360" y="17733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ál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00" y="32130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x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52293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á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8160" y="1125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05080" y="31417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5445000"/>
            <a:ext cx="112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k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05080" y="60213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51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mapách vyhledejte příklady států s přírodní a umělou hranic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ké jsou důvody vzniku geometrických hranic? Jaké přináší problé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 kterých částech Evropy docházelo ve 20. století k častým změnám tvaru hranic? Z jakých důvo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ikrát Česká republika změnila své území jejímž byla součástí (od roku 1915 do dnešk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ké výhody přináší vstup ČR do EU při cestování do zahraničí v rámci samotné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20:37:25Z</dcterms:created>
  <dc:creator>kk</dc:creator>
  <dc:description/>
  <dc:language>en-US</dc:language>
  <cp:lastModifiedBy>jj</cp:lastModifiedBy>
  <dcterms:modified xsi:type="dcterms:W3CDTF">2009-05-12T18:54:09Z</dcterms:modified>
  <cp:revision>7</cp:revision>
  <dc:subject/>
  <dc:title>STÁTNÍ HRANICE</dc:title>
</cp:coreProperties>
</file>