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D97D-112D-4F3D-A29F-DDCCD0A14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84FE-7C69-44BE-954F-B01FF9476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12A1-CF11-48AC-90B0-95AFAC6C1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952F-0E32-4F67-A7AA-D72BBD5B6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80AC-9B39-46F9-844B-2203AF931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7EF6-702B-4113-A5B1-FC50D9974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BCE8-1622-4432-9B7D-795BE9DFC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B415-3506-4608-9461-A3127320D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8555-1780-4CC6-B6E4-F54F8E86F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7716-79B9-4CFA-85A1-7180D36CB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0C29-A2A3-41F3-BF44-35B979CE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B05D-F0F3-4499-B92F-5649A6D49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DC6CB-C7E8-4398-ABAC-9FC1C831C2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" Target="slide1.xml"/><Relationship Id="rId6" Type="http://schemas.openxmlformats.org/officeDocument/2006/relationships/slide" Target="slide1.xml"/><Relationship Id="rId7" Type="http://schemas.openxmlformats.org/officeDocument/2006/relationships/slide" Target="slide1.xml"/><Relationship Id="rId8" Type="http://schemas.openxmlformats.org/officeDocument/2006/relationships/slide" Target="slide1.xml"/><Relationship Id="rId9" Type="http://schemas.openxmlformats.org/officeDocument/2006/relationships/slide" Target="slide1.xml"/><Relationship Id="rId10" Type="http://schemas.openxmlformats.org/officeDocument/2006/relationships/slide" Target="slide1.xml"/><Relationship Id="rId1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novaskola.napajedla.net/slovnik.aspx" TargetMode="External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zemepis.com/eu.php" TargetMode="External"/><Relationship Id="rId2" Type="http://schemas.openxmlformats.org/officeDocument/2006/relationships/slide" Target="slide4.xml"/><Relationship Id="rId3" Type="http://schemas.openxmlformats.org/officeDocument/2006/relationships/hyperlink" Target="http://www.zemepis.com/oecd.php" TargetMode="External"/><Relationship Id="rId4" Type="http://schemas.openxmlformats.org/officeDocument/2006/relationships/hyperlink" Target="http://www.zemepis.com/asean.php" TargetMode="External"/><Relationship Id="rId5" Type="http://schemas.openxmlformats.org/officeDocument/2006/relationships/hyperlink" Target="http://www.zemepis.com/opec.php" TargetMode="Externa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LAVNÍ HOSPODÁŘSKÉ ORGANIZACE VE SVĚT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55640" y="1844640"/>
            <a:ext cx="7640640" cy="4230720"/>
          </a:xfrm>
          <a:prstGeom prst="rect">
            <a:avLst/>
          </a:prstGeom>
          <a:ln w="0">
            <a:noFill/>
          </a:ln>
        </p:spPr>
      </p:pic>
      <p:sp>
        <p:nvSpPr>
          <p:cNvPr id="43" name="">
            <a:hlinkClick r:id="rId2" action="ppaction://hlinksldjump"/>
          </p:cNvPr>
          <p:cNvSpPr/>
          <p:nvPr/>
        </p:nvSpPr>
        <p:spPr>
          <a:xfrm>
            <a:off x="4194000" y="2124000"/>
            <a:ext cx="1051200" cy="1047960"/>
          </a:xfrm>
          <a:custGeom>
            <a:avLst/>
            <a:gdLst/>
            <a:ahLst/>
            <a:rect l="l" t="t" r="r" b="b"/>
            <a:pathLst>
              <a:path w="662" h="660">
                <a:moveTo>
                  <a:pt x="594" y="0"/>
                </a:moveTo>
                <a:cubicBezTo>
                  <a:pt x="553" y="7"/>
                  <a:pt x="515" y="15"/>
                  <a:pt x="475" y="26"/>
                </a:cubicBezTo>
                <a:cubicBezTo>
                  <a:pt x="447" y="45"/>
                  <a:pt x="435" y="78"/>
                  <a:pt x="407" y="94"/>
                </a:cubicBezTo>
                <a:cubicBezTo>
                  <a:pt x="389" y="104"/>
                  <a:pt x="367" y="104"/>
                  <a:pt x="348" y="110"/>
                </a:cubicBezTo>
                <a:cubicBezTo>
                  <a:pt x="312" y="135"/>
                  <a:pt x="281" y="137"/>
                  <a:pt x="238" y="144"/>
                </a:cubicBezTo>
                <a:cubicBezTo>
                  <a:pt x="218" y="174"/>
                  <a:pt x="205" y="184"/>
                  <a:pt x="170" y="195"/>
                </a:cubicBezTo>
                <a:cubicBezTo>
                  <a:pt x="155" y="211"/>
                  <a:pt x="133" y="221"/>
                  <a:pt x="119" y="238"/>
                </a:cubicBezTo>
                <a:cubicBezTo>
                  <a:pt x="104" y="257"/>
                  <a:pt x="101" y="299"/>
                  <a:pt x="94" y="322"/>
                </a:cubicBezTo>
                <a:cubicBezTo>
                  <a:pt x="80" y="443"/>
                  <a:pt x="0" y="599"/>
                  <a:pt x="145" y="644"/>
                </a:cubicBezTo>
                <a:cubicBezTo>
                  <a:pt x="255" y="629"/>
                  <a:pt x="171" y="660"/>
                  <a:pt x="213" y="585"/>
                </a:cubicBezTo>
                <a:cubicBezTo>
                  <a:pt x="219" y="574"/>
                  <a:pt x="299" y="569"/>
                  <a:pt x="306" y="568"/>
                </a:cubicBezTo>
                <a:cubicBezTo>
                  <a:pt x="365" y="571"/>
                  <a:pt x="426" y="563"/>
                  <a:pt x="484" y="576"/>
                </a:cubicBezTo>
                <a:cubicBezTo>
                  <a:pt x="495" y="579"/>
                  <a:pt x="485" y="601"/>
                  <a:pt x="492" y="610"/>
                </a:cubicBezTo>
                <a:cubicBezTo>
                  <a:pt x="498" y="617"/>
                  <a:pt x="509" y="616"/>
                  <a:pt x="518" y="619"/>
                </a:cubicBezTo>
                <a:cubicBezTo>
                  <a:pt x="532" y="616"/>
                  <a:pt x="554" y="623"/>
                  <a:pt x="560" y="610"/>
                </a:cubicBezTo>
                <a:cubicBezTo>
                  <a:pt x="569" y="589"/>
                  <a:pt x="555" y="564"/>
                  <a:pt x="551" y="542"/>
                </a:cubicBezTo>
                <a:cubicBezTo>
                  <a:pt x="549" y="533"/>
                  <a:pt x="549" y="523"/>
                  <a:pt x="543" y="517"/>
                </a:cubicBezTo>
                <a:cubicBezTo>
                  <a:pt x="529" y="503"/>
                  <a:pt x="492" y="483"/>
                  <a:pt x="492" y="483"/>
                </a:cubicBezTo>
                <a:cubicBezTo>
                  <a:pt x="477" y="435"/>
                  <a:pt x="492" y="299"/>
                  <a:pt x="501" y="263"/>
                </a:cubicBezTo>
                <a:cubicBezTo>
                  <a:pt x="503" y="254"/>
                  <a:pt x="518" y="257"/>
                  <a:pt x="526" y="254"/>
                </a:cubicBezTo>
                <a:cubicBezTo>
                  <a:pt x="615" y="225"/>
                  <a:pt x="546" y="249"/>
                  <a:pt x="602" y="229"/>
                </a:cubicBezTo>
                <a:cubicBezTo>
                  <a:pt x="608" y="221"/>
                  <a:pt x="612" y="211"/>
                  <a:pt x="619" y="204"/>
                </a:cubicBezTo>
                <a:cubicBezTo>
                  <a:pt x="626" y="197"/>
                  <a:pt x="639" y="195"/>
                  <a:pt x="645" y="187"/>
                </a:cubicBezTo>
                <a:cubicBezTo>
                  <a:pt x="656" y="173"/>
                  <a:pt x="656" y="153"/>
                  <a:pt x="662" y="136"/>
                </a:cubicBezTo>
                <a:cubicBezTo>
                  <a:pt x="659" y="127"/>
                  <a:pt x="657" y="118"/>
                  <a:pt x="653" y="110"/>
                </a:cubicBezTo>
                <a:cubicBezTo>
                  <a:pt x="648" y="101"/>
                  <a:pt x="640" y="94"/>
                  <a:pt x="636" y="85"/>
                </a:cubicBezTo>
                <a:cubicBezTo>
                  <a:pt x="618" y="44"/>
                  <a:pt x="622" y="32"/>
                  <a:pt x="594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3" action="ppaction://hlinksldjump"/>
          </p:cNvPr>
          <p:cNvSpPr/>
          <p:nvPr/>
        </p:nvSpPr>
        <p:spPr>
          <a:xfrm>
            <a:off x="847800" y="1841400"/>
            <a:ext cx="2574720" cy="2005200"/>
          </a:xfrm>
          <a:custGeom>
            <a:avLst/>
            <a:gdLst/>
            <a:ahLst/>
            <a:rect l="l" t="t" r="r" b="b"/>
            <a:pathLst>
              <a:path w="1622" h="1263">
                <a:moveTo>
                  <a:pt x="0" y="416"/>
                </a:moveTo>
                <a:cubicBezTo>
                  <a:pt x="8" y="372"/>
                  <a:pt x="6" y="356"/>
                  <a:pt x="42" y="331"/>
                </a:cubicBezTo>
                <a:cubicBezTo>
                  <a:pt x="50" y="307"/>
                  <a:pt x="55" y="273"/>
                  <a:pt x="76" y="255"/>
                </a:cubicBezTo>
                <a:cubicBezTo>
                  <a:pt x="91" y="242"/>
                  <a:pt x="127" y="221"/>
                  <a:pt x="127" y="221"/>
                </a:cubicBezTo>
                <a:cubicBezTo>
                  <a:pt x="144" y="167"/>
                  <a:pt x="136" y="155"/>
                  <a:pt x="194" y="136"/>
                </a:cubicBezTo>
                <a:cubicBezTo>
                  <a:pt x="250" y="99"/>
                  <a:pt x="732" y="103"/>
                  <a:pt x="754" y="102"/>
                </a:cubicBezTo>
                <a:cubicBezTo>
                  <a:pt x="803" y="93"/>
                  <a:pt x="824" y="57"/>
                  <a:pt x="864" y="51"/>
                </a:cubicBezTo>
                <a:cubicBezTo>
                  <a:pt x="939" y="39"/>
                  <a:pt x="1016" y="41"/>
                  <a:pt x="1092" y="34"/>
                </a:cubicBezTo>
                <a:cubicBezTo>
                  <a:pt x="1204" y="0"/>
                  <a:pt x="1326" y="22"/>
                  <a:pt x="1440" y="26"/>
                </a:cubicBezTo>
                <a:cubicBezTo>
                  <a:pt x="1448" y="29"/>
                  <a:pt x="1459" y="28"/>
                  <a:pt x="1465" y="34"/>
                </a:cubicBezTo>
                <a:cubicBezTo>
                  <a:pt x="1470" y="39"/>
                  <a:pt x="1481" y="91"/>
                  <a:pt x="1482" y="94"/>
                </a:cubicBezTo>
                <a:cubicBezTo>
                  <a:pt x="1491" y="128"/>
                  <a:pt x="1495" y="141"/>
                  <a:pt x="1524" y="161"/>
                </a:cubicBezTo>
                <a:cubicBezTo>
                  <a:pt x="1571" y="234"/>
                  <a:pt x="1507" y="125"/>
                  <a:pt x="1550" y="305"/>
                </a:cubicBezTo>
                <a:cubicBezTo>
                  <a:pt x="1558" y="340"/>
                  <a:pt x="1585" y="367"/>
                  <a:pt x="1601" y="399"/>
                </a:cubicBezTo>
                <a:cubicBezTo>
                  <a:pt x="1622" y="485"/>
                  <a:pt x="1615" y="443"/>
                  <a:pt x="1601" y="610"/>
                </a:cubicBezTo>
                <a:cubicBezTo>
                  <a:pt x="1600" y="619"/>
                  <a:pt x="1599" y="631"/>
                  <a:pt x="1592" y="636"/>
                </a:cubicBezTo>
                <a:cubicBezTo>
                  <a:pt x="1577" y="646"/>
                  <a:pt x="1558" y="647"/>
                  <a:pt x="1541" y="653"/>
                </a:cubicBezTo>
                <a:cubicBezTo>
                  <a:pt x="1533" y="656"/>
                  <a:pt x="1516" y="661"/>
                  <a:pt x="1516" y="661"/>
                </a:cubicBezTo>
                <a:cubicBezTo>
                  <a:pt x="1498" y="679"/>
                  <a:pt x="1487" y="706"/>
                  <a:pt x="1465" y="720"/>
                </a:cubicBezTo>
                <a:cubicBezTo>
                  <a:pt x="1459" y="724"/>
                  <a:pt x="1380" y="745"/>
                  <a:pt x="1363" y="754"/>
                </a:cubicBezTo>
                <a:cubicBezTo>
                  <a:pt x="1338" y="786"/>
                  <a:pt x="1309" y="821"/>
                  <a:pt x="1287" y="856"/>
                </a:cubicBezTo>
                <a:cubicBezTo>
                  <a:pt x="1275" y="876"/>
                  <a:pt x="1270" y="898"/>
                  <a:pt x="1253" y="915"/>
                </a:cubicBezTo>
                <a:cubicBezTo>
                  <a:pt x="1227" y="941"/>
                  <a:pt x="1193" y="941"/>
                  <a:pt x="1160" y="949"/>
                </a:cubicBezTo>
                <a:cubicBezTo>
                  <a:pt x="1120" y="959"/>
                  <a:pt x="1083" y="975"/>
                  <a:pt x="1042" y="983"/>
                </a:cubicBezTo>
                <a:cubicBezTo>
                  <a:pt x="967" y="1058"/>
                  <a:pt x="1015" y="1032"/>
                  <a:pt x="889" y="1042"/>
                </a:cubicBezTo>
                <a:cubicBezTo>
                  <a:pt x="877" y="1081"/>
                  <a:pt x="872" y="1111"/>
                  <a:pt x="864" y="1152"/>
                </a:cubicBezTo>
                <a:cubicBezTo>
                  <a:pt x="862" y="1161"/>
                  <a:pt x="862" y="1173"/>
                  <a:pt x="855" y="1178"/>
                </a:cubicBezTo>
                <a:cubicBezTo>
                  <a:pt x="840" y="1188"/>
                  <a:pt x="804" y="1195"/>
                  <a:pt x="804" y="1195"/>
                </a:cubicBezTo>
                <a:cubicBezTo>
                  <a:pt x="798" y="1206"/>
                  <a:pt x="796" y="1220"/>
                  <a:pt x="787" y="1229"/>
                </a:cubicBezTo>
                <a:cubicBezTo>
                  <a:pt x="773" y="1243"/>
                  <a:pt x="737" y="1263"/>
                  <a:pt x="737" y="1263"/>
                </a:cubicBezTo>
                <a:cubicBezTo>
                  <a:pt x="657" y="1246"/>
                  <a:pt x="641" y="1192"/>
                  <a:pt x="576" y="1169"/>
                </a:cubicBezTo>
                <a:cubicBezTo>
                  <a:pt x="559" y="1123"/>
                  <a:pt x="549" y="1070"/>
                  <a:pt x="508" y="1042"/>
                </a:cubicBezTo>
                <a:cubicBezTo>
                  <a:pt x="492" y="1002"/>
                  <a:pt x="485" y="973"/>
                  <a:pt x="449" y="949"/>
                </a:cubicBezTo>
                <a:cubicBezTo>
                  <a:pt x="422" y="909"/>
                  <a:pt x="415" y="862"/>
                  <a:pt x="389" y="822"/>
                </a:cubicBezTo>
                <a:cubicBezTo>
                  <a:pt x="392" y="740"/>
                  <a:pt x="393" y="658"/>
                  <a:pt x="398" y="576"/>
                </a:cubicBezTo>
                <a:cubicBezTo>
                  <a:pt x="402" y="510"/>
                  <a:pt x="419" y="455"/>
                  <a:pt x="355" y="416"/>
                </a:cubicBezTo>
                <a:cubicBezTo>
                  <a:pt x="335" y="419"/>
                  <a:pt x="314" y="417"/>
                  <a:pt x="296" y="424"/>
                </a:cubicBezTo>
                <a:cubicBezTo>
                  <a:pt x="260" y="438"/>
                  <a:pt x="277" y="486"/>
                  <a:pt x="237" y="492"/>
                </a:cubicBezTo>
                <a:cubicBezTo>
                  <a:pt x="189" y="499"/>
                  <a:pt x="141" y="497"/>
                  <a:pt x="93" y="500"/>
                </a:cubicBezTo>
                <a:cubicBezTo>
                  <a:pt x="37" y="491"/>
                  <a:pt x="0" y="484"/>
                  <a:pt x="0" y="416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rId4" action="ppaction://hlinksldjump"/>
          </p:cNvPr>
          <p:cNvSpPr/>
          <p:nvPr/>
        </p:nvSpPr>
        <p:spPr>
          <a:xfrm>
            <a:off x="2550960" y="3990960"/>
            <a:ext cx="1173240" cy="1952640"/>
          </a:xfrm>
          <a:custGeom>
            <a:avLst/>
            <a:gdLst/>
            <a:ahLst/>
            <a:rect l="l" t="t" r="r" b="b"/>
            <a:pathLst>
              <a:path w="739" h="1230">
                <a:moveTo>
                  <a:pt x="240" y="1179"/>
                </a:moveTo>
                <a:cubicBezTo>
                  <a:pt x="221" y="1142"/>
                  <a:pt x="204" y="1096"/>
                  <a:pt x="180" y="1061"/>
                </a:cubicBezTo>
                <a:cubicBezTo>
                  <a:pt x="173" y="1017"/>
                  <a:pt x="170" y="995"/>
                  <a:pt x="146" y="959"/>
                </a:cubicBezTo>
                <a:cubicBezTo>
                  <a:pt x="137" y="919"/>
                  <a:pt x="130" y="880"/>
                  <a:pt x="121" y="840"/>
                </a:cubicBezTo>
                <a:cubicBezTo>
                  <a:pt x="126" y="763"/>
                  <a:pt x="127" y="727"/>
                  <a:pt x="146" y="662"/>
                </a:cubicBezTo>
                <a:cubicBezTo>
                  <a:pt x="152" y="642"/>
                  <a:pt x="147" y="616"/>
                  <a:pt x="163" y="603"/>
                </a:cubicBezTo>
                <a:cubicBezTo>
                  <a:pt x="172" y="596"/>
                  <a:pt x="186" y="598"/>
                  <a:pt x="197" y="595"/>
                </a:cubicBezTo>
                <a:cubicBezTo>
                  <a:pt x="222" y="557"/>
                  <a:pt x="237" y="569"/>
                  <a:pt x="273" y="544"/>
                </a:cubicBezTo>
                <a:cubicBezTo>
                  <a:pt x="276" y="533"/>
                  <a:pt x="285" y="521"/>
                  <a:pt x="282" y="510"/>
                </a:cubicBezTo>
                <a:cubicBezTo>
                  <a:pt x="276" y="490"/>
                  <a:pt x="248" y="459"/>
                  <a:pt x="248" y="459"/>
                </a:cubicBezTo>
                <a:cubicBezTo>
                  <a:pt x="232" y="410"/>
                  <a:pt x="253" y="456"/>
                  <a:pt x="214" y="417"/>
                </a:cubicBezTo>
                <a:cubicBezTo>
                  <a:pt x="175" y="378"/>
                  <a:pt x="221" y="399"/>
                  <a:pt x="172" y="383"/>
                </a:cubicBezTo>
                <a:cubicBezTo>
                  <a:pt x="116" y="330"/>
                  <a:pt x="85" y="317"/>
                  <a:pt x="11" y="307"/>
                </a:cubicBezTo>
                <a:cubicBezTo>
                  <a:pt x="14" y="267"/>
                  <a:pt x="0" y="216"/>
                  <a:pt x="28" y="188"/>
                </a:cubicBezTo>
                <a:cubicBezTo>
                  <a:pt x="76" y="140"/>
                  <a:pt x="109" y="136"/>
                  <a:pt x="172" y="129"/>
                </a:cubicBezTo>
                <a:cubicBezTo>
                  <a:pt x="205" y="117"/>
                  <a:pt x="241" y="109"/>
                  <a:pt x="273" y="95"/>
                </a:cubicBezTo>
                <a:cubicBezTo>
                  <a:pt x="308" y="80"/>
                  <a:pt x="325" y="53"/>
                  <a:pt x="358" y="36"/>
                </a:cubicBezTo>
                <a:cubicBezTo>
                  <a:pt x="428" y="0"/>
                  <a:pt x="339" y="58"/>
                  <a:pt x="409" y="10"/>
                </a:cubicBezTo>
                <a:cubicBezTo>
                  <a:pt x="453" y="77"/>
                  <a:pt x="406" y="58"/>
                  <a:pt x="528" y="70"/>
                </a:cubicBezTo>
                <a:cubicBezTo>
                  <a:pt x="590" y="90"/>
                  <a:pt x="604" y="137"/>
                  <a:pt x="638" y="188"/>
                </a:cubicBezTo>
                <a:cubicBezTo>
                  <a:pt x="639" y="190"/>
                  <a:pt x="687" y="204"/>
                  <a:pt x="689" y="205"/>
                </a:cubicBezTo>
                <a:cubicBezTo>
                  <a:pt x="718" y="225"/>
                  <a:pt x="729" y="239"/>
                  <a:pt x="739" y="273"/>
                </a:cubicBezTo>
                <a:cubicBezTo>
                  <a:pt x="732" y="358"/>
                  <a:pt x="728" y="368"/>
                  <a:pt x="705" y="434"/>
                </a:cubicBezTo>
                <a:cubicBezTo>
                  <a:pt x="696" y="490"/>
                  <a:pt x="681" y="541"/>
                  <a:pt x="663" y="595"/>
                </a:cubicBezTo>
                <a:cubicBezTo>
                  <a:pt x="660" y="605"/>
                  <a:pt x="646" y="606"/>
                  <a:pt x="638" y="612"/>
                </a:cubicBezTo>
                <a:cubicBezTo>
                  <a:pt x="612" y="634"/>
                  <a:pt x="613" y="636"/>
                  <a:pt x="595" y="662"/>
                </a:cubicBezTo>
                <a:cubicBezTo>
                  <a:pt x="586" y="690"/>
                  <a:pt x="553" y="739"/>
                  <a:pt x="553" y="739"/>
                </a:cubicBezTo>
                <a:cubicBezTo>
                  <a:pt x="538" y="802"/>
                  <a:pt x="523" y="820"/>
                  <a:pt x="460" y="840"/>
                </a:cubicBezTo>
                <a:cubicBezTo>
                  <a:pt x="396" y="882"/>
                  <a:pt x="372" y="973"/>
                  <a:pt x="350" y="1044"/>
                </a:cubicBezTo>
                <a:cubicBezTo>
                  <a:pt x="334" y="1176"/>
                  <a:pt x="367" y="1230"/>
                  <a:pt x="240" y="1179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5" action="ppaction://hlinksldjump"/>
          </p:cNvPr>
          <p:cNvSpPr/>
          <p:nvPr/>
        </p:nvSpPr>
        <p:spPr>
          <a:xfrm>
            <a:off x="5159520" y="1916280"/>
            <a:ext cx="3076560" cy="1217520"/>
          </a:xfrm>
          <a:custGeom>
            <a:avLst/>
            <a:gdLst/>
            <a:ahLst/>
            <a:rect l="l" t="t" r="r" b="b"/>
            <a:pathLst>
              <a:path w="1938" h="767">
                <a:moveTo>
                  <a:pt x="96" y="563"/>
                </a:moveTo>
                <a:cubicBezTo>
                  <a:pt x="79" y="552"/>
                  <a:pt x="62" y="540"/>
                  <a:pt x="45" y="529"/>
                </a:cubicBezTo>
                <a:cubicBezTo>
                  <a:pt x="37" y="524"/>
                  <a:pt x="20" y="513"/>
                  <a:pt x="20" y="513"/>
                </a:cubicBezTo>
                <a:cubicBezTo>
                  <a:pt x="0" y="456"/>
                  <a:pt x="12" y="400"/>
                  <a:pt x="54" y="360"/>
                </a:cubicBezTo>
                <a:cubicBezTo>
                  <a:pt x="62" y="293"/>
                  <a:pt x="67" y="230"/>
                  <a:pt x="45" y="165"/>
                </a:cubicBezTo>
                <a:cubicBezTo>
                  <a:pt x="99" y="162"/>
                  <a:pt x="152" y="162"/>
                  <a:pt x="206" y="157"/>
                </a:cubicBezTo>
                <a:cubicBezTo>
                  <a:pt x="247" y="153"/>
                  <a:pt x="247" y="113"/>
                  <a:pt x="274" y="97"/>
                </a:cubicBezTo>
                <a:cubicBezTo>
                  <a:pt x="335" y="60"/>
                  <a:pt x="400" y="68"/>
                  <a:pt x="469" y="64"/>
                </a:cubicBezTo>
                <a:cubicBezTo>
                  <a:pt x="593" y="0"/>
                  <a:pt x="613" y="41"/>
                  <a:pt x="824" y="47"/>
                </a:cubicBezTo>
                <a:cubicBezTo>
                  <a:pt x="904" y="71"/>
                  <a:pt x="911" y="66"/>
                  <a:pt x="1028" y="72"/>
                </a:cubicBezTo>
                <a:cubicBezTo>
                  <a:pt x="1066" y="79"/>
                  <a:pt x="1077" y="74"/>
                  <a:pt x="1104" y="97"/>
                </a:cubicBezTo>
                <a:cubicBezTo>
                  <a:pt x="1113" y="105"/>
                  <a:pt x="1119" y="117"/>
                  <a:pt x="1129" y="123"/>
                </a:cubicBezTo>
                <a:cubicBezTo>
                  <a:pt x="1177" y="153"/>
                  <a:pt x="1244" y="172"/>
                  <a:pt x="1299" y="182"/>
                </a:cubicBezTo>
                <a:cubicBezTo>
                  <a:pt x="1316" y="193"/>
                  <a:pt x="1339" y="199"/>
                  <a:pt x="1350" y="216"/>
                </a:cubicBezTo>
                <a:cubicBezTo>
                  <a:pt x="1355" y="224"/>
                  <a:pt x="1358" y="235"/>
                  <a:pt x="1366" y="241"/>
                </a:cubicBezTo>
                <a:cubicBezTo>
                  <a:pt x="1386" y="254"/>
                  <a:pt x="1467" y="269"/>
                  <a:pt x="1494" y="275"/>
                </a:cubicBezTo>
                <a:cubicBezTo>
                  <a:pt x="1514" y="274"/>
                  <a:pt x="1876" y="255"/>
                  <a:pt x="1909" y="275"/>
                </a:cubicBezTo>
                <a:cubicBezTo>
                  <a:pt x="1938" y="292"/>
                  <a:pt x="1900" y="368"/>
                  <a:pt x="1892" y="402"/>
                </a:cubicBezTo>
                <a:cubicBezTo>
                  <a:pt x="1882" y="444"/>
                  <a:pt x="1877" y="490"/>
                  <a:pt x="1858" y="529"/>
                </a:cubicBezTo>
                <a:cubicBezTo>
                  <a:pt x="1838" y="570"/>
                  <a:pt x="1793" y="580"/>
                  <a:pt x="1765" y="614"/>
                </a:cubicBezTo>
                <a:cubicBezTo>
                  <a:pt x="1758" y="622"/>
                  <a:pt x="1757" y="636"/>
                  <a:pt x="1748" y="640"/>
                </a:cubicBezTo>
                <a:cubicBezTo>
                  <a:pt x="1730" y="648"/>
                  <a:pt x="1708" y="645"/>
                  <a:pt x="1688" y="648"/>
                </a:cubicBezTo>
                <a:cubicBezTo>
                  <a:pt x="1655" y="696"/>
                  <a:pt x="1648" y="690"/>
                  <a:pt x="1587" y="682"/>
                </a:cubicBezTo>
                <a:cubicBezTo>
                  <a:pt x="1575" y="582"/>
                  <a:pt x="1591" y="603"/>
                  <a:pt x="1502" y="589"/>
                </a:cubicBezTo>
                <a:cubicBezTo>
                  <a:pt x="1485" y="578"/>
                  <a:pt x="1462" y="572"/>
                  <a:pt x="1451" y="555"/>
                </a:cubicBezTo>
                <a:cubicBezTo>
                  <a:pt x="1429" y="521"/>
                  <a:pt x="1443" y="535"/>
                  <a:pt x="1409" y="513"/>
                </a:cubicBezTo>
                <a:cubicBezTo>
                  <a:pt x="1386" y="516"/>
                  <a:pt x="1362" y="512"/>
                  <a:pt x="1341" y="521"/>
                </a:cubicBezTo>
                <a:cubicBezTo>
                  <a:pt x="1333" y="524"/>
                  <a:pt x="1339" y="540"/>
                  <a:pt x="1333" y="546"/>
                </a:cubicBezTo>
                <a:cubicBezTo>
                  <a:pt x="1327" y="552"/>
                  <a:pt x="1316" y="552"/>
                  <a:pt x="1307" y="555"/>
                </a:cubicBezTo>
                <a:cubicBezTo>
                  <a:pt x="1258" y="537"/>
                  <a:pt x="1255" y="538"/>
                  <a:pt x="1206" y="555"/>
                </a:cubicBezTo>
                <a:cubicBezTo>
                  <a:pt x="1122" y="544"/>
                  <a:pt x="1026" y="523"/>
                  <a:pt x="951" y="572"/>
                </a:cubicBezTo>
                <a:cubicBezTo>
                  <a:pt x="924" y="609"/>
                  <a:pt x="908" y="628"/>
                  <a:pt x="867" y="648"/>
                </a:cubicBezTo>
                <a:cubicBezTo>
                  <a:pt x="852" y="670"/>
                  <a:pt x="844" y="708"/>
                  <a:pt x="824" y="724"/>
                </a:cubicBezTo>
                <a:cubicBezTo>
                  <a:pt x="797" y="746"/>
                  <a:pt x="697" y="761"/>
                  <a:pt x="663" y="767"/>
                </a:cubicBezTo>
                <a:cubicBezTo>
                  <a:pt x="643" y="764"/>
                  <a:pt x="622" y="766"/>
                  <a:pt x="604" y="758"/>
                </a:cubicBezTo>
                <a:cubicBezTo>
                  <a:pt x="582" y="748"/>
                  <a:pt x="577" y="710"/>
                  <a:pt x="536" y="707"/>
                </a:cubicBezTo>
                <a:cubicBezTo>
                  <a:pt x="477" y="702"/>
                  <a:pt x="417" y="702"/>
                  <a:pt x="358" y="699"/>
                </a:cubicBezTo>
                <a:cubicBezTo>
                  <a:pt x="328" y="650"/>
                  <a:pt x="287" y="655"/>
                  <a:pt x="240" y="631"/>
                </a:cubicBezTo>
                <a:cubicBezTo>
                  <a:pt x="231" y="626"/>
                  <a:pt x="224" y="618"/>
                  <a:pt x="214" y="614"/>
                </a:cubicBezTo>
                <a:cubicBezTo>
                  <a:pt x="192" y="606"/>
                  <a:pt x="147" y="597"/>
                  <a:pt x="147" y="597"/>
                </a:cubicBezTo>
                <a:cubicBezTo>
                  <a:pt x="131" y="574"/>
                  <a:pt x="126" y="563"/>
                  <a:pt x="96" y="563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6" action="ppaction://hlinksldjump"/>
          </p:cNvPr>
          <p:cNvSpPr/>
          <p:nvPr/>
        </p:nvSpPr>
        <p:spPr>
          <a:xfrm>
            <a:off x="4913280" y="2519280"/>
            <a:ext cx="403200" cy="459000"/>
          </a:xfrm>
          <a:custGeom>
            <a:avLst/>
            <a:gdLst/>
            <a:ahLst/>
            <a:rect l="l" t="t" r="r" b="b"/>
            <a:pathLst>
              <a:path w="254" h="289">
                <a:moveTo>
                  <a:pt x="48" y="48"/>
                </a:moveTo>
                <a:cubicBezTo>
                  <a:pt x="51" y="85"/>
                  <a:pt x="46" y="123"/>
                  <a:pt x="56" y="158"/>
                </a:cubicBezTo>
                <a:cubicBezTo>
                  <a:pt x="58" y="166"/>
                  <a:pt x="75" y="159"/>
                  <a:pt x="81" y="166"/>
                </a:cubicBezTo>
                <a:cubicBezTo>
                  <a:pt x="88" y="175"/>
                  <a:pt x="83" y="191"/>
                  <a:pt x="90" y="200"/>
                </a:cubicBezTo>
                <a:cubicBezTo>
                  <a:pt x="108" y="223"/>
                  <a:pt x="146" y="213"/>
                  <a:pt x="175" y="217"/>
                </a:cubicBezTo>
                <a:cubicBezTo>
                  <a:pt x="178" y="237"/>
                  <a:pt x="167" y="265"/>
                  <a:pt x="183" y="277"/>
                </a:cubicBezTo>
                <a:cubicBezTo>
                  <a:pt x="199" y="289"/>
                  <a:pt x="230" y="284"/>
                  <a:pt x="242" y="268"/>
                </a:cubicBezTo>
                <a:cubicBezTo>
                  <a:pt x="254" y="252"/>
                  <a:pt x="243" y="227"/>
                  <a:pt x="234" y="209"/>
                </a:cubicBezTo>
                <a:cubicBezTo>
                  <a:pt x="229" y="199"/>
                  <a:pt x="169" y="187"/>
                  <a:pt x="158" y="183"/>
                </a:cubicBezTo>
                <a:cubicBezTo>
                  <a:pt x="146" y="150"/>
                  <a:pt x="156" y="131"/>
                  <a:pt x="166" y="99"/>
                </a:cubicBezTo>
                <a:cubicBezTo>
                  <a:pt x="163" y="76"/>
                  <a:pt x="167" y="52"/>
                  <a:pt x="158" y="31"/>
                </a:cubicBezTo>
                <a:cubicBezTo>
                  <a:pt x="152" y="17"/>
                  <a:pt x="0" y="0"/>
                  <a:pt x="48" y="48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7" action="ppaction://hlinksldjump"/>
          </p:cNvPr>
          <p:cNvSpPr/>
          <p:nvPr/>
        </p:nvSpPr>
        <p:spPr>
          <a:xfrm>
            <a:off x="4113360" y="2017800"/>
            <a:ext cx="861840" cy="484200"/>
          </a:xfrm>
          <a:custGeom>
            <a:avLst/>
            <a:gdLst/>
            <a:ahLst/>
            <a:rect l="l" t="t" r="r" b="b"/>
            <a:pathLst>
              <a:path w="543" h="305">
                <a:moveTo>
                  <a:pt x="475" y="305"/>
                </a:moveTo>
                <a:cubicBezTo>
                  <a:pt x="404" y="292"/>
                  <a:pt x="440" y="305"/>
                  <a:pt x="374" y="262"/>
                </a:cubicBezTo>
                <a:cubicBezTo>
                  <a:pt x="365" y="256"/>
                  <a:pt x="348" y="245"/>
                  <a:pt x="348" y="245"/>
                </a:cubicBezTo>
                <a:cubicBezTo>
                  <a:pt x="317" y="200"/>
                  <a:pt x="303" y="211"/>
                  <a:pt x="247" y="220"/>
                </a:cubicBezTo>
                <a:cubicBezTo>
                  <a:pt x="199" y="217"/>
                  <a:pt x="150" y="220"/>
                  <a:pt x="103" y="211"/>
                </a:cubicBezTo>
                <a:cubicBezTo>
                  <a:pt x="91" y="209"/>
                  <a:pt x="87" y="193"/>
                  <a:pt x="77" y="186"/>
                </a:cubicBezTo>
                <a:cubicBezTo>
                  <a:pt x="72" y="183"/>
                  <a:pt x="31" y="171"/>
                  <a:pt x="26" y="169"/>
                </a:cubicBezTo>
                <a:cubicBezTo>
                  <a:pt x="20" y="161"/>
                  <a:pt x="10" y="154"/>
                  <a:pt x="9" y="144"/>
                </a:cubicBezTo>
                <a:cubicBezTo>
                  <a:pt x="0" y="68"/>
                  <a:pt x="55" y="105"/>
                  <a:pt x="111" y="110"/>
                </a:cubicBezTo>
                <a:cubicBezTo>
                  <a:pt x="177" y="130"/>
                  <a:pt x="230" y="67"/>
                  <a:pt x="281" y="33"/>
                </a:cubicBezTo>
                <a:cubicBezTo>
                  <a:pt x="298" y="22"/>
                  <a:pt x="331" y="0"/>
                  <a:pt x="331" y="0"/>
                </a:cubicBezTo>
                <a:cubicBezTo>
                  <a:pt x="388" y="7"/>
                  <a:pt x="446" y="1"/>
                  <a:pt x="501" y="17"/>
                </a:cubicBezTo>
                <a:cubicBezTo>
                  <a:pt x="511" y="20"/>
                  <a:pt x="512" y="34"/>
                  <a:pt x="518" y="42"/>
                </a:cubicBezTo>
                <a:cubicBezTo>
                  <a:pt x="526" y="51"/>
                  <a:pt x="535" y="59"/>
                  <a:pt x="543" y="67"/>
                </a:cubicBezTo>
                <a:cubicBezTo>
                  <a:pt x="540" y="90"/>
                  <a:pt x="543" y="114"/>
                  <a:pt x="535" y="135"/>
                </a:cubicBezTo>
                <a:cubicBezTo>
                  <a:pt x="531" y="145"/>
                  <a:pt x="516" y="144"/>
                  <a:pt x="509" y="152"/>
                </a:cubicBezTo>
                <a:cubicBezTo>
                  <a:pt x="503" y="159"/>
                  <a:pt x="504" y="169"/>
                  <a:pt x="501" y="177"/>
                </a:cubicBezTo>
                <a:cubicBezTo>
                  <a:pt x="498" y="205"/>
                  <a:pt x="501" y="235"/>
                  <a:pt x="492" y="262"/>
                </a:cubicBezTo>
                <a:cubicBezTo>
                  <a:pt x="489" y="270"/>
                  <a:pt x="424" y="305"/>
                  <a:pt x="475" y="305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8" action="ppaction://hlinksldjump"/>
          </p:cNvPr>
          <p:cNvSpPr/>
          <p:nvPr/>
        </p:nvSpPr>
        <p:spPr>
          <a:xfrm>
            <a:off x="4132440" y="3429000"/>
            <a:ext cx="944280" cy="641520"/>
          </a:xfrm>
          <a:custGeom>
            <a:avLst/>
            <a:gdLst/>
            <a:ahLst/>
            <a:rect l="l" t="t" r="r" b="b"/>
            <a:pathLst>
              <a:path w="595" h="404">
                <a:moveTo>
                  <a:pt x="141" y="25"/>
                </a:moveTo>
                <a:cubicBezTo>
                  <a:pt x="121" y="28"/>
                  <a:pt x="100" y="26"/>
                  <a:pt x="82" y="34"/>
                </a:cubicBezTo>
                <a:cubicBezTo>
                  <a:pt x="73" y="38"/>
                  <a:pt x="72" y="52"/>
                  <a:pt x="65" y="59"/>
                </a:cubicBezTo>
                <a:cubicBezTo>
                  <a:pt x="58" y="66"/>
                  <a:pt x="48" y="70"/>
                  <a:pt x="40" y="76"/>
                </a:cubicBezTo>
                <a:cubicBezTo>
                  <a:pt x="44" y="201"/>
                  <a:pt x="0" y="353"/>
                  <a:pt x="141" y="398"/>
                </a:cubicBezTo>
                <a:cubicBezTo>
                  <a:pt x="260" y="395"/>
                  <a:pt x="379" y="404"/>
                  <a:pt x="497" y="390"/>
                </a:cubicBezTo>
                <a:cubicBezTo>
                  <a:pt x="509" y="389"/>
                  <a:pt x="503" y="367"/>
                  <a:pt x="506" y="356"/>
                </a:cubicBezTo>
                <a:cubicBezTo>
                  <a:pt x="518" y="301"/>
                  <a:pt x="500" y="322"/>
                  <a:pt x="540" y="296"/>
                </a:cubicBezTo>
                <a:cubicBezTo>
                  <a:pt x="562" y="264"/>
                  <a:pt x="566" y="242"/>
                  <a:pt x="573" y="203"/>
                </a:cubicBezTo>
                <a:cubicBezTo>
                  <a:pt x="566" y="78"/>
                  <a:pt x="595" y="45"/>
                  <a:pt x="489" y="68"/>
                </a:cubicBezTo>
                <a:cubicBezTo>
                  <a:pt x="431" y="107"/>
                  <a:pt x="457" y="96"/>
                  <a:pt x="413" y="110"/>
                </a:cubicBezTo>
                <a:cubicBezTo>
                  <a:pt x="410" y="109"/>
                  <a:pt x="358" y="98"/>
                  <a:pt x="353" y="93"/>
                </a:cubicBezTo>
                <a:cubicBezTo>
                  <a:pt x="286" y="26"/>
                  <a:pt x="351" y="52"/>
                  <a:pt x="294" y="34"/>
                </a:cubicBezTo>
                <a:cubicBezTo>
                  <a:pt x="252" y="5"/>
                  <a:pt x="230" y="6"/>
                  <a:pt x="175" y="0"/>
                </a:cubicBezTo>
                <a:cubicBezTo>
                  <a:pt x="161" y="3"/>
                  <a:pt x="145" y="1"/>
                  <a:pt x="133" y="8"/>
                </a:cubicBezTo>
                <a:cubicBezTo>
                  <a:pt x="124" y="13"/>
                  <a:pt x="112" y="25"/>
                  <a:pt x="116" y="34"/>
                </a:cubicBezTo>
                <a:cubicBezTo>
                  <a:pt x="120" y="42"/>
                  <a:pt x="133" y="28"/>
                  <a:pt x="141" y="25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9" action="ppaction://hlinksldjump"/>
          </p:cNvPr>
          <p:cNvSpPr/>
          <p:nvPr/>
        </p:nvSpPr>
        <p:spPr>
          <a:xfrm>
            <a:off x="5499000" y="3213000"/>
            <a:ext cx="890640" cy="576360"/>
          </a:xfrm>
          <a:custGeom>
            <a:avLst/>
            <a:gdLst/>
            <a:ahLst/>
            <a:rect l="l" t="t" r="r" b="b"/>
            <a:pathLst>
              <a:path w="561" h="363">
                <a:moveTo>
                  <a:pt x="102" y="26"/>
                </a:moveTo>
                <a:cubicBezTo>
                  <a:pt x="2" y="35"/>
                  <a:pt x="24" y="18"/>
                  <a:pt x="0" y="85"/>
                </a:cubicBezTo>
                <a:cubicBezTo>
                  <a:pt x="5" y="118"/>
                  <a:pt x="8" y="181"/>
                  <a:pt x="26" y="212"/>
                </a:cubicBezTo>
                <a:cubicBezTo>
                  <a:pt x="42" y="240"/>
                  <a:pt x="102" y="272"/>
                  <a:pt x="102" y="272"/>
                </a:cubicBezTo>
                <a:cubicBezTo>
                  <a:pt x="141" y="329"/>
                  <a:pt x="117" y="315"/>
                  <a:pt x="161" y="331"/>
                </a:cubicBezTo>
                <a:cubicBezTo>
                  <a:pt x="249" y="328"/>
                  <a:pt x="347" y="363"/>
                  <a:pt x="424" y="322"/>
                </a:cubicBezTo>
                <a:cubicBezTo>
                  <a:pt x="561" y="249"/>
                  <a:pt x="363" y="151"/>
                  <a:pt x="331" y="144"/>
                </a:cubicBezTo>
                <a:cubicBezTo>
                  <a:pt x="288" y="117"/>
                  <a:pt x="313" y="134"/>
                  <a:pt x="255" y="94"/>
                </a:cubicBezTo>
                <a:cubicBezTo>
                  <a:pt x="245" y="87"/>
                  <a:pt x="240" y="74"/>
                  <a:pt x="229" y="68"/>
                </a:cubicBezTo>
                <a:cubicBezTo>
                  <a:pt x="213" y="59"/>
                  <a:pt x="193" y="61"/>
                  <a:pt x="178" y="51"/>
                </a:cubicBezTo>
                <a:cubicBezTo>
                  <a:pt x="161" y="40"/>
                  <a:pt x="145" y="28"/>
                  <a:pt x="128" y="17"/>
                </a:cubicBezTo>
                <a:cubicBezTo>
                  <a:pt x="119" y="11"/>
                  <a:pt x="102" y="0"/>
                  <a:pt x="102" y="0"/>
                </a:cubicBezTo>
                <a:cubicBezTo>
                  <a:pt x="82" y="31"/>
                  <a:pt x="75" y="26"/>
                  <a:pt x="102" y="26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10" action="ppaction://hlinksldjump"/>
          </p:cNvPr>
          <p:cNvSpPr/>
          <p:nvPr/>
        </p:nvSpPr>
        <p:spPr>
          <a:xfrm>
            <a:off x="6907320" y="3429000"/>
            <a:ext cx="1385640" cy="1212840"/>
          </a:xfrm>
          <a:custGeom>
            <a:avLst/>
            <a:gdLst/>
            <a:ahLst/>
            <a:rect l="l" t="t" r="r" b="b"/>
            <a:pathLst>
              <a:path w="873" h="764">
                <a:moveTo>
                  <a:pt x="45" y="119"/>
                </a:moveTo>
                <a:cubicBezTo>
                  <a:pt x="54" y="43"/>
                  <a:pt x="48" y="37"/>
                  <a:pt x="105" y="0"/>
                </a:cubicBezTo>
                <a:cubicBezTo>
                  <a:pt x="119" y="3"/>
                  <a:pt x="135" y="0"/>
                  <a:pt x="147" y="8"/>
                </a:cubicBezTo>
                <a:cubicBezTo>
                  <a:pt x="162" y="18"/>
                  <a:pt x="150" y="48"/>
                  <a:pt x="164" y="59"/>
                </a:cubicBezTo>
                <a:cubicBezTo>
                  <a:pt x="170" y="64"/>
                  <a:pt x="219" y="80"/>
                  <a:pt x="232" y="85"/>
                </a:cubicBezTo>
                <a:cubicBezTo>
                  <a:pt x="256" y="76"/>
                  <a:pt x="292" y="59"/>
                  <a:pt x="316" y="85"/>
                </a:cubicBezTo>
                <a:cubicBezTo>
                  <a:pt x="331" y="102"/>
                  <a:pt x="317" y="131"/>
                  <a:pt x="325" y="152"/>
                </a:cubicBezTo>
                <a:cubicBezTo>
                  <a:pt x="341" y="197"/>
                  <a:pt x="368" y="214"/>
                  <a:pt x="409" y="229"/>
                </a:cubicBezTo>
                <a:cubicBezTo>
                  <a:pt x="429" y="226"/>
                  <a:pt x="451" y="229"/>
                  <a:pt x="469" y="220"/>
                </a:cubicBezTo>
                <a:cubicBezTo>
                  <a:pt x="477" y="216"/>
                  <a:pt x="473" y="203"/>
                  <a:pt x="477" y="195"/>
                </a:cubicBezTo>
                <a:cubicBezTo>
                  <a:pt x="491" y="166"/>
                  <a:pt x="494" y="169"/>
                  <a:pt x="520" y="152"/>
                </a:cubicBezTo>
                <a:cubicBezTo>
                  <a:pt x="541" y="184"/>
                  <a:pt x="556" y="225"/>
                  <a:pt x="587" y="246"/>
                </a:cubicBezTo>
                <a:cubicBezTo>
                  <a:pt x="602" y="291"/>
                  <a:pt x="607" y="321"/>
                  <a:pt x="647" y="347"/>
                </a:cubicBezTo>
                <a:cubicBezTo>
                  <a:pt x="671" y="383"/>
                  <a:pt x="660" y="399"/>
                  <a:pt x="697" y="424"/>
                </a:cubicBezTo>
                <a:cubicBezTo>
                  <a:pt x="717" y="454"/>
                  <a:pt x="735" y="454"/>
                  <a:pt x="765" y="474"/>
                </a:cubicBezTo>
                <a:cubicBezTo>
                  <a:pt x="780" y="516"/>
                  <a:pt x="768" y="533"/>
                  <a:pt x="808" y="559"/>
                </a:cubicBezTo>
                <a:cubicBezTo>
                  <a:pt x="873" y="764"/>
                  <a:pt x="731" y="689"/>
                  <a:pt x="553" y="695"/>
                </a:cubicBezTo>
                <a:cubicBezTo>
                  <a:pt x="525" y="710"/>
                  <a:pt x="499" y="726"/>
                  <a:pt x="469" y="737"/>
                </a:cubicBezTo>
                <a:cubicBezTo>
                  <a:pt x="432" y="734"/>
                  <a:pt x="395" y="736"/>
                  <a:pt x="359" y="728"/>
                </a:cubicBezTo>
                <a:cubicBezTo>
                  <a:pt x="343" y="724"/>
                  <a:pt x="332" y="708"/>
                  <a:pt x="316" y="703"/>
                </a:cubicBezTo>
                <a:cubicBezTo>
                  <a:pt x="300" y="697"/>
                  <a:pt x="282" y="698"/>
                  <a:pt x="265" y="695"/>
                </a:cubicBezTo>
                <a:cubicBezTo>
                  <a:pt x="249" y="689"/>
                  <a:pt x="227" y="684"/>
                  <a:pt x="215" y="669"/>
                </a:cubicBezTo>
                <a:cubicBezTo>
                  <a:pt x="201" y="652"/>
                  <a:pt x="201" y="628"/>
                  <a:pt x="189" y="610"/>
                </a:cubicBezTo>
                <a:cubicBezTo>
                  <a:pt x="172" y="586"/>
                  <a:pt x="161" y="582"/>
                  <a:pt x="138" y="568"/>
                </a:cubicBezTo>
                <a:cubicBezTo>
                  <a:pt x="132" y="559"/>
                  <a:pt x="125" y="552"/>
                  <a:pt x="121" y="542"/>
                </a:cubicBezTo>
                <a:cubicBezTo>
                  <a:pt x="114" y="526"/>
                  <a:pt x="105" y="491"/>
                  <a:pt x="105" y="491"/>
                </a:cubicBezTo>
                <a:cubicBezTo>
                  <a:pt x="102" y="392"/>
                  <a:pt x="106" y="293"/>
                  <a:pt x="96" y="195"/>
                </a:cubicBezTo>
                <a:cubicBezTo>
                  <a:pt x="95" y="183"/>
                  <a:pt x="0" y="119"/>
                  <a:pt x="45" y="119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95280" y="764640"/>
            <a:ext cx="87487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 účelem prohloubení a usnadnění ekonomické spolupráce se vytváří HOSPODÁŘSKÉ ORGANIZ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yto organizace přispívají k hospodářskému i sociálnímu rozvoji členských států a vyrovnávání úrovně rozvoje mezi nim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Dělen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egionální ekonomická sdružení (EU, NAFTA, OECD aj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větvové (surovinové) organizace (OPEC – země vyvážející ropu, ale existující i organizace pro jiné komodity: banány = UBEC, kávu = ICO, bauxit = IBA aj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jisti o jaké organizace jde?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62920" y="6237360"/>
            <a:ext cx="54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užijte geografické tabulky, nebo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lovník pojm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3440" y="249228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21080" y="3284640"/>
            <a:ext cx="10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F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918160" y="220500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F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859640" y="234936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26000" y="183996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F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7640" y="277488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EC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49640" y="378288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78160" y="4365720"/>
            <a:ext cx="10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85440" y="4221000"/>
            <a:ext cx="166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RCOS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94360" y="4863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řílohy k hospodářským organizací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0" y="1052640"/>
          <a:ext cx="4608360" cy="3593880"/>
        </p:xfrm>
        <a:graphic>
          <a:graphicData uri="http://schemas.openxmlformats.org/drawingml/2006/table">
            <a:tbl>
              <a:tblPr/>
              <a:tblGrid>
                <a:gridCol w="1403280"/>
                <a:gridCol w="847800"/>
                <a:gridCol w="1420560"/>
                <a:gridCol w="93672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ÁZEV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ZNI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ÍD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ČLEN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Times New Roman"/>
                          <a:hlinkClick r:id="rId1"/>
                        </a:rPr>
                        <a:t>EU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57 (199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Times New Roman"/>
                          <a:hlinkClick r:id="rId2" action="ppaction://hlinksldjump"/>
                        </a:rPr>
                        <a:t>Bruxel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Times New Roman"/>
                          <a:hlinkClick r:id="rId3"/>
                        </a:rPr>
                        <a:t>OECD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r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Times New Roman"/>
                          <a:hlinkClick r:id="rId4"/>
                        </a:rPr>
                        <a:t>ASE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nko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Times New Roman"/>
                          <a:hlinkClick r:id="rId5"/>
                        </a:rPr>
                        <a:t>OPE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i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F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RCOS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uenos Ai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F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F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udap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COW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bu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"/>
          <p:cNvSpPr/>
          <p:nvPr/>
        </p:nvSpPr>
        <p:spPr>
          <a:xfrm>
            <a:off x="329400" y="4653000"/>
            <a:ext cx="337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lavní hospodářské organiz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296320" y="2565360"/>
            <a:ext cx="328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ovnání největších ekonomi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4643280" y="2997360"/>
            <a:ext cx="450072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9T20:15:33Z</dcterms:created>
  <dc:creator>kk</dc:creator>
  <dc:description/>
  <dc:language>en-US</dc:language>
  <cp:lastModifiedBy>kk</cp:lastModifiedBy>
  <dcterms:modified xsi:type="dcterms:W3CDTF">2007-05-21T15:38:06Z</dcterms:modified>
  <cp:revision>10</cp:revision>
  <dc:subject/>
  <dc:title>HLAVNÍ HOSPODÁŘSKÉ ORGANIZACE VE SVĚTĚ</dc:title>
</cp:coreProperties>
</file>