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FB7-FBC0-4A9E-82C9-069E8EB2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7AB-B02C-4445-A3F9-1629D4ED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2CA-8855-42EB-A1CD-0044E4B6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E96-0399-4C63-9A39-01B4A6CF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A48-E64F-4B73-844C-4ABACE93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A5F-3486-4575-86D5-78B13DBD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09A-DB5A-4425-837F-EEB68A80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787-8834-4991-A0E6-6D874151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CE6-3EFD-4FBF-9B06-3563B7F4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676-41A5-479D-A65B-B379DDD2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EC0-8858-4FF9-9DCD-CF030268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6CC-EF5E-4777-9072-5CA699B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47A9-4DFE-4B11-B208-E283BB7B3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" Target="slide1.xml"/><Relationship Id="rId16" Type="http://schemas.openxmlformats.org/officeDocument/2006/relationships/slide" Target="slide1.xml"/><Relationship Id="rId17" Type="http://schemas.openxmlformats.org/officeDocument/2006/relationships/slide" Target="slide1.xml"/><Relationship Id="rId18" Type="http://schemas.openxmlformats.org/officeDocument/2006/relationships/slide" Target="slide1.xml"/><Relationship Id="rId19" Type="http://schemas.openxmlformats.org/officeDocument/2006/relationships/slide" Target="slide1.xml"/><Relationship Id="rId20" Type="http://schemas.openxmlformats.org/officeDocument/2006/relationships/slide" Target="slide1.xml"/><Relationship Id="rId21" Type="http://schemas.openxmlformats.org/officeDocument/2006/relationships/slide" Target="slide1.xml"/><Relationship Id="rId22" Type="http://schemas.openxmlformats.org/officeDocument/2006/relationships/slide" Target="slide1.xml"/><Relationship Id="rId23" Type="http://schemas.openxmlformats.org/officeDocument/2006/relationships/slide" Target="slide1.xml"/><Relationship Id="rId24" Type="http://schemas.openxmlformats.org/officeDocument/2006/relationships/slide" Target="slide1.xml"/><Relationship Id="rId25" Type="http://schemas.openxmlformats.org/officeDocument/2006/relationships/slide" Target="slide1.xml"/><Relationship Id="rId26" Type="http://schemas.openxmlformats.org/officeDocument/2006/relationships/slide" Target="slide1.xml"/><Relationship Id="rId2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vropska-unie.cz/" TargetMode="External"/><Relationship Id="rId2" Type="http://schemas.openxmlformats.org/officeDocument/2006/relationships/hyperlink" Target="http://www.evropsky-parlament.cz/" TargetMode="External"/><Relationship Id="rId3" Type="http://schemas.openxmlformats.org/officeDocument/2006/relationships/hyperlink" Target="http://www.europa.eu/" TargetMode="External"/><Relationship Id="rId4" Type="http://schemas.openxmlformats.org/officeDocument/2006/relationships/hyperlink" Target="http://www.euroskop.cz/" TargetMode="External"/><Relationship Id="rId5" Type="http://schemas.openxmlformats.org/officeDocument/2006/relationships/hyperlink" Target="http://www.euroinfocentrum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uropa.eu/abc/travel/index_cs-htm" TargetMode="External"/><Relationship Id="rId2" Type="http://schemas.openxmlformats.org/officeDocument/2006/relationships/hyperlink" Target="http://www.euroskop.cz/42783/clanek/cestovani-v-evropske-uni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ortal.mpsv.cz/eures" TargetMode="External"/><Relationship Id="rId2" Type="http://schemas.openxmlformats.org/officeDocument/2006/relationships/hyperlink" Target="http://www.euroskop.cz/47542/clanek/pristup-na-pracovni-trh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urodesk.cz/" TargetMode="External"/><Relationship Id="rId2" Type="http://schemas.openxmlformats.org/officeDocument/2006/relationships/hyperlink" Target="http://ec.europa.eu/ploteus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rukturalni-fondy.cz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ROPSKÁ U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264200" cy="4929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Euro"/>
          <p:cNvPicPr/>
          <p:nvPr/>
        </p:nvPicPr>
        <p:blipFill>
          <a:blip r:embed="rId2"/>
          <a:stretch/>
        </p:blipFill>
        <p:spPr>
          <a:xfrm>
            <a:off x="6156360" y="270828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Evropská vlajka"/>
          <p:cNvPicPr/>
          <p:nvPr/>
        </p:nvPicPr>
        <p:blipFill>
          <a:blip r:embed="rId3"/>
          <a:stretch/>
        </p:blipFill>
        <p:spPr>
          <a:xfrm>
            <a:off x="5867280" y="1989000"/>
            <a:ext cx="1047960" cy="6955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311560" y="2662200"/>
            <a:ext cx="957240" cy="1227240"/>
          </a:xfrm>
          <a:custGeom>
            <a:avLst/>
            <a:gdLst/>
            <a:ahLst/>
            <a:rect l="l" t="t" r="r" b="b"/>
            <a:pathLst>
              <a:path w="603" h="773">
                <a:moveTo>
                  <a:pt x="169" y="461"/>
                </a:moveTo>
                <a:cubicBezTo>
                  <a:pt x="146" y="455"/>
                  <a:pt x="120" y="456"/>
                  <a:pt x="98" y="446"/>
                </a:cubicBezTo>
                <a:cubicBezTo>
                  <a:pt x="81" y="438"/>
                  <a:pt x="51" y="414"/>
                  <a:pt x="51" y="414"/>
                </a:cubicBezTo>
                <a:cubicBezTo>
                  <a:pt x="41" y="398"/>
                  <a:pt x="30" y="383"/>
                  <a:pt x="20" y="367"/>
                </a:cubicBezTo>
                <a:cubicBezTo>
                  <a:pt x="0" y="337"/>
                  <a:pt x="80" y="292"/>
                  <a:pt x="98" y="280"/>
                </a:cubicBezTo>
                <a:cubicBezTo>
                  <a:pt x="121" y="246"/>
                  <a:pt x="148" y="219"/>
                  <a:pt x="169" y="185"/>
                </a:cubicBezTo>
                <a:cubicBezTo>
                  <a:pt x="177" y="155"/>
                  <a:pt x="223" y="64"/>
                  <a:pt x="248" y="43"/>
                </a:cubicBezTo>
                <a:cubicBezTo>
                  <a:pt x="255" y="38"/>
                  <a:pt x="264" y="38"/>
                  <a:pt x="272" y="35"/>
                </a:cubicBezTo>
                <a:cubicBezTo>
                  <a:pt x="299" y="9"/>
                  <a:pt x="307" y="0"/>
                  <a:pt x="343" y="12"/>
                </a:cubicBezTo>
                <a:cubicBezTo>
                  <a:pt x="363" y="71"/>
                  <a:pt x="349" y="46"/>
                  <a:pt x="382" y="90"/>
                </a:cubicBezTo>
                <a:cubicBezTo>
                  <a:pt x="394" y="127"/>
                  <a:pt x="415" y="120"/>
                  <a:pt x="430" y="154"/>
                </a:cubicBezTo>
                <a:cubicBezTo>
                  <a:pt x="437" y="169"/>
                  <a:pt x="439" y="186"/>
                  <a:pt x="446" y="201"/>
                </a:cubicBezTo>
                <a:cubicBezTo>
                  <a:pt x="451" y="211"/>
                  <a:pt x="456" y="222"/>
                  <a:pt x="461" y="232"/>
                </a:cubicBezTo>
                <a:cubicBezTo>
                  <a:pt x="470" y="277"/>
                  <a:pt x="476" y="322"/>
                  <a:pt x="485" y="367"/>
                </a:cubicBezTo>
                <a:cubicBezTo>
                  <a:pt x="495" y="417"/>
                  <a:pt x="525" y="464"/>
                  <a:pt x="548" y="509"/>
                </a:cubicBezTo>
                <a:cubicBezTo>
                  <a:pt x="603" y="619"/>
                  <a:pt x="534" y="511"/>
                  <a:pt x="580" y="580"/>
                </a:cubicBezTo>
                <a:cubicBezTo>
                  <a:pt x="587" y="607"/>
                  <a:pt x="595" y="633"/>
                  <a:pt x="603" y="659"/>
                </a:cubicBezTo>
                <a:cubicBezTo>
                  <a:pt x="601" y="677"/>
                  <a:pt x="601" y="696"/>
                  <a:pt x="596" y="714"/>
                </a:cubicBezTo>
                <a:cubicBezTo>
                  <a:pt x="579" y="773"/>
                  <a:pt x="483" y="762"/>
                  <a:pt x="438" y="769"/>
                </a:cubicBezTo>
                <a:cubicBezTo>
                  <a:pt x="341" y="766"/>
                  <a:pt x="243" y="772"/>
                  <a:pt x="146" y="761"/>
                </a:cubicBezTo>
                <a:cubicBezTo>
                  <a:pt x="129" y="759"/>
                  <a:pt x="159" y="736"/>
                  <a:pt x="169" y="714"/>
                </a:cubicBezTo>
                <a:cubicBezTo>
                  <a:pt x="189" y="667"/>
                  <a:pt x="212" y="613"/>
                  <a:pt x="225" y="564"/>
                </a:cubicBezTo>
                <a:cubicBezTo>
                  <a:pt x="222" y="543"/>
                  <a:pt x="225" y="521"/>
                  <a:pt x="217" y="501"/>
                </a:cubicBezTo>
                <a:cubicBezTo>
                  <a:pt x="204" y="469"/>
                  <a:pt x="169" y="499"/>
                  <a:pt x="169" y="46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128680" y="3294000"/>
            <a:ext cx="552600" cy="451080"/>
          </a:xfrm>
          <a:custGeom>
            <a:avLst/>
            <a:gdLst/>
            <a:ahLst/>
            <a:rect l="l" t="t" r="r" b="b"/>
            <a:pathLst>
              <a:path w="348" h="284">
                <a:moveTo>
                  <a:pt x="182" y="24"/>
                </a:moveTo>
                <a:cubicBezTo>
                  <a:pt x="171" y="21"/>
                  <a:pt x="161" y="19"/>
                  <a:pt x="150" y="16"/>
                </a:cubicBezTo>
                <a:cubicBezTo>
                  <a:pt x="134" y="11"/>
                  <a:pt x="103" y="0"/>
                  <a:pt x="103" y="0"/>
                </a:cubicBezTo>
                <a:cubicBezTo>
                  <a:pt x="25" y="20"/>
                  <a:pt x="14" y="113"/>
                  <a:pt x="0" y="182"/>
                </a:cubicBezTo>
                <a:cubicBezTo>
                  <a:pt x="3" y="195"/>
                  <a:pt x="1" y="210"/>
                  <a:pt x="8" y="221"/>
                </a:cubicBezTo>
                <a:cubicBezTo>
                  <a:pt x="22" y="245"/>
                  <a:pt x="65" y="242"/>
                  <a:pt x="87" y="253"/>
                </a:cubicBezTo>
                <a:cubicBezTo>
                  <a:pt x="96" y="257"/>
                  <a:pt x="102" y="264"/>
                  <a:pt x="111" y="268"/>
                </a:cubicBezTo>
                <a:cubicBezTo>
                  <a:pt x="126" y="275"/>
                  <a:pt x="158" y="284"/>
                  <a:pt x="158" y="284"/>
                </a:cubicBezTo>
                <a:cubicBezTo>
                  <a:pt x="238" y="278"/>
                  <a:pt x="255" y="279"/>
                  <a:pt x="316" y="261"/>
                </a:cubicBezTo>
                <a:cubicBezTo>
                  <a:pt x="334" y="206"/>
                  <a:pt x="348" y="156"/>
                  <a:pt x="324" y="95"/>
                </a:cubicBezTo>
                <a:cubicBezTo>
                  <a:pt x="313" y="67"/>
                  <a:pt x="254" y="56"/>
                  <a:pt x="229" y="48"/>
                </a:cubicBezTo>
                <a:cubicBezTo>
                  <a:pt x="179" y="32"/>
                  <a:pt x="182" y="48"/>
                  <a:pt x="182" y="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3790800" y="2838600"/>
            <a:ext cx="471600" cy="468000"/>
          </a:xfrm>
          <a:custGeom>
            <a:avLst/>
            <a:gdLst/>
            <a:ahLst/>
            <a:rect l="l" t="t" r="r" b="b"/>
            <a:pathLst>
              <a:path w="297" h="295">
                <a:moveTo>
                  <a:pt x="82" y="271"/>
                </a:moveTo>
                <a:cubicBezTo>
                  <a:pt x="74" y="269"/>
                  <a:pt x="64" y="270"/>
                  <a:pt x="58" y="264"/>
                </a:cubicBezTo>
                <a:cubicBezTo>
                  <a:pt x="44" y="251"/>
                  <a:pt x="26" y="216"/>
                  <a:pt x="26" y="216"/>
                </a:cubicBezTo>
                <a:cubicBezTo>
                  <a:pt x="8" y="153"/>
                  <a:pt x="0" y="75"/>
                  <a:pt x="74" y="50"/>
                </a:cubicBezTo>
                <a:cubicBezTo>
                  <a:pt x="91" y="0"/>
                  <a:pt x="121" y="22"/>
                  <a:pt x="161" y="35"/>
                </a:cubicBezTo>
                <a:cubicBezTo>
                  <a:pt x="182" y="68"/>
                  <a:pt x="183" y="103"/>
                  <a:pt x="200" y="137"/>
                </a:cubicBezTo>
                <a:cubicBezTo>
                  <a:pt x="213" y="162"/>
                  <a:pt x="263" y="192"/>
                  <a:pt x="263" y="192"/>
                </a:cubicBezTo>
                <a:cubicBezTo>
                  <a:pt x="279" y="240"/>
                  <a:pt x="297" y="261"/>
                  <a:pt x="247" y="295"/>
                </a:cubicBezTo>
                <a:cubicBezTo>
                  <a:pt x="225" y="292"/>
                  <a:pt x="191" y="290"/>
                  <a:pt x="168" y="279"/>
                </a:cubicBezTo>
                <a:cubicBezTo>
                  <a:pt x="160" y="275"/>
                  <a:pt x="154" y="265"/>
                  <a:pt x="145" y="264"/>
                </a:cubicBezTo>
                <a:cubicBezTo>
                  <a:pt x="124" y="262"/>
                  <a:pt x="103" y="269"/>
                  <a:pt x="82" y="27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3319560" y="3754440"/>
            <a:ext cx="312480" cy="254160"/>
          </a:xfrm>
          <a:custGeom>
            <a:avLst/>
            <a:gdLst/>
            <a:ahLst/>
            <a:rect l="l" t="t" r="r" b="b"/>
            <a:pathLst>
              <a:path w="197" h="160">
                <a:moveTo>
                  <a:pt x="158" y="2"/>
                </a:moveTo>
                <a:cubicBezTo>
                  <a:pt x="111" y="5"/>
                  <a:pt x="62" y="0"/>
                  <a:pt x="16" y="10"/>
                </a:cubicBezTo>
                <a:cubicBezTo>
                  <a:pt x="0" y="13"/>
                  <a:pt x="10" y="53"/>
                  <a:pt x="16" y="57"/>
                </a:cubicBezTo>
                <a:cubicBezTo>
                  <a:pt x="27" y="64"/>
                  <a:pt x="42" y="62"/>
                  <a:pt x="55" y="65"/>
                </a:cubicBezTo>
                <a:cubicBezTo>
                  <a:pt x="93" y="122"/>
                  <a:pt x="68" y="109"/>
                  <a:pt x="118" y="120"/>
                </a:cubicBezTo>
                <a:cubicBezTo>
                  <a:pt x="126" y="125"/>
                  <a:pt x="135" y="129"/>
                  <a:pt x="142" y="136"/>
                </a:cubicBezTo>
                <a:cubicBezTo>
                  <a:pt x="149" y="143"/>
                  <a:pt x="148" y="160"/>
                  <a:pt x="158" y="160"/>
                </a:cubicBezTo>
                <a:cubicBezTo>
                  <a:pt x="166" y="160"/>
                  <a:pt x="164" y="144"/>
                  <a:pt x="166" y="136"/>
                </a:cubicBezTo>
                <a:cubicBezTo>
                  <a:pt x="177" y="97"/>
                  <a:pt x="163" y="109"/>
                  <a:pt x="197" y="97"/>
                </a:cubicBezTo>
                <a:cubicBezTo>
                  <a:pt x="189" y="64"/>
                  <a:pt x="173" y="33"/>
                  <a:pt x="158" y="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3419640" y="3468600"/>
            <a:ext cx="331560" cy="270000"/>
          </a:xfrm>
          <a:custGeom>
            <a:avLst/>
            <a:gdLst/>
            <a:ahLst/>
            <a:rect l="l" t="t" r="r" b="b"/>
            <a:pathLst>
              <a:path w="209" h="170">
                <a:moveTo>
                  <a:pt x="158" y="143"/>
                </a:moveTo>
                <a:cubicBezTo>
                  <a:pt x="206" y="127"/>
                  <a:pt x="199" y="99"/>
                  <a:pt x="205" y="48"/>
                </a:cubicBezTo>
                <a:cubicBezTo>
                  <a:pt x="202" y="35"/>
                  <a:pt x="209" y="14"/>
                  <a:pt x="197" y="9"/>
                </a:cubicBezTo>
                <a:cubicBezTo>
                  <a:pt x="176" y="0"/>
                  <a:pt x="135" y="16"/>
                  <a:pt x="111" y="24"/>
                </a:cubicBezTo>
                <a:cubicBezTo>
                  <a:pt x="70" y="85"/>
                  <a:pt x="97" y="59"/>
                  <a:pt x="55" y="87"/>
                </a:cubicBezTo>
                <a:cubicBezTo>
                  <a:pt x="39" y="97"/>
                  <a:pt x="8" y="119"/>
                  <a:pt x="8" y="119"/>
                </a:cubicBezTo>
                <a:cubicBezTo>
                  <a:pt x="84" y="170"/>
                  <a:pt x="0" y="164"/>
                  <a:pt x="158" y="143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3581280" y="3862440"/>
            <a:ext cx="127080" cy="160200"/>
          </a:xfrm>
          <a:custGeom>
            <a:avLst/>
            <a:gdLst/>
            <a:ahLst/>
            <a:rect l="l" t="t" r="r" b="b"/>
            <a:pathLst>
              <a:path w="80" h="101">
                <a:moveTo>
                  <a:pt x="40" y="21"/>
                </a:moveTo>
                <a:cubicBezTo>
                  <a:pt x="29" y="38"/>
                  <a:pt x="0" y="70"/>
                  <a:pt x="32" y="92"/>
                </a:cubicBezTo>
                <a:cubicBezTo>
                  <a:pt x="45" y="101"/>
                  <a:pt x="64" y="87"/>
                  <a:pt x="80" y="84"/>
                </a:cubicBezTo>
                <a:cubicBezTo>
                  <a:pt x="75" y="76"/>
                  <a:pt x="68" y="69"/>
                  <a:pt x="64" y="60"/>
                </a:cubicBezTo>
                <a:cubicBezTo>
                  <a:pt x="43" y="13"/>
                  <a:pt x="61" y="0"/>
                  <a:pt x="40" y="2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3691080" y="3300480"/>
            <a:ext cx="755640" cy="1077840"/>
          </a:xfrm>
          <a:custGeom>
            <a:avLst/>
            <a:gdLst/>
            <a:ahLst/>
            <a:rect l="l" t="t" r="r" b="b"/>
            <a:pathLst>
              <a:path w="476" h="679">
                <a:moveTo>
                  <a:pt x="74" y="596"/>
                </a:moveTo>
                <a:cubicBezTo>
                  <a:pt x="114" y="568"/>
                  <a:pt x="137" y="562"/>
                  <a:pt x="89" y="477"/>
                </a:cubicBezTo>
                <a:cubicBezTo>
                  <a:pt x="80" y="461"/>
                  <a:pt x="52" y="472"/>
                  <a:pt x="34" y="470"/>
                </a:cubicBezTo>
                <a:cubicBezTo>
                  <a:pt x="1" y="458"/>
                  <a:pt x="0" y="446"/>
                  <a:pt x="11" y="414"/>
                </a:cubicBezTo>
                <a:cubicBezTo>
                  <a:pt x="16" y="333"/>
                  <a:pt x="25" y="258"/>
                  <a:pt x="34" y="178"/>
                </a:cubicBezTo>
                <a:cubicBezTo>
                  <a:pt x="36" y="159"/>
                  <a:pt x="33" y="139"/>
                  <a:pt x="42" y="122"/>
                </a:cubicBezTo>
                <a:cubicBezTo>
                  <a:pt x="48" y="110"/>
                  <a:pt x="135" y="99"/>
                  <a:pt x="137" y="99"/>
                </a:cubicBezTo>
                <a:cubicBezTo>
                  <a:pt x="145" y="96"/>
                  <a:pt x="156" y="98"/>
                  <a:pt x="160" y="91"/>
                </a:cubicBezTo>
                <a:cubicBezTo>
                  <a:pt x="168" y="74"/>
                  <a:pt x="151" y="43"/>
                  <a:pt x="168" y="36"/>
                </a:cubicBezTo>
                <a:cubicBezTo>
                  <a:pt x="217" y="17"/>
                  <a:pt x="273" y="31"/>
                  <a:pt x="326" y="28"/>
                </a:cubicBezTo>
                <a:cubicBezTo>
                  <a:pt x="359" y="11"/>
                  <a:pt x="377" y="0"/>
                  <a:pt x="413" y="12"/>
                </a:cubicBezTo>
                <a:cubicBezTo>
                  <a:pt x="421" y="44"/>
                  <a:pt x="427" y="64"/>
                  <a:pt x="445" y="91"/>
                </a:cubicBezTo>
                <a:cubicBezTo>
                  <a:pt x="463" y="152"/>
                  <a:pt x="476" y="268"/>
                  <a:pt x="452" y="320"/>
                </a:cubicBezTo>
                <a:cubicBezTo>
                  <a:pt x="443" y="339"/>
                  <a:pt x="410" y="325"/>
                  <a:pt x="389" y="328"/>
                </a:cubicBezTo>
                <a:cubicBezTo>
                  <a:pt x="368" y="334"/>
                  <a:pt x="343" y="330"/>
                  <a:pt x="326" y="343"/>
                </a:cubicBezTo>
                <a:cubicBezTo>
                  <a:pt x="311" y="355"/>
                  <a:pt x="295" y="391"/>
                  <a:pt x="295" y="391"/>
                </a:cubicBezTo>
                <a:cubicBezTo>
                  <a:pt x="306" y="421"/>
                  <a:pt x="327" y="431"/>
                  <a:pt x="350" y="454"/>
                </a:cubicBezTo>
                <a:cubicBezTo>
                  <a:pt x="361" y="486"/>
                  <a:pt x="372" y="517"/>
                  <a:pt x="381" y="549"/>
                </a:cubicBezTo>
                <a:cubicBezTo>
                  <a:pt x="339" y="679"/>
                  <a:pt x="257" y="601"/>
                  <a:pt x="74" y="5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2664000" y="3857760"/>
            <a:ext cx="1128600" cy="1127160"/>
          </a:xfrm>
          <a:custGeom>
            <a:avLst/>
            <a:gdLst/>
            <a:ahLst/>
            <a:rect l="l" t="t" r="r" b="b"/>
            <a:pathLst>
              <a:path w="711" h="710">
                <a:moveTo>
                  <a:pt x="11" y="245"/>
                </a:moveTo>
                <a:cubicBezTo>
                  <a:pt x="13" y="221"/>
                  <a:pt x="0" y="189"/>
                  <a:pt x="18" y="174"/>
                </a:cubicBezTo>
                <a:cubicBezTo>
                  <a:pt x="40" y="155"/>
                  <a:pt x="76" y="172"/>
                  <a:pt x="105" y="166"/>
                </a:cubicBezTo>
                <a:cubicBezTo>
                  <a:pt x="132" y="161"/>
                  <a:pt x="160" y="138"/>
                  <a:pt x="184" y="126"/>
                </a:cubicBezTo>
                <a:cubicBezTo>
                  <a:pt x="215" y="111"/>
                  <a:pt x="253" y="103"/>
                  <a:pt x="287" y="95"/>
                </a:cubicBezTo>
                <a:cubicBezTo>
                  <a:pt x="303" y="48"/>
                  <a:pt x="366" y="16"/>
                  <a:pt x="413" y="0"/>
                </a:cubicBezTo>
                <a:cubicBezTo>
                  <a:pt x="446" y="23"/>
                  <a:pt x="471" y="44"/>
                  <a:pt x="508" y="55"/>
                </a:cubicBezTo>
                <a:cubicBezTo>
                  <a:pt x="564" y="93"/>
                  <a:pt x="537" y="82"/>
                  <a:pt x="587" y="95"/>
                </a:cubicBezTo>
                <a:cubicBezTo>
                  <a:pt x="618" y="117"/>
                  <a:pt x="660" y="133"/>
                  <a:pt x="697" y="142"/>
                </a:cubicBezTo>
                <a:cubicBezTo>
                  <a:pt x="687" y="283"/>
                  <a:pt x="711" y="247"/>
                  <a:pt x="610" y="276"/>
                </a:cubicBezTo>
                <a:cubicBezTo>
                  <a:pt x="615" y="350"/>
                  <a:pt x="613" y="388"/>
                  <a:pt x="634" y="450"/>
                </a:cubicBezTo>
                <a:cubicBezTo>
                  <a:pt x="645" y="554"/>
                  <a:pt x="644" y="506"/>
                  <a:pt x="665" y="576"/>
                </a:cubicBezTo>
                <a:cubicBezTo>
                  <a:pt x="663" y="605"/>
                  <a:pt x="674" y="639"/>
                  <a:pt x="658" y="663"/>
                </a:cubicBezTo>
                <a:cubicBezTo>
                  <a:pt x="648" y="679"/>
                  <a:pt x="621" y="669"/>
                  <a:pt x="602" y="671"/>
                </a:cubicBezTo>
                <a:cubicBezTo>
                  <a:pt x="563" y="675"/>
                  <a:pt x="523" y="676"/>
                  <a:pt x="484" y="679"/>
                </a:cubicBezTo>
                <a:cubicBezTo>
                  <a:pt x="453" y="687"/>
                  <a:pt x="432" y="693"/>
                  <a:pt x="405" y="710"/>
                </a:cubicBezTo>
                <a:cubicBezTo>
                  <a:pt x="350" y="707"/>
                  <a:pt x="294" y="709"/>
                  <a:pt x="239" y="702"/>
                </a:cubicBezTo>
                <a:cubicBezTo>
                  <a:pt x="211" y="699"/>
                  <a:pt x="184" y="639"/>
                  <a:pt x="184" y="639"/>
                </a:cubicBezTo>
                <a:cubicBezTo>
                  <a:pt x="172" y="463"/>
                  <a:pt x="199" y="566"/>
                  <a:pt x="160" y="497"/>
                </a:cubicBezTo>
                <a:cubicBezTo>
                  <a:pt x="154" y="487"/>
                  <a:pt x="152" y="475"/>
                  <a:pt x="145" y="466"/>
                </a:cubicBezTo>
                <a:cubicBezTo>
                  <a:pt x="131" y="448"/>
                  <a:pt x="97" y="418"/>
                  <a:pt x="97" y="418"/>
                </a:cubicBezTo>
                <a:cubicBezTo>
                  <a:pt x="83" y="377"/>
                  <a:pt x="61" y="339"/>
                  <a:pt x="42" y="300"/>
                </a:cubicBezTo>
                <a:cubicBezTo>
                  <a:pt x="38" y="292"/>
                  <a:pt x="39" y="283"/>
                  <a:pt x="34" y="276"/>
                </a:cubicBezTo>
                <a:cubicBezTo>
                  <a:pt x="7" y="241"/>
                  <a:pt x="11" y="280"/>
                  <a:pt x="11" y="24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3849840" y="4957920"/>
            <a:ext cx="158760" cy="139680"/>
          </a:xfrm>
          <a:custGeom>
            <a:avLst/>
            <a:gdLst/>
            <a:ahLst/>
            <a:rect l="l" t="t" r="r" b="b"/>
            <a:pathLst>
              <a:path w="100" h="88">
                <a:moveTo>
                  <a:pt x="100" y="25"/>
                </a:moveTo>
                <a:cubicBezTo>
                  <a:pt x="92" y="20"/>
                  <a:pt x="86" y="10"/>
                  <a:pt x="76" y="9"/>
                </a:cubicBezTo>
                <a:cubicBezTo>
                  <a:pt x="0" y="0"/>
                  <a:pt x="5" y="71"/>
                  <a:pt x="60" y="88"/>
                </a:cubicBezTo>
                <a:cubicBezTo>
                  <a:pt x="99" y="77"/>
                  <a:pt x="90" y="63"/>
                  <a:pt x="100" y="2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3732120" y="4384800"/>
            <a:ext cx="1168560" cy="1439640"/>
          </a:xfrm>
          <a:custGeom>
            <a:avLst/>
            <a:gdLst/>
            <a:ahLst/>
            <a:rect l="l" t="t" r="r" b="b"/>
            <a:pathLst>
              <a:path w="736" h="907">
                <a:moveTo>
                  <a:pt x="63" y="252"/>
                </a:moveTo>
                <a:cubicBezTo>
                  <a:pt x="20" y="222"/>
                  <a:pt x="54" y="253"/>
                  <a:pt x="32" y="213"/>
                </a:cubicBezTo>
                <a:cubicBezTo>
                  <a:pt x="23" y="196"/>
                  <a:pt x="0" y="165"/>
                  <a:pt x="0" y="165"/>
                </a:cubicBezTo>
                <a:cubicBezTo>
                  <a:pt x="0" y="165"/>
                  <a:pt x="13" y="113"/>
                  <a:pt x="16" y="110"/>
                </a:cubicBezTo>
                <a:cubicBezTo>
                  <a:pt x="87" y="39"/>
                  <a:pt x="210" y="53"/>
                  <a:pt x="292" y="0"/>
                </a:cubicBezTo>
                <a:cubicBezTo>
                  <a:pt x="315" y="22"/>
                  <a:pt x="333" y="36"/>
                  <a:pt x="363" y="47"/>
                </a:cubicBezTo>
                <a:cubicBezTo>
                  <a:pt x="376" y="85"/>
                  <a:pt x="384" y="111"/>
                  <a:pt x="340" y="126"/>
                </a:cubicBezTo>
                <a:cubicBezTo>
                  <a:pt x="320" y="186"/>
                  <a:pt x="311" y="279"/>
                  <a:pt x="379" y="299"/>
                </a:cubicBezTo>
                <a:cubicBezTo>
                  <a:pt x="430" y="334"/>
                  <a:pt x="487" y="367"/>
                  <a:pt x="545" y="386"/>
                </a:cubicBezTo>
                <a:cubicBezTo>
                  <a:pt x="559" y="401"/>
                  <a:pt x="569" y="420"/>
                  <a:pt x="584" y="434"/>
                </a:cubicBezTo>
                <a:cubicBezTo>
                  <a:pt x="621" y="470"/>
                  <a:pt x="666" y="500"/>
                  <a:pt x="703" y="536"/>
                </a:cubicBezTo>
                <a:cubicBezTo>
                  <a:pt x="736" y="650"/>
                  <a:pt x="703" y="764"/>
                  <a:pt x="608" y="828"/>
                </a:cubicBezTo>
                <a:cubicBezTo>
                  <a:pt x="573" y="881"/>
                  <a:pt x="614" y="830"/>
                  <a:pt x="568" y="860"/>
                </a:cubicBezTo>
                <a:cubicBezTo>
                  <a:pt x="541" y="878"/>
                  <a:pt x="530" y="896"/>
                  <a:pt x="497" y="907"/>
                </a:cubicBezTo>
                <a:cubicBezTo>
                  <a:pt x="452" y="904"/>
                  <a:pt x="407" y="906"/>
                  <a:pt x="363" y="899"/>
                </a:cubicBezTo>
                <a:cubicBezTo>
                  <a:pt x="343" y="896"/>
                  <a:pt x="314" y="867"/>
                  <a:pt x="292" y="860"/>
                </a:cubicBezTo>
                <a:cubicBezTo>
                  <a:pt x="264" y="831"/>
                  <a:pt x="235" y="806"/>
                  <a:pt x="205" y="781"/>
                </a:cubicBezTo>
                <a:cubicBezTo>
                  <a:pt x="189" y="768"/>
                  <a:pt x="182" y="746"/>
                  <a:pt x="166" y="733"/>
                </a:cubicBezTo>
                <a:cubicBezTo>
                  <a:pt x="149" y="720"/>
                  <a:pt x="115" y="715"/>
                  <a:pt x="95" y="702"/>
                </a:cubicBezTo>
                <a:cubicBezTo>
                  <a:pt x="51" y="637"/>
                  <a:pt x="25" y="620"/>
                  <a:pt x="71" y="513"/>
                </a:cubicBezTo>
                <a:cubicBezTo>
                  <a:pt x="78" y="496"/>
                  <a:pt x="108" y="508"/>
                  <a:pt x="127" y="505"/>
                </a:cubicBezTo>
                <a:cubicBezTo>
                  <a:pt x="156" y="495"/>
                  <a:pt x="169" y="475"/>
                  <a:pt x="198" y="465"/>
                </a:cubicBezTo>
                <a:cubicBezTo>
                  <a:pt x="216" y="407"/>
                  <a:pt x="241" y="321"/>
                  <a:pt x="174" y="299"/>
                </a:cubicBezTo>
                <a:cubicBezTo>
                  <a:pt x="144" y="255"/>
                  <a:pt x="176" y="291"/>
                  <a:pt x="134" y="268"/>
                </a:cubicBezTo>
                <a:cubicBezTo>
                  <a:pt x="74" y="234"/>
                  <a:pt x="105" y="224"/>
                  <a:pt x="63" y="25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4946760" y="5132520"/>
            <a:ext cx="701640" cy="1012680"/>
          </a:xfrm>
          <a:custGeom>
            <a:avLst/>
            <a:gdLst/>
            <a:ahLst/>
            <a:rect l="l" t="t" r="r" b="b"/>
            <a:pathLst>
              <a:path w="442" h="638">
                <a:moveTo>
                  <a:pt x="32" y="89"/>
                </a:moveTo>
                <a:cubicBezTo>
                  <a:pt x="80" y="82"/>
                  <a:pt x="128" y="73"/>
                  <a:pt x="174" y="57"/>
                </a:cubicBezTo>
                <a:cubicBezTo>
                  <a:pt x="201" y="38"/>
                  <a:pt x="226" y="29"/>
                  <a:pt x="253" y="10"/>
                </a:cubicBezTo>
                <a:cubicBezTo>
                  <a:pt x="303" y="15"/>
                  <a:pt x="355" y="0"/>
                  <a:pt x="372" y="49"/>
                </a:cubicBezTo>
                <a:cubicBezTo>
                  <a:pt x="364" y="103"/>
                  <a:pt x="349" y="125"/>
                  <a:pt x="332" y="176"/>
                </a:cubicBezTo>
                <a:cubicBezTo>
                  <a:pt x="318" y="219"/>
                  <a:pt x="314" y="266"/>
                  <a:pt x="301" y="310"/>
                </a:cubicBezTo>
                <a:cubicBezTo>
                  <a:pt x="311" y="501"/>
                  <a:pt x="282" y="404"/>
                  <a:pt x="356" y="475"/>
                </a:cubicBezTo>
                <a:cubicBezTo>
                  <a:pt x="372" y="508"/>
                  <a:pt x="380" y="527"/>
                  <a:pt x="411" y="547"/>
                </a:cubicBezTo>
                <a:cubicBezTo>
                  <a:pt x="431" y="605"/>
                  <a:pt x="442" y="587"/>
                  <a:pt x="395" y="610"/>
                </a:cubicBezTo>
                <a:cubicBezTo>
                  <a:pt x="335" y="607"/>
                  <a:pt x="261" y="632"/>
                  <a:pt x="214" y="594"/>
                </a:cubicBezTo>
                <a:cubicBezTo>
                  <a:pt x="98" y="499"/>
                  <a:pt x="300" y="638"/>
                  <a:pt x="174" y="554"/>
                </a:cubicBezTo>
                <a:cubicBezTo>
                  <a:pt x="121" y="473"/>
                  <a:pt x="84" y="387"/>
                  <a:pt x="24" y="310"/>
                </a:cubicBezTo>
                <a:cubicBezTo>
                  <a:pt x="0" y="237"/>
                  <a:pt x="1" y="252"/>
                  <a:pt x="24" y="113"/>
                </a:cubicBezTo>
                <a:cubicBezTo>
                  <a:pt x="26" y="102"/>
                  <a:pt x="44" y="100"/>
                  <a:pt x="48" y="89"/>
                </a:cubicBezTo>
                <a:cubicBezTo>
                  <a:pt x="50" y="84"/>
                  <a:pt x="37" y="89"/>
                  <a:pt x="32" y="8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2141640" y="5073480"/>
            <a:ext cx="314280" cy="795600"/>
          </a:xfrm>
          <a:custGeom>
            <a:avLst/>
            <a:gdLst/>
            <a:ahLst/>
            <a:rect l="l" t="t" r="r" b="b"/>
            <a:pathLst>
              <a:path w="198" h="501">
                <a:moveTo>
                  <a:pt x="63" y="0"/>
                </a:moveTo>
                <a:cubicBezTo>
                  <a:pt x="9" y="19"/>
                  <a:pt x="16" y="63"/>
                  <a:pt x="0" y="110"/>
                </a:cubicBezTo>
                <a:cubicBezTo>
                  <a:pt x="4" y="184"/>
                  <a:pt x="9" y="366"/>
                  <a:pt x="32" y="434"/>
                </a:cubicBezTo>
                <a:cubicBezTo>
                  <a:pt x="35" y="452"/>
                  <a:pt x="25" y="479"/>
                  <a:pt x="40" y="489"/>
                </a:cubicBezTo>
                <a:cubicBezTo>
                  <a:pt x="58" y="501"/>
                  <a:pt x="91" y="498"/>
                  <a:pt x="103" y="481"/>
                </a:cubicBezTo>
                <a:cubicBezTo>
                  <a:pt x="126" y="448"/>
                  <a:pt x="106" y="400"/>
                  <a:pt x="119" y="363"/>
                </a:cubicBezTo>
                <a:cubicBezTo>
                  <a:pt x="127" y="271"/>
                  <a:pt x="149" y="185"/>
                  <a:pt x="190" y="102"/>
                </a:cubicBezTo>
                <a:cubicBezTo>
                  <a:pt x="187" y="73"/>
                  <a:pt x="198" y="39"/>
                  <a:pt x="182" y="15"/>
                </a:cubicBezTo>
                <a:cubicBezTo>
                  <a:pt x="176" y="6"/>
                  <a:pt x="78" y="0"/>
                  <a:pt x="6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2205000" y="4840200"/>
            <a:ext cx="1338480" cy="1112760"/>
          </a:xfrm>
          <a:custGeom>
            <a:avLst/>
            <a:gdLst/>
            <a:ahLst/>
            <a:rect l="l" t="t" r="r" b="b"/>
            <a:pathLst>
              <a:path w="843" h="701">
                <a:moveTo>
                  <a:pt x="23" y="107"/>
                </a:moveTo>
                <a:cubicBezTo>
                  <a:pt x="16" y="80"/>
                  <a:pt x="9" y="54"/>
                  <a:pt x="0" y="28"/>
                </a:cubicBezTo>
                <a:cubicBezTo>
                  <a:pt x="32" y="21"/>
                  <a:pt x="63" y="14"/>
                  <a:pt x="94" y="5"/>
                </a:cubicBezTo>
                <a:cubicBezTo>
                  <a:pt x="210" y="8"/>
                  <a:pt x="328" y="0"/>
                  <a:pt x="442" y="28"/>
                </a:cubicBezTo>
                <a:cubicBezTo>
                  <a:pt x="502" y="69"/>
                  <a:pt x="531" y="67"/>
                  <a:pt x="607" y="76"/>
                </a:cubicBezTo>
                <a:cubicBezTo>
                  <a:pt x="642" y="86"/>
                  <a:pt x="667" y="111"/>
                  <a:pt x="702" y="123"/>
                </a:cubicBezTo>
                <a:cubicBezTo>
                  <a:pt x="706" y="132"/>
                  <a:pt x="724" y="165"/>
                  <a:pt x="726" y="178"/>
                </a:cubicBezTo>
                <a:cubicBezTo>
                  <a:pt x="731" y="225"/>
                  <a:pt x="720" y="277"/>
                  <a:pt x="741" y="320"/>
                </a:cubicBezTo>
                <a:cubicBezTo>
                  <a:pt x="745" y="329"/>
                  <a:pt x="749" y="339"/>
                  <a:pt x="757" y="344"/>
                </a:cubicBezTo>
                <a:cubicBezTo>
                  <a:pt x="771" y="353"/>
                  <a:pt x="805" y="360"/>
                  <a:pt x="805" y="360"/>
                </a:cubicBezTo>
                <a:cubicBezTo>
                  <a:pt x="825" y="390"/>
                  <a:pt x="843" y="424"/>
                  <a:pt x="820" y="462"/>
                </a:cubicBezTo>
                <a:cubicBezTo>
                  <a:pt x="814" y="471"/>
                  <a:pt x="799" y="467"/>
                  <a:pt x="789" y="470"/>
                </a:cubicBezTo>
                <a:cubicBezTo>
                  <a:pt x="750" y="496"/>
                  <a:pt x="703" y="501"/>
                  <a:pt x="663" y="525"/>
                </a:cubicBezTo>
                <a:cubicBezTo>
                  <a:pt x="630" y="545"/>
                  <a:pt x="595" y="579"/>
                  <a:pt x="560" y="596"/>
                </a:cubicBezTo>
                <a:cubicBezTo>
                  <a:pt x="503" y="625"/>
                  <a:pt x="431" y="624"/>
                  <a:pt x="371" y="628"/>
                </a:cubicBezTo>
                <a:cubicBezTo>
                  <a:pt x="353" y="634"/>
                  <a:pt x="333" y="637"/>
                  <a:pt x="315" y="644"/>
                </a:cubicBezTo>
                <a:cubicBezTo>
                  <a:pt x="283" y="658"/>
                  <a:pt x="255" y="679"/>
                  <a:pt x="221" y="691"/>
                </a:cubicBezTo>
                <a:cubicBezTo>
                  <a:pt x="114" y="683"/>
                  <a:pt x="109" y="701"/>
                  <a:pt x="79" y="612"/>
                </a:cubicBezTo>
                <a:cubicBezTo>
                  <a:pt x="86" y="550"/>
                  <a:pt x="82" y="513"/>
                  <a:pt x="134" y="478"/>
                </a:cubicBezTo>
                <a:cubicBezTo>
                  <a:pt x="139" y="379"/>
                  <a:pt x="142" y="337"/>
                  <a:pt x="165" y="257"/>
                </a:cubicBezTo>
                <a:cubicBezTo>
                  <a:pt x="155" y="112"/>
                  <a:pt x="173" y="137"/>
                  <a:pt x="23" y="10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3957480" y="4103640"/>
            <a:ext cx="792360" cy="297000"/>
          </a:xfrm>
          <a:custGeom>
            <a:avLst/>
            <a:gdLst/>
            <a:ahLst/>
            <a:rect l="l" t="t" r="r" b="b"/>
            <a:pathLst>
              <a:path w="499" h="187">
                <a:moveTo>
                  <a:pt x="48" y="185"/>
                </a:moveTo>
                <a:cubicBezTo>
                  <a:pt x="14" y="174"/>
                  <a:pt x="11" y="154"/>
                  <a:pt x="0" y="121"/>
                </a:cubicBezTo>
                <a:cubicBezTo>
                  <a:pt x="69" y="119"/>
                  <a:pt x="141" y="138"/>
                  <a:pt x="206" y="114"/>
                </a:cubicBezTo>
                <a:cubicBezTo>
                  <a:pt x="228" y="106"/>
                  <a:pt x="205" y="65"/>
                  <a:pt x="213" y="43"/>
                </a:cubicBezTo>
                <a:cubicBezTo>
                  <a:pt x="228" y="0"/>
                  <a:pt x="302" y="22"/>
                  <a:pt x="348" y="19"/>
                </a:cubicBezTo>
                <a:cubicBezTo>
                  <a:pt x="414" y="29"/>
                  <a:pt x="499" y="28"/>
                  <a:pt x="419" y="153"/>
                </a:cubicBezTo>
                <a:cubicBezTo>
                  <a:pt x="404" y="176"/>
                  <a:pt x="366" y="164"/>
                  <a:pt x="340" y="169"/>
                </a:cubicBezTo>
                <a:cubicBezTo>
                  <a:pt x="323" y="172"/>
                  <a:pt x="292" y="185"/>
                  <a:pt x="292" y="185"/>
                </a:cubicBezTo>
                <a:cubicBezTo>
                  <a:pt x="247" y="182"/>
                  <a:pt x="202" y="187"/>
                  <a:pt x="158" y="177"/>
                </a:cubicBezTo>
                <a:cubicBezTo>
                  <a:pt x="150" y="175"/>
                  <a:pt x="156" y="159"/>
                  <a:pt x="150" y="153"/>
                </a:cubicBezTo>
                <a:cubicBezTo>
                  <a:pt x="144" y="147"/>
                  <a:pt x="135" y="148"/>
                  <a:pt x="127" y="145"/>
                </a:cubicBezTo>
                <a:cubicBezTo>
                  <a:pt x="98" y="148"/>
                  <a:pt x="68" y="144"/>
                  <a:pt x="40" y="153"/>
                </a:cubicBezTo>
                <a:cubicBezTo>
                  <a:pt x="31" y="156"/>
                  <a:pt x="22" y="168"/>
                  <a:pt x="24" y="177"/>
                </a:cubicBezTo>
                <a:cubicBezTo>
                  <a:pt x="26" y="185"/>
                  <a:pt x="40" y="182"/>
                  <a:pt x="48" y="18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4145040" y="1440000"/>
            <a:ext cx="885600" cy="1753920"/>
          </a:xfrm>
          <a:custGeom>
            <a:avLst/>
            <a:gdLst/>
            <a:ahLst/>
            <a:rect l="l" t="t" r="r" b="b"/>
            <a:pathLst>
              <a:path w="558" h="1105">
                <a:moveTo>
                  <a:pt x="1" y="853"/>
                </a:moveTo>
                <a:cubicBezTo>
                  <a:pt x="7" y="791"/>
                  <a:pt x="19" y="733"/>
                  <a:pt x="24" y="671"/>
                </a:cubicBezTo>
                <a:cubicBezTo>
                  <a:pt x="30" y="595"/>
                  <a:pt x="17" y="515"/>
                  <a:pt x="40" y="442"/>
                </a:cubicBezTo>
                <a:cubicBezTo>
                  <a:pt x="44" y="428"/>
                  <a:pt x="81" y="404"/>
                  <a:pt x="95" y="395"/>
                </a:cubicBezTo>
                <a:cubicBezTo>
                  <a:pt x="100" y="387"/>
                  <a:pt x="103" y="377"/>
                  <a:pt x="111" y="371"/>
                </a:cubicBezTo>
                <a:cubicBezTo>
                  <a:pt x="118" y="366"/>
                  <a:pt x="129" y="369"/>
                  <a:pt x="135" y="363"/>
                </a:cubicBezTo>
                <a:cubicBezTo>
                  <a:pt x="141" y="357"/>
                  <a:pt x="139" y="347"/>
                  <a:pt x="143" y="340"/>
                </a:cubicBezTo>
                <a:cubicBezTo>
                  <a:pt x="147" y="331"/>
                  <a:pt x="154" y="324"/>
                  <a:pt x="159" y="316"/>
                </a:cubicBezTo>
                <a:cubicBezTo>
                  <a:pt x="177" y="253"/>
                  <a:pt x="163" y="158"/>
                  <a:pt x="237" y="135"/>
                </a:cubicBezTo>
                <a:cubicBezTo>
                  <a:pt x="270" y="113"/>
                  <a:pt x="308" y="93"/>
                  <a:pt x="340" y="71"/>
                </a:cubicBezTo>
                <a:cubicBezTo>
                  <a:pt x="380" y="43"/>
                  <a:pt x="375" y="17"/>
                  <a:pt x="427" y="0"/>
                </a:cubicBezTo>
                <a:cubicBezTo>
                  <a:pt x="439" y="18"/>
                  <a:pt x="443" y="41"/>
                  <a:pt x="458" y="56"/>
                </a:cubicBezTo>
                <a:cubicBezTo>
                  <a:pt x="460" y="58"/>
                  <a:pt x="504" y="70"/>
                  <a:pt x="506" y="71"/>
                </a:cubicBezTo>
                <a:cubicBezTo>
                  <a:pt x="514" y="96"/>
                  <a:pt x="528" y="117"/>
                  <a:pt x="537" y="142"/>
                </a:cubicBezTo>
                <a:cubicBezTo>
                  <a:pt x="547" y="200"/>
                  <a:pt x="558" y="245"/>
                  <a:pt x="537" y="308"/>
                </a:cubicBezTo>
                <a:cubicBezTo>
                  <a:pt x="521" y="356"/>
                  <a:pt x="448" y="371"/>
                  <a:pt x="419" y="411"/>
                </a:cubicBezTo>
                <a:cubicBezTo>
                  <a:pt x="387" y="455"/>
                  <a:pt x="386" y="516"/>
                  <a:pt x="356" y="561"/>
                </a:cubicBezTo>
                <a:cubicBezTo>
                  <a:pt x="346" y="611"/>
                  <a:pt x="342" y="649"/>
                  <a:pt x="379" y="687"/>
                </a:cubicBezTo>
                <a:cubicBezTo>
                  <a:pt x="399" y="786"/>
                  <a:pt x="406" y="904"/>
                  <a:pt x="387" y="1002"/>
                </a:cubicBezTo>
                <a:cubicBezTo>
                  <a:pt x="385" y="1012"/>
                  <a:pt x="366" y="1007"/>
                  <a:pt x="356" y="1010"/>
                </a:cubicBezTo>
                <a:cubicBezTo>
                  <a:pt x="303" y="1045"/>
                  <a:pt x="235" y="1043"/>
                  <a:pt x="174" y="1050"/>
                </a:cubicBezTo>
                <a:cubicBezTo>
                  <a:pt x="153" y="1082"/>
                  <a:pt x="164" y="1093"/>
                  <a:pt x="127" y="1105"/>
                </a:cubicBezTo>
                <a:cubicBezTo>
                  <a:pt x="116" y="1102"/>
                  <a:pt x="104" y="1103"/>
                  <a:pt x="95" y="1097"/>
                </a:cubicBezTo>
                <a:cubicBezTo>
                  <a:pt x="71" y="1081"/>
                  <a:pt x="62" y="1011"/>
                  <a:pt x="40" y="979"/>
                </a:cubicBezTo>
                <a:cubicBezTo>
                  <a:pt x="25" y="935"/>
                  <a:pt x="16" y="889"/>
                  <a:pt x="1" y="845"/>
                </a:cubicBezTo>
                <a:cubicBezTo>
                  <a:pt x="0" y="842"/>
                  <a:pt x="1" y="850"/>
                  <a:pt x="1" y="853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4751280" y="1365120"/>
            <a:ext cx="898560" cy="1266840"/>
          </a:xfrm>
          <a:custGeom>
            <a:avLst/>
            <a:gdLst/>
            <a:ahLst/>
            <a:rect l="l" t="t" r="r" b="b"/>
            <a:pathLst>
              <a:path w="566" h="798">
                <a:moveTo>
                  <a:pt x="242" y="758"/>
                </a:moveTo>
                <a:cubicBezTo>
                  <a:pt x="310" y="756"/>
                  <a:pt x="460" y="798"/>
                  <a:pt x="510" y="718"/>
                </a:cubicBezTo>
                <a:cubicBezTo>
                  <a:pt x="513" y="681"/>
                  <a:pt x="509" y="644"/>
                  <a:pt x="518" y="608"/>
                </a:cubicBezTo>
                <a:cubicBezTo>
                  <a:pt x="523" y="589"/>
                  <a:pt x="539" y="576"/>
                  <a:pt x="550" y="560"/>
                </a:cubicBezTo>
                <a:cubicBezTo>
                  <a:pt x="555" y="552"/>
                  <a:pt x="566" y="537"/>
                  <a:pt x="566" y="537"/>
                </a:cubicBezTo>
                <a:cubicBezTo>
                  <a:pt x="553" y="486"/>
                  <a:pt x="541" y="510"/>
                  <a:pt x="526" y="466"/>
                </a:cubicBezTo>
                <a:cubicBezTo>
                  <a:pt x="523" y="390"/>
                  <a:pt x="529" y="313"/>
                  <a:pt x="518" y="237"/>
                </a:cubicBezTo>
                <a:cubicBezTo>
                  <a:pt x="515" y="218"/>
                  <a:pt x="493" y="207"/>
                  <a:pt x="487" y="189"/>
                </a:cubicBezTo>
                <a:cubicBezTo>
                  <a:pt x="470" y="141"/>
                  <a:pt x="482" y="100"/>
                  <a:pt x="439" y="71"/>
                </a:cubicBezTo>
                <a:cubicBezTo>
                  <a:pt x="423" y="45"/>
                  <a:pt x="388" y="9"/>
                  <a:pt x="360" y="0"/>
                </a:cubicBezTo>
                <a:cubicBezTo>
                  <a:pt x="326" y="3"/>
                  <a:pt x="292" y="2"/>
                  <a:pt x="258" y="8"/>
                </a:cubicBezTo>
                <a:cubicBezTo>
                  <a:pt x="214" y="16"/>
                  <a:pt x="244" y="62"/>
                  <a:pt x="195" y="79"/>
                </a:cubicBezTo>
                <a:cubicBezTo>
                  <a:pt x="146" y="69"/>
                  <a:pt x="148" y="57"/>
                  <a:pt x="108" y="40"/>
                </a:cubicBezTo>
                <a:cubicBezTo>
                  <a:pt x="93" y="33"/>
                  <a:pt x="61" y="24"/>
                  <a:pt x="61" y="24"/>
                </a:cubicBezTo>
                <a:cubicBezTo>
                  <a:pt x="53" y="27"/>
                  <a:pt x="43" y="26"/>
                  <a:pt x="37" y="32"/>
                </a:cubicBezTo>
                <a:cubicBezTo>
                  <a:pt x="0" y="68"/>
                  <a:pt x="88" y="74"/>
                  <a:pt x="108" y="79"/>
                </a:cubicBezTo>
                <a:cubicBezTo>
                  <a:pt x="154" y="109"/>
                  <a:pt x="166" y="147"/>
                  <a:pt x="179" y="197"/>
                </a:cubicBezTo>
                <a:cubicBezTo>
                  <a:pt x="182" y="221"/>
                  <a:pt x="180" y="245"/>
                  <a:pt x="187" y="268"/>
                </a:cubicBezTo>
                <a:cubicBezTo>
                  <a:pt x="193" y="286"/>
                  <a:pt x="218" y="316"/>
                  <a:pt x="218" y="316"/>
                </a:cubicBezTo>
                <a:cubicBezTo>
                  <a:pt x="211" y="380"/>
                  <a:pt x="218" y="386"/>
                  <a:pt x="163" y="402"/>
                </a:cubicBezTo>
                <a:cubicBezTo>
                  <a:pt x="146" y="427"/>
                  <a:pt x="122" y="439"/>
                  <a:pt x="108" y="466"/>
                </a:cubicBezTo>
                <a:cubicBezTo>
                  <a:pt x="94" y="494"/>
                  <a:pt x="90" y="530"/>
                  <a:pt x="84" y="560"/>
                </a:cubicBezTo>
                <a:cubicBezTo>
                  <a:pt x="87" y="623"/>
                  <a:pt x="76" y="689"/>
                  <a:pt x="92" y="750"/>
                </a:cubicBezTo>
                <a:cubicBezTo>
                  <a:pt x="94" y="757"/>
                  <a:pt x="185" y="778"/>
                  <a:pt x="195" y="781"/>
                </a:cubicBezTo>
                <a:cubicBezTo>
                  <a:pt x="211" y="778"/>
                  <a:pt x="228" y="781"/>
                  <a:pt x="242" y="773"/>
                </a:cubicBezTo>
                <a:cubicBezTo>
                  <a:pt x="249" y="769"/>
                  <a:pt x="250" y="758"/>
                  <a:pt x="250" y="750"/>
                </a:cubicBezTo>
                <a:cubicBezTo>
                  <a:pt x="250" y="746"/>
                  <a:pt x="245" y="755"/>
                  <a:pt x="242" y="75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5022720" y="4184640"/>
            <a:ext cx="833400" cy="646200"/>
          </a:xfrm>
          <a:custGeom>
            <a:avLst/>
            <a:gdLst/>
            <a:ahLst/>
            <a:rect l="l" t="t" r="r" b="b"/>
            <a:pathLst>
              <a:path w="525" h="407">
                <a:moveTo>
                  <a:pt x="111" y="386"/>
                </a:moveTo>
                <a:cubicBezTo>
                  <a:pt x="103" y="363"/>
                  <a:pt x="113" y="331"/>
                  <a:pt x="95" y="315"/>
                </a:cubicBezTo>
                <a:cubicBezTo>
                  <a:pt x="81" y="303"/>
                  <a:pt x="58" y="310"/>
                  <a:pt x="40" y="307"/>
                </a:cubicBezTo>
                <a:cubicBezTo>
                  <a:pt x="32" y="299"/>
                  <a:pt x="22" y="293"/>
                  <a:pt x="16" y="283"/>
                </a:cubicBezTo>
                <a:cubicBezTo>
                  <a:pt x="8" y="269"/>
                  <a:pt x="0" y="236"/>
                  <a:pt x="0" y="236"/>
                </a:cubicBezTo>
                <a:cubicBezTo>
                  <a:pt x="3" y="220"/>
                  <a:pt x="1" y="203"/>
                  <a:pt x="8" y="189"/>
                </a:cubicBezTo>
                <a:cubicBezTo>
                  <a:pt x="13" y="179"/>
                  <a:pt x="25" y="174"/>
                  <a:pt x="32" y="165"/>
                </a:cubicBezTo>
                <a:cubicBezTo>
                  <a:pt x="38" y="158"/>
                  <a:pt x="43" y="150"/>
                  <a:pt x="47" y="141"/>
                </a:cubicBezTo>
                <a:cubicBezTo>
                  <a:pt x="61" y="109"/>
                  <a:pt x="73" y="39"/>
                  <a:pt x="118" y="31"/>
                </a:cubicBezTo>
                <a:cubicBezTo>
                  <a:pt x="152" y="25"/>
                  <a:pt x="187" y="26"/>
                  <a:pt x="221" y="23"/>
                </a:cubicBezTo>
                <a:cubicBezTo>
                  <a:pt x="288" y="0"/>
                  <a:pt x="252" y="5"/>
                  <a:pt x="331" y="15"/>
                </a:cubicBezTo>
                <a:cubicBezTo>
                  <a:pt x="352" y="97"/>
                  <a:pt x="335" y="60"/>
                  <a:pt x="379" y="126"/>
                </a:cubicBezTo>
                <a:cubicBezTo>
                  <a:pt x="390" y="142"/>
                  <a:pt x="415" y="137"/>
                  <a:pt x="434" y="141"/>
                </a:cubicBezTo>
                <a:cubicBezTo>
                  <a:pt x="445" y="157"/>
                  <a:pt x="455" y="173"/>
                  <a:pt x="466" y="189"/>
                </a:cubicBezTo>
                <a:cubicBezTo>
                  <a:pt x="470" y="196"/>
                  <a:pt x="468" y="206"/>
                  <a:pt x="473" y="212"/>
                </a:cubicBezTo>
                <a:cubicBezTo>
                  <a:pt x="479" y="220"/>
                  <a:pt x="489" y="223"/>
                  <a:pt x="497" y="228"/>
                </a:cubicBezTo>
                <a:cubicBezTo>
                  <a:pt x="502" y="236"/>
                  <a:pt x="512" y="242"/>
                  <a:pt x="513" y="252"/>
                </a:cubicBezTo>
                <a:cubicBezTo>
                  <a:pt x="525" y="407"/>
                  <a:pt x="359" y="362"/>
                  <a:pt x="253" y="370"/>
                </a:cubicBezTo>
                <a:cubicBezTo>
                  <a:pt x="205" y="374"/>
                  <a:pt x="158" y="381"/>
                  <a:pt x="111" y="38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5197320" y="4809960"/>
            <a:ext cx="551160" cy="33516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1" y="0"/>
                </a:moveTo>
                <a:cubicBezTo>
                  <a:pt x="42" y="7"/>
                  <a:pt x="79" y="19"/>
                  <a:pt x="119" y="31"/>
                </a:cubicBezTo>
                <a:cubicBezTo>
                  <a:pt x="161" y="29"/>
                  <a:pt x="203" y="30"/>
                  <a:pt x="245" y="24"/>
                </a:cubicBezTo>
                <a:cubicBezTo>
                  <a:pt x="261" y="22"/>
                  <a:pt x="292" y="8"/>
                  <a:pt x="292" y="8"/>
                </a:cubicBezTo>
                <a:cubicBezTo>
                  <a:pt x="295" y="16"/>
                  <a:pt x="296" y="24"/>
                  <a:pt x="300" y="31"/>
                </a:cubicBezTo>
                <a:cubicBezTo>
                  <a:pt x="304" y="40"/>
                  <a:pt x="313" y="46"/>
                  <a:pt x="316" y="55"/>
                </a:cubicBezTo>
                <a:cubicBezTo>
                  <a:pt x="324" y="75"/>
                  <a:pt x="325" y="98"/>
                  <a:pt x="332" y="118"/>
                </a:cubicBezTo>
                <a:cubicBezTo>
                  <a:pt x="312" y="199"/>
                  <a:pt x="347" y="99"/>
                  <a:pt x="221" y="158"/>
                </a:cubicBezTo>
                <a:cubicBezTo>
                  <a:pt x="206" y="165"/>
                  <a:pt x="206" y="205"/>
                  <a:pt x="206" y="205"/>
                </a:cubicBezTo>
                <a:cubicBezTo>
                  <a:pt x="153" y="202"/>
                  <a:pt x="99" y="211"/>
                  <a:pt x="48" y="197"/>
                </a:cubicBezTo>
                <a:cubicBezTo>
                  <a:pt x="35" y="193"/>
                  <a:pt x="47" y="169"/>
                  <a:pt x="40" y="158"/>
                </a:cubicBezTo>
                <a:cubicBezTo>
                  <a:pt x="35" y="151"/>
                  <a:pt x="24" y="153"/>
                  <a:pt x="16" y="150"/>
                </a:cubicBezTo>
                <a:cubicBezTo>
                  <a:pt x="0" y="101"/>
                  <a:pt x="1" y="52"/>
                  <a:pt x="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5092560" y="2638440"/>
            <a:ext cx="479520" cy="284040"/>
          </a:xfrm>
          <a:custGeom>
            <a:avLst/>
            <a:gdLst/>
            <a:ahLst/>
            <a:rect l="l" t="t" r="r" b="b"/>
            <a:pathLst>
              <a:path w="302" h="179">
                <a:moveTo>
                  <a:pt x="19" y="32"/>
                </a:moveTo>
                <a:cubicBezTo>
                  <a:pt x="101" y="35"/>
                  <a:pt x="194" y="0"/>
                  <a:pt x="265" y="41"/>
                </a:cubicBezTo>
                <a:cubicBezTo>
                  <a:pt x="302" y="62"/>
                  <a:pt x="270" y="128"/>
                  <a:pt x="256" y="168"/>
                </a:cubicBezTo>
                <a:cubicBezTo>
                  <a:pt x="252" y="179"/>
                  <a:pt x="234" y="161"/>
                  <a:pt x="223" y="159"/>
                </a:cubicBezTo>
                <a:cubicBezTo>
                  <a:pt x="192" y="155"/>
                  <a:pt x="160" y="154"/>
                  <a:pt x="129" y="151"/>
                </a:cubicBezTo>
                <a:cubicBezTo>
                  <a:pt x="121" y="145"/>
                  <a:pt x="114" y="137"/>
                  <a:pt x="104" y="134"/>
                </a:cubicBezTo>
                <a:cubicBezTo>
                  <a:pt x="85" y="128"/>
                  <a:pt x="62" y="136"/>
                  <a:pt x="45" y="125"/>
                </a:cubicBezTo>
                <a:cubicBezTo>
                  <a:pt x="28" y="114"/>
                  <a:pt x="22" y="91"/>
                  <a:pt x="11" y="74"/>
                </a:cubicBezTo>
                <a:cubicBezTo>
                  <a:pt x="6" y="67"/>
                  <a:pt x="0" y="58"/>
                  <a:pt x="2" y="49"/>
                </a:cubicBezTo>
                <a:cubicBezTo>
                  <a:pt x="3" y="41"/>
                  <a:pt x="13" y="38"/>
                  <a:pt x="19" y="3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3" action="ppaction://hlinksldjump"/>
          </p:cNvPr>
          <p:cNvSpPr/>
          <p:nvPr/>
        </p:nvSpPr>
        <p:spPr>
          <a:xfrm>
            <a:off x="4946760" y="2797200"/>
            <a:ext cx="644400" cy="415800"/>
          </a:xfrm>
          <a:custGeom>
            <a:avLst/>
            <a:gdLst/>
            <a:ahLst/>
            <a:rect l="l" t="t" r="r" b="b"/>
            <a:pathLst>
              <a:path w="406" h="262">
                <a:moveTo>
                  <a:pt x="44" y="76"/>
                </a:moveTo>
                <a:cubicBezTo>
                  <a:pt x="35" y="82"/>
                  <a:pt x="24" y="84"/>
                  <a:pt x="18" y="93"/>
                </a:cubicBezTo>
                <a:cubicBezTo>
                  <a:pt x="8" y="108"/>
                  <a:pt x="1" y="144"/>
                  <a:pt x="1" y="144"/>
                </a:cubicBezTo>
                <a:cubicBezTo>
                  <a:pt x="4" y="158"/>
                  <a:pt x="0" y="176"/>
                  <a:pt x="10" y="186"/>
                </a:cubicBezTo>
                <a:cubicBezTo>
                  <a:pt x="16" y="192"/>
                  <a:pt x="27" y="181"/>
                  <a:pt x="35" y="178"/>
                </a:cubicBezTo>
                <a:cubicBezTo>
                  <a:pt x="65" y="165"/>
                  <a:pt x="69" y="161"/>
                  <a:pt x="94" y="144"/>
                </a:cubicBezTo>
                <a:cubicBezTo>
                  <a:pt x="105" y="147"/>
                  <a:pt x="117" y="148"/>
                  <a:pt x="128" y="152"/>
                </a:cubicBezTo>
                <a:cubicBezTo>
                  <a:pt x="138" y="156"/>
                  <a:pt x="144" y="165"/>
                  <a:pt x="154" y="169"/>
                </a:cubicBezTo>
                <a:cubicBezTo>
                  <a:pt x="184" y="180"/>
                  <a:pt x="217" y="184"/>
                  <a:pt x="247" y="195"/>
                </a:cubicBezTo>
                <a:cubicBezTo>
                  <a:pt x="266" y="223"/>
                  <a:pt x="287" y="231"/>
                  <a:pt x="298" y="262"/>
                </a:cubicBezTo>
                <a:cubicBezTo>
                  <a:pt x="340" y="234"/>
                  <a:pt x="363" y="219"/>
                  <a:pt x="391" y="178"/>
                </a:cubicBezTo>
                <a:cubicBezTo>
                  <a:pt x="406" y="131"/>
                  <a:pt x="402" y="170"/>
                  <a:pt x="374" y="135"/>
                </a:cubicBezTo>
                <a:cubicBezTo>
                  <a:pt x="368" y="128"/>
                  <a:pt x="371" y="116"/>
                  <a:pt x="365" y="110"/>
                </a:cubicBezTo>
                <a:cubicBezTo>
                  <a:pt x="352" y="98"/>
                  <a:pt x="332" y="99"/>
                  <a:pt x="315" y="93"/>
                </a:cubicBezTo>
                <a:cubicBezTo>
                  <a:pt x="305" y="78"/>
                  <a:pt x="294" y="55"/>
                  <a:pt x="272" y="51"/>
                </a:cubicBezTo>
                <a:cubicBezTo>
                  <a:pt x="263" y="49"/>
                  <a:pt x="256" y="58"/>
                  <a:pt x="247" y="59"/>
                </a:cubicBezTo>
                <a:cubicBezTo>
                  <a:pt x="41" y="74"/>
                  <a:pt x="44" y="0"/>
                  <a:pt x="44" y="7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4" action="ppaction://hlinksldjump"/>
          </p:cNvPr>
          <p:cNvSpPr/>
          <p:nvPr/>
        </p:nvSpPr>
        <p:spPr>
          <a:xfrm>
            <a:off x="4935600" y="3105000"/>
            <a:ext cx="484200" cy="324000"/>
          </a:xfrm>
          <a:custGeom>
            <a:avLst/>
            <a:gdLst/>
            <a:ahLst/>
            <a:rect l="l" t="t" r="r" b="b"/>
            <a:pathLst>
              <a:path w="305" h="204">
                <a:moveTo>
                  <a:pt x="17" y="9"/>
                </a:moveTo>
                <a:cubicBezTo>
                  <a:pt x="46" y="0"/>
                  <a:pt x="181" y="2"/>
                  <a:pt x="195" y="1"/>
                </a:cubicBezTo>
                <a:cubicBezTo>
                  <a:pt x="218" y="37"/>
                  <a:pt x="236" y="35"/>
                  <a:pt x="279" y="43"/>
                </a:cubicBezTo>
                <a:cubicBezTo>
                  <a:pt x="288" y="51"/>
                  <a:pt x="305" y="56"/>
                  <a:pt x="305" y="68"/>
                </a:cubicBezTo>
                <a:cubicBezTo>
                  <a:pt x="305" y="78"/>
                  <a:pt x="286" y="78"/>
                  <a:pt x="279" y="85"/>
                </a:cubicBezTo>
                <a:cubicBezTo>
                  <a:pt x="272" y="92"/>
                  <a:pt x="268" y="102"/>
                  <a:pt x="262" y="111"/>
                </a:cubicBezTo>
                <a:cubicBezTo>
                  <a:pt x="246" y="160"/>
                  <a:pt x="250" y="178"/>
                  <a:pt x="211" y="204"/>
                </a:cubicBezTo>
                <a:cubicBezTo>
                  <a:pt x="194" y="201"/>
                  <a:pt x="176" y="204"/>
                  <a:pt x="161" y="196"/>
                </a:cubicBezTo>
                <a:cubicBezTo>
                  <a:pt x="153" y="191"/>
                  <a:pt x="158" y="177"/>
                  <a:pt x="152" y="170"/>
                </a:cubicBezTo>
                <a:cubicBezTo>
                  <a:pt x="139" y="154"/>
                  <a:pt x="119" y="150"/>
                  <a:pt x="101" y="145"/>
                </a:cubicBezTo>
                <a:cubicBezTo>
                  <a:pt x="31" y="97"/>
                  <a:pt x="113" y="161"/>
                  <a:pt x="67" y="102"/>
                </a:cubicBezTo>
                <a:cubicBezTo>
                  <a:pt x="50" y="81"/>
                  <a:pt x="24" y="81"/>
                  <a:pt x="0" y="77"/>
                </a:cubicBezTo>
                <a:cubicBezTo>
                  <a:pt x="11" y="32"/>
                  <a:pt x="5" y="54"/>
                  <a:pt x="17" y="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5" action="ppaction://hlinksldjump"/>
          </p:cNvPr>
          <p:cNvSpPr/>
          <p:nvPr/>
        </p:nvSpPr>
        <p:spPr>
          <a:xfrm>
            <a:off x="4410000" y="3251160"/>
            <a:ext cx="855720" cy="809640"/>
          </a:xfrm>
          <a:custGeom>
            <a:avLst/>
            <a:gdLst/>
            <a:ahLst/>
            <a:rect l="l" t="t" r="r" b="b"/>
            <a:pathLst>
              <a:path w="539" h="510">
                <a:moveTo>
                  <a:pt x="0" y="112"/>
                </a:moveTo>
                <a:cubicBezTo>
                  <a:pt x="63" y="97"/>
                  <a:pt x="117" y="55"/>
                  <a:pt x="153" y="2"/>
                </a:cubicBezTo>
                <a:cubicBezTo>
                  <a:pt x="173" y="5"/>
                  <a:pt x="195" y="0"/>
                  <a:pt x="212" y="10"/>
                </a:cubicBezTo>
                <a:cubicBezTo>
                  <a:pt x="222" y="16"/>
                  <a:pt x="211" y="38"/>
                  <a:pt x="221" y="44"/>
                </a:cubicBezTo>
                <a:cubicBezTo>
                  <a:pt x="238" y="55"/>
                  <a:pt x="260" y="50"/>
                  <a:pt x="280" y="53"/>
                </a:cubicBezTo>
                <a:cubicBezTo>
                  <a:pt x="339" y="93"/>
                  <a:pt x="284" y="62"/>
                  <a:pt x="415" y="78"/>
                </a:cubicBezTo>
                <a:cubicBezTo>
                  <a:pt x="438" y="81"/>
                  <a:pt x="460" y="91"/>
                  <a:pt x="483" y="95"/>
                </a:cubicBezTo>
                <a:cubicBezTo>
                  <a:pt x="486" y="120"/>
                  <a:pt x="486" y="146"/>
                  <a:pt x="492" y="171"/>
                </a:cubicBezTo>
                <a:cubicBezTo>
                  <a:pt x="495" y="181"/>
                  <a:pt x="507" y="187"/>
                  <a:pt x="509" y="197"/>
                </a:cubicBezTo>
                <a:cubicBezTo>
                  <a:pt x="518" y="244"/>
                  <a:pt x="526" y="341"/>
                  <a:pt x="526" y="341"/>
                </a:cubicBezTo>
                <a:cubicBezTo>
                  <a:pt x="516" y="463"/>
                  <a:pt x="539" y="477"/>
                  <a:pt x="432" y="510"/>
                </a:cubicBezTo>
                <a:cubicBezTo>
                  <a:pt x="408" y="436"/>
                  <a:pt x="305" y="455"/>
                  <a:pt x="246" y="451"/>
                </a:cubicBezTo>
                <a:cubicBezTo>
                  <a:pt x="226" y="444"/>
                  <a:pt x="204" y="437"/>
                  <a:pt x="187" y="425"/>
                </a:cubicBezTo>
                <a:cubicBezTo>
                  <a:pt x="169" y="412"/>
                  <a:pt x="164" y="384"/>
                  <a:pt x="144" y="375"/>
                </a:cubicBezTo>
                <a:cubicBezTo>
                  <a:pt x="126" y="367"/>
                  <a:pt x="105" y="369"/>
                  <a:pt x="85" y="366"/>
                </a:cubicBezTo>
                <a:cubicBezTo>
                  <a:pt x="64" y="336"/>
                  <a:pt x="51" y="335"/>
                  <a:pt x="17" y="324"/>
                </a:cubicBezTo>
                <a:cubicBezTo>
                  <a:pt x="14" y="276"/>
                  <a:pt x="14" y="228"/>
                  <a:pt x="9" y="180"/>
                </a:cubicBezTo>
                <a:cubicBezTo>
                  <a:pt x="8" y="171"/>
                  <a:pt x="0" y="163"/>
                  <a:pt x="0" y="154"/>
                </a:cubicBezTo>
                <a:cubicBezTo>
                  <a:pt x="0" y="102"/>
                  <a:pt x="21" y="152"/>
                  <a:pt x="0" y="11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6" action="ppaction://hlinksldjump"/>
          </p:cNvPr>
          <p:cNvSpPr/>
          <p:nvPr/>
        </p:nvSpPr>
        <p:spPr>
          <a:xfrm>
            <a:off x="4206960" y="3819600"/>
            <a:ext cx="709560" cy="393480"/>
          </a:xfrm>
          <a:custGeom>
            <a:avLst/>
            <a:gdLst/>
            <a:ahLst/>
            <a:rect l="l" t="t" r="r" b="b"/>
            <a:pathLst>
              <a:path w="447" h="248">
                <a:moveTo>
                  <a:pt x="10" y="50"/>
                </a:moveTo>
                <a:cubicBezTo>
                  <a:pt x="40" y="40"/>
                  <a:pt x="63" y="26"/>
                  <a:pt x="94" y="17"/>
                </a:cubicBezTo>
                <a:cubicBezTo>
                  <a:pt x="111" y="12"/>
                  <a:pt x="145" y="0"/>
                  <a:pt x="145" y="0"/>
                </a:cubicBezTo>
                <a:cubicBezTo>
                  <a:pt x="197" y="8"/>
                  <a:pt x="203" y="18"/>
                  <a:pt x="247" y="34"/>
                </a:cubicBezTo>
                <a:cubicBezTo>
                  <a:pt x="262" y="80"/>
                  <a:pt x="303" y="69"/>
                  <a:pt x="349" y="76"/>
                </a:cubicBezTo>
                <a:cubicBezTo>
                  <a:pt x="364" y="141"/>
                  <a:pt x="359" y="82"/>
                  <a:pt x="340" y="135"/>
                </a:cubicBezTo>
                <a:cubicBezTo>
                  <a:pt x="298" y="248"/>
                  <a:pt x="447" y="174"/>
                  <a:pt x="120" y="186"/>
                </a:cubicBezTo>
                <a:cubicBezTo>
                  <a:pt x="111" y="192"/>
                  <a:pt x="104" y="205"/>
                  <a:pt x="94" y="203"/>
                </a:cubicBezTo>
                <a:cubicBezTo>
                  <a:pt x="78" y="200"/>
                  <a:pt x="77" y="160"/>
                  <a:pt x="69" y="152"/>
                </a:cubicBezTo>
                <a:cubicBezTo>
                  <a:pt x="63" y="146"/>
                  <a:pt x="52" y="147"/>
                  <a:pt x="44" y="144"/>
                </a:cubicBezTo>
                <a:cubicBezTo>
                  <a:pt x="37" y="134"/>
                  <a:pt x="3" y="77"/>
                  <a:pt x="1" y="67"/>
                </a:cubicBezTo>
                <a:cubicBezTo>
                  <a:pt x="0" y="61"/>
                  <a:pt x="7" y="56"/>
                  <a:pt x="10" y="5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53000" y="3973680"/>
            <a:ext cx="463680" cy="287280"/>
          </a:xfrm>
          <a:custGeom>
            <a:avLst/>
            <a:gdLst/>
            <a:ahLst/>
            <a:rect l="l" t="t" r="r" b="b"/>
            <a:pathLst>
              <a:path w="292" h="181">
                <a:moveTo>
                  <a:pt x="0" y="89"/>
                </a:moveTo>
                <a:cubicBezTo>
                  <a:pt x="39" y="77"/>
                  <a:pt x="29" y="59"/>
                  <a:pt x="68" y="47"/>
                </a:cubicBezTo>
                <a:cubicBezTo>
                  <a:pt x="98" y="2"/>
                  <a:pt x="88" y="0"/>
                  <a:pt x="178" y="30"/>
                </a:cubicBezTo>
                <a:cubicBezTo>
                  <a:pt x="186" y="33"/>
                  <a:pt x="178" y="52"/>
                  <a:pt x="186" y="55"/>
                </a:cubicBezTo>
                <a:cubicBezTo>
                  <a:pt x="219" y="65"/>
                  <a:pt x="254" y="61"/>
                  <a:pt x="288" y="64"/>
                </a:cubicBezTo>
                <a:cubicBezTo>
                  <a:pt x="285" y="81"/>
                  <a:pt x="292" y="104"/>
                  <a:pt x="279" y="114"/>
                </a:cubicBezTo>
                <a:cubicBezTo>
                  <a:pt x="277" y="116"/>
                  <a:pt x="146" y="131"/>
                  <a:pt x="144" y="131"/>
                </a:cubicBezTo>
                <a:cubicBezTo>
                  <a:pt x="94" y="181"/>
                  <a:pt x="82" y="164"/>
                  <a:pt x="0" y="157"/>
                </a:cubicBezTo>
                <a:cubicBezTo>
                  <a:pt x="3" y="140"/>
                  <a:pt x="3" y="122"/>
                  <a:pt x="8" y="106"/>
                </a:cubicBezTo>
                <a:cubicBezTo>
                  <a:pt x="17" y="78"/>
                  <a:pt x="46" y="74"/>
                  <a:pt x="0" y="8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41760" y="4181400"/>
            <a:ext cx="625680" cy="371520"/>
          </a:xfrm>
          <a:custGeom>
            <a:avLst/>
            <a:gdLst/>
            <a:ahLst/>
            <a:rect l="l" t="t" r="r" b="b"/>
            <a:pathLst>
              <a:path w="394" h="234">
                <a:moveTo>
                  <a:pt x="61" y="60"/>
                </a:moveTo>
                <a:cubicBezTo>
                  <a:pt x="58" y="77"/>
                  <a:pt x="61" y="95"/>
                  <a:pt x="53" y="110"/>
                </a:cubicBezTo>
                <a:cubicBezTo>
                  <a:pt x="38" y="139"/>
                  <a:pt x="0" y="118"/>
                  <a:pt x="53" y="136"/>
                </a:cubicBezTo>
                <a:cubicBezTo>
                  <a:pt x="59" y="144"/>
                  <a:pt x="66" y="152"/>
                  <a:pt x="70" y="161"/>
                </a:cubicBezTo>
                <a:cubicBezTo>
                  <a:pt x="74" y="169"/>
                  <a:pt x="72" y="181"/>
                  <a:pt x="78" y="187"/>
                </a:cubicBezTo>
                <a:cubicBezTo>
                  <a:pt x="98" y="207"/>
                  <a:pt x="134" y="200"/>
                  <a:pt x="163" y="204"/>
                </a:cubicBezTo>
                <a:cubicBezTo>
                  <a:pt x="256" y="234"/>
                  <a:pt x="271" y="199"/>
                  <a:pt x="332" y="153"/>
                </a:cubicBezTo>
                <a:cubicBezTo>
                  <a:pt x="343" y="110"/>
                  <a:pt x="330" y="84"/>
                  <a:pt x="375" y="68"/>
                </a:cubicBezTo>
                <a:cubicBezTo>
                  <a:pt x="381" y="60"/>
                  <a:pt x="394" y="53"/>
                  <a:pt x="392" y="43"/>
                </a:cubicBezTo>
                <a:cubicBezTo>
                  <a:pt x="390" y="31"/>
                  <a:pt x="351" y="7"/>
                  <a:pt x="341" y="0"/>
                </a:cubicBezTo>
                <a:cubicBezTo>
                  <a:pt x="316" y="3"/>
                  <a:pt x="289" y="0"/>
                  <a:pt x="265" y="9"/>
                </a:cubicBezTo>
                <a:cubicBezTo>
                  <a:pt x="241" y="18"/>
                  <a:pt x="253" y="46"/>
                  <a:pt x="239" y="60"/>
                </a:cubicBezTo>
                <a:cubicBezTo>
                  <a:pt x="233" y="66"/>
                  <a:pt x="222" y="65"/>
                  <a:pt x="214" y="68"/>
                </a:cubicBezTo>
                <a:cubicBezTo>
                  <a:pt x="174" y="65"/>
                  <a:pt x="134" y="67"/>
                  <a:pt x="95" y="60"/>
                </a:cubicBezTo>
                <a:cubicBezTo>
                  <a:pt x="85" y="58"/>
                  <a:pt x="80" y="41"/>
                  <a:pt x="70" y="43"/>
                </a:cubicBezTo>
                <a:cubicBezTo>
                  <a:pt x="60" y="45"/>
                  <a:pt x="61" y="84"/>
                  <a:pt x="61" y="6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19640" y="4403880"/>
            <a:ext cx="225360" cy="190440"/>
          </a:xfrm>
          <a:custGeom>
            <a:avLst/>
            <a:gdLst/>
            <a:ahLst/>
            <a:rect l="l" t="t" r="r" b="b"/>
            <a:pathLst>
              <a:path w="142" h="120">
                <a:moveTo>
                  <a:pt x="7" y="13"/>
                </a:moveTo>
                <a:cubicBezTo>
                  <a:pt x="16" y="118"/>
                  <a:pt x="0" y="120"/>
                  <a:pt x="91" y="106"/>
                </a:cubicBezTo>
                <a:cubicBezTo>
                  <a:pt x="102" y="75"/>
                  <a:pt x="124" y="66"/>
                  <a:pt x="142" y="38"/>
                </a:cubicBezTo>
                <a:cubicBezTo>
                  <a:pt x="87" y="0"/>
                  <a:pt x="127" y="22"/>
                  <a:pt x="7" y="13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22880" y="5951520"/>
            <a:ext cx="236520" cy="247680"/>
          </a:xfrm>
          <a:custGeom>
            <a:avLst/>
            <a:gdLst/>
            <a:ahLst/>
            <a:rect l="l" t="t" r="r" b="b"/>
            <a:pathLst>
              <a:path w="149" h="156">
                <a:moveTo>
                  <a:pt x="141" y="3"/>
                </a:moveTo>
                <a:cubicBezTo>
                  <a:pt x="52" y="12"/>
                  <a:pt x="47" y="0"/>
                  <a:pt x="6" y="63"/>
                </a:cubicBezTo>
                <a:cubicBezTo>
                  <a:pt x="9" y="88"/>
                  <a:pt x="0" y="117"/>
                  <a:pt x="14" y="139"/>
                </a:cubicBezTo>
                <a:cubicBezTo>
                  <a:pt x="24" y="154"/>
                  <a:pt x="65" y="156"/>
                  <a:pt x="65" y="156"/>
                </a:cubicBezTo>
                <a:cubicBezTo>
                  <a:pt x="85" y="153"/>
                  <a:pt x="106" y="156"/>
                  <a:pt x="124" y="147"/>
                </a:cubicBezTo>
                <a:cubicBezTo>
                  <a:pt x="132" y="143"/>
                  <a:pt x="131" y="131"/>
                  <a:pt x="133" y="122"/>
                </a:cubicBezTo>
                <a:cubicBezTo>
                  <a:pt x="148" y="71"/>
                  <a:pt x="149" y="60"/>
                  <a:pt x="141" y="3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9400" y="5935680"/>
            <a:ext cx="228600" cy="237960"/>
          </a:xfrm>
          <a:custGeom>
            <a:avLst/>
            <a:gdLst/>
            <a:ahLst/>
            <a:rect l="l" t="t" r="r" b="b"/>
            <a:pathLst>
              <a:path w="144" h="150">
                <a:moveTo>
                  <a:pt x="144" y="5"/>
                </a:moveTo>
                <a:cubicBezTo>
                  <a:pt x="113" y="8"/>
                  <a:pt x="79" y="0"/>
                  <a:pt x="51" y="13"/>
                </a:cubicBezTo>
                <a:cubicBezTo>
                  <a:pt x="38" y="19"/>
                  <a:pt x="9" y="80"/>
                  <a:pt x="0" y="98"/>
                </a:cubicBezTo>
                <a:cubicBezTo>
                  <a:pt x="18" y="150"/>
                  <a:pt x="7" y="147"/>
                  <a:pt x="110" y="115"/>
                </a:cubicBezTo>
                <a:cubicBezTo>
                  <a:pt x="118" y="112"/>
                  <a:pt x="117" y="99"/>
                  <a:pt x="119" y="90"/>
                </a:cubicBezTo>
                <a:cubicBezTo>
                  <a:pt x="128" y="59"/>
                  <a:pt x="144" y="37"/>
                  <a:pt x="144" y="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17840" y="4465800"/>
            <a:ext cx="495360" cy="401400"/>
          </a:xfrm>
          <a:custGeom>
            <a:avLst/>
            <a:gdLst/>
            <a:ahLst/>
            <a:rect l="l" t="t" r="r" b="b"/>
            <a:pathLst>
              <a:path w="312" h="253">
                <a:moveTo>
                  <a:pt x="168" y="8"/>
                </a:moveTo>
                <a:cubicBezTo>
                  <a:pt x="139" y="17"/>
                  <a:pt x="141" y="11"/>
                  <a:pt x="126" y="42"/>
                </a:cubicBezTo>
                <a:cubicBezTo>
                  <a:pt x="122" y="50"/>
                  <a:pt x="126" y="64"/>
                  <a:pt x="118" y="67"/>
                </a:cubicBezTo>
                <a:cubicBezTo>
                  <a:pt x="94" y="76"/>
                  <a:pt x="67" y="72"/>
                  <a:pt x="41" y="75"/>
                </a:cubicBezTo>
                <a:cubicBezTo>
                  <a:pt x="23" y="135"/>
                  <a:pt x="0" y="122"/>
                  <a:pt x="75" y="135"/>
                </a:cubicBezTo>
                <a:cubicBezTo>
                  <a:pt x="78" y="149"/>
                  <a:pt x="97" y="216"/>
                  <a:pt x="109" y="228"/>
                </a:cubicBezTo>
                <a:cubicBezTo>
                  <a:pt x="121" y="240"/>
                  <a:pt x="168" y="248"/>
                  <a:pt x="185" y="253"/>
                </a:cubicBezTo>
                <a:cubicBezTo>
                  <a:pt x="203" y="203"/>
                  <a:pt x="195" y="251"/>
                  <a:pt x="168" y="211"/>
                </a:cubicBezTo>
                <a:cubicBezTo>
                  <a:pt x="162" y="201"/>
                  <a:pt x="163" y="188"/>
                  <a:pt x="160" y="177"/>
                </a:cubicBezTo>
                <a:cubicBezTo>
                  <a:pt x="155" y="160"/>
                  <a:pt x="143" y="126"/>
                  <a:pt x="143" y="126"/>
                </a:cubicBezTo>
                <a:cubicBezTo>
                  <a:pt x="166" y="62"/>
                  <a:pt x="253" y="88"/>
                  <a:pt x="312" y="84"/>
                </a:cubicBezTo>
                <a:cubicBezTo>
                  <a:pt x="271" y="21"/>
                  <a:pt x="299" y="37"/>
                  <a:pt x="236" y="25"/>
                </a:cubicBezTo>
                <a:cubicBezTo>
                  <a:pt x="199" y="0"/>
                  <a:pt x="221" y="8"/>
                  <a:pt x="168" y="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5013360"/>
            <a:ext cx="236520" cy="263520"/>
          </a:xfrm>
          <a:custGeom>
            <a:avLst/>
            <a:gdLst/>
            <a:ahLst/>
            <a:rect l="l" t="t" r="r" b="b"/>
            <a:pathLst>
              <a:path w="149" h="166">
                <a:moveTo>
                  <a:pt x="149" y="80"/>
                </a:moveTo>
                <a:cubicBezTo>
                  <a:pt x="146" y="63"/>
                  <a:pt x="149" y="44"/>
                  <a:pt x="141" y="29"/>
                </a:cubicBezTo>
                <a:cubicBezTo>
                  <a:pt x="125" y="0"/>
                  <a:pt x="102" y="33"/>
                  <a:pt x="90" y="37"/>
                </a:cubicBezTo>
                <a:cubicBezTo>
                  <a:pt x="74" y="43"/>
                  <a:pt x="56" y="43"/>
                  <a:pt x="39" y="46"/>
                </a:cubicBezTo>
                <a:cubicBezTo>
                  <a:pt x="21" y="83"/>
                  <a:pt x="0" y="108"/>
                  <a:pt x="30" y="156"/>
                </a:cubicBezTo>
                <a:cubicBezTo>
                  <a:pt x="36" y="166"/>
                  <a:pt x="53" y="151"/>
                  <a:pt x="64" y="148"/>
                </a:cubicBezTo>
                <a:cubicBezTo>
                  <a:pt x="80" y="87"/>
                  <a:pt x="82" y="89"/>
                  <a:pt x="149" y="8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37160" y="5068800"/>
            <a:ext cx="920880" cy="874800"/>
          </a:xfrm>
          <a:custGeom>
            <a:avLst/>
            <a:gdLst/>
            <a:ahLst/>
            <a:rect l="l" t="t" r="r" b="b"/>
            <a:pathLst>
              <a:path w="580" h="551">
                <a:moveTo>
                  <a:pt x="10" y="119"/>
                </a:moveTo>
                <a:cubicBezTo>
                  <a:pt x="22" y="50"/>
                  <a:pt x="14" y="84"/>
                  <a:pt x="36" y="17"/>
                </a:cubicBezTo>
                <a:cubicBezTo>
                  <a:pt x="42" y="0"/>
                  <a:pt x="87" y="0"/>
                  <a:pt x="87" y="0"/>
                </a:cubicBezTo>
                <a:cubicBezTo>
                  <a:pt x="105" y="12"/>
                  <a:pt x="119" y="31"/>
                  <a:pt x="137" y="43"/>
                </a:cubicBezTo>
                <a:cubicBezTo>
                  <a:pt x="155" y="55"/>
                  <a:pt x="178" y="58"/>
                  <a:pt x="197" y="68"/>
                </a:cubicBezTo>
                <a:cubicBezTo>
                  <a:pt x="278" y="62"/>
                  <a:pt x="313" y="58"/>
                  <a:pt x="375" y="17"/>
                </a:cubicBezTo>
                <a:cubicBezTo>
                  <a:pt x="503" y="27"/>
                  <a:pt x="478" y="27"/>
                  <a:pt x="569" y="60"/>
                </a:cubicBezTo>
                <a:cubicBezTo>
                  <a:pt x="566" y="164"/>
                  <a:pt x="565" y="269"/>
                  <a:pt x="561" y="373"/>
                </a:cubicBezTo>
                <a:cubicBezTo>
                  <a:pt x="559" y="415"/>
                  <a:pt x="580" y="468"/>
                  <a:pt x="552" y="500"/>
                </a:cubicBezTo>
                <a:cubicBezTo>
                  <a:pt x="528" y="528"/>
                  <a:pt x="479" y="506"/>
                  <a:pt x="442" y="509"/>
                </a:cubicBezTo>
                <a:cubicBezTo>
                  <a:pt x="404" y="521"/>
                  <a:pt x="413" y="539"/>
                  <a:pt x="375" y="551"/>
                </a:cubicBezTo>
                <a:cubicBezTo>
                  <a:pt x="318" y="548"/>
                  <a:pt x="261" y="550"/>
                  <a:pt x="205" y="543"/>
                </a:cubicBezTo>
                <a:cubicBezTo>
                  <a:pt x="177" y="539"/>
                  <a:pt x="180" y="515"/>
                  <a:pt x="163" y="500"/>
                </a:cubicBezTo>
                <a:cubicBezTo>
                  <a:pt x="148" y="486"/>
                  <a:pt x="112" y="466"/>
                  <a:pt x="112" y="466"/>
                </a:cubicBezTo>
                <a:cubicBezTo>
                  <a:pt x="101" y="449"/>
                  <a:pt x="83" y="435"/>
                  <a:pt x="78" y="415"/>
                </a:cubicBezTo>
                <a:cubicBezTo>
                  <a:pt x="75" y="404"/>
                  <a:pt x="76" y="391"/>
                  <a:pt x="70" y="382"/>
                </a:cubicBezTo>
                <a:cubicBezTo>
                  <a:pt x="64" y="373"/>
                  <a:pt x="53" y="371"/>
                  <a:pt x="44" y="365"/>
                </a:cubicBezTo>
                <a:cubicBezTo>
                  <a:pt x="41" y="356"/>
                  <a:pt x="40" y="347"/>
                  <a:pt x="36" y="339"/>
                </a:cubicBezTo>
                <a:cubicBezTo>
                  <a:pt x="32" y="330"/>
                  <a:pt x="23" y="323"/>
                  <a:pt x="19" y="314"/>
                </a:cubicBezTo>
                <a:cubicBezTo>
                  <a:pt x="0" y="263"/>
                  <a:pt x="10" y="141"/>
                  <a:pt x="10" y="11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28680" y="6191280"/>
            <a:ext cx="6566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a Evropské unie po posledním rozšíření v roc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ři najetí myší na stát získáte informace o roku přistoupení do EU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kazy n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vropska-uni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vropsky-parlamen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uropa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uroskop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euroinfocentrum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urope Direct: tel. 00 800 678 910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údaje o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ozloha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4 325 675 km² (7. místo na svět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čet členů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27 (v roce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čet obyvatel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496 miliónů (3. místo na světě), 115 obyv./km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Hlavní orgány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vropská ra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Brusel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vropská kom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Brusel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ada E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Brusel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vropský parlamen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Brusel (zasedání, výbory), Strasbourg (zasedání), Lucemburk (sekretariá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384360" cy="2067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135240" y="6308640"/>
            <a:ext cx="33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šiřování EU – členské stá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cestu postačuje platný pas nebo občanský průkaz (s datem vydání od druhé poloviny roku 2000). Pro cestování s dítětem není možno použít OP se zápisem dítě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 EU je možno cestovat s platným českým řidičským průka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zdravotní péči v jiném členském státě platí, že občané ČR mají nárok na nezbytnou zdravotní péč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 vstupu ČR do schengenského systému (v roce 2008) bude možno cestovat do států EU bez zastavování při hraniční kont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ce 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ropa.eu/abc/travel/index_cs-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roskop.cz/42783/clanek/cestovani-v-evropske-uni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stování po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Život a práce za hranicemi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vo žít a pracovat v jiném členském státě za stejných podmínek, jaké mají občané tohoto státu, což je základní pilíř 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čané ČR mohou nyní bez omezení pracovat ve většině zemí EU (pracovní povolení je zatím vyžadováno v Belgii, Dánsku, Francii, Lucembursku, Německu, Nizozemsku a Rakousku – i zde se již brzy očekává plné otevření pracovního trh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e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ortal.mpsv.cz/e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roskop.cz/47542/clanek/pristup-na-pracovni-trh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žnosti studia na zahraniční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 nabízí vzdělávací programy: Erasmus, Leonardo a Socrates, které podporují výměnné pobyty a přeshraniční partnerství mezi vzdělávacími institucemi (tuto nabídku využilo do roku 2007 již 2 mil. student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ámci EU mají všichni studenti stejná prá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c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rodesk.cz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ploteu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ční podpor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věnuje více než třetinu rozpočtu na snížení rozdílů v rozvoji jednotlivých regionů a na omezení nerovnosti v blahobytu občanů. Prostřednictvím fondů přispívá k rozvoji zaostávajících regionů, k restrukturalizaci průmyslových oblastí, pomoci venkovským oblastem s vysokou nezaměstnaností, k obnově zanedbatelných městských oblastí, ke zlepšení dopravní infrastruktury a ochrany životního prostředí, ale i lidem postiženými přírodními katastrof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e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rukturalni-fondy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ropská unie v date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k 1950 - 1980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52856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9. května 195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edstavuje francouzský premiér R. Schuman plán hlubší evropské spolupráce zajišťující trvalý mír a ekonomickou prosper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roce 195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depsalo 6 států (Belgie, Nizozemí, Lucembursko, Německo, Francie a Itálie) dohodu o založení Evropského společenství uhlí a oceli (ESV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25. března 195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zšíření ESVO o Evropské hospodářské společenství (EHS) a Evropské společenství pro atomovou energii (Euroatom) – základ 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30. června 196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polečné zemědělské politi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8. duben 196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loučení výkonných orgánů ESVO, EHS a Euroatom a vytvoření jedné Rady a jedné Kom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1. červenec 196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zrušení vnitřních cel v rámci společných hra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197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zšíření o Dánsko, Irsko, Velkou Britán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10. prosince 197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Evropský fond pro regionální rozvoj (pomoc chudým států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28. únor 197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úmluva mezi Společenstvím a 46 zeměmi Afriky, Karibiku a Tichomoří – obchodní výhody pří vývozu zboží do EU (v současnosti se podílí EU na světové rozvojové pomoci z 55% a je tak největším dárcem na svě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7. - 10. června 197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rvní přímé volby do Evropského parlamentu (naposledy proběhly volby v roce 2004, příští se uskuteční v roce 200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24720" y="6093000"/>
            <a:ext cx="936720" cy="549000"/>
          </a:xfrm>
          <a:custGeom>
            <a:avLst/>
            <a:gdLst>
              <a:gd name="textAreaLeft" fmla="*/ 35280 w 936720"/>
              <a:gd name="textAreaRight" fmla="*/ 901440 w 9367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36845" h="21600">
                <a:moveTo>
                  <a:pt x="0" y="0"/>
                </a:moveTo>
                <a:lnTo>
                  <a:pt x="36845" y="0"/>
                </a:lnTo>
                <a:lnTo>
                  <a:pt x="36845" y="21600"/>
                </a:lnTo>
                <a:lnTo>
                  <a:pt x="0" y="21600"/>
                </a:lnTo>
                <a:close/>
              </a:path>
              <a:path fill="lightenLess" w="36845" h="21600">
                <a:moveTo>
                  <a:pt x="0" y="0"/>
                </a:moveTo>
                <a:lnTo>
                  <a:pt x="36845" y="0"/>
                </a:lnTo>
                <a:lnTo>
                  <a:pt x="35445" y="1400"/>
                </a:lnTo>
                <a:lnTo>
                  <a:pt x="1400" y="1400"/>
                </a:lnTo>
                <a:close/>
              </a:path>
              <a:path fill="darken" w="36845" h="21600">
                <a:moveTo>
                  <a:pt x="36845" y="0"/>
                </a:moveTo>
                <a:lnTo>
                  <a:pt x="36845" y="21600"/>
                </a:lnTo>
                <a:lnTo>
                  <a:pt x="35445" y="20200"/>
                </a:lnTo>
                <a:lnTo>
                  <a:pt x="35445" y="1400"/>
                </a:lnTo>
                <a:close/>
              </a:path>
              <a:path fill="darkenLess" w="36845" h="21600">
                <a:moveTo>
                  <a:pt x="36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5" y="20200"/>
                </a:lnTo>
                <a:close/>
              </a:path>
              <a:path fill="lighten" w="36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5" h="21600">
                <a:moveTo>
                  <a:pt x="11416" y="3794"/>
                </a:moveTo>
                <a:lnTo>
                  <a:pt x="25429" y="10800"/>
                </a:lnTo>
                <a:lnTo>
                  <a:pt x="114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ropská unie v datech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k 1981 -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Rok 198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polečenství rozšířeno o Řec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15. červen 1987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zahájení projektu Erasmus zaměřeného na podporu vzdělanosti v celé EU (ČR se zapojila do programu v roce 199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roce 1986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istoupilo – Portugalsko a Španěls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7. února 199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odepsaná v Maastrichtu Smlouva o Evropské unii, která stanovila pravidla pro budoucí jednotnou měnu, zahraniční i bezpečnostní politiku, spolupráci v oblasti vnitřních věcí a spravedl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1. leden 1993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jednotný trh, který umožňuje svobodu volného pohybu zboží, služeb, osob a kapitá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4. října 1993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podpis Evropské dohody zakládající přidružení mezi ČR a ES (zahájen dialog v jednání o vstupu do EU a postupné začleňování do Uni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roce 1995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k  EU přistoupilo Finsko, Švédsko a Rakous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26. března 1995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Schengenská dohoda, která umožňuje cestování přes vnitřní hranice bez pasových k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17. ledna 1996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ČR oficiálně podala přihlášku ke členství v E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2. říjen 1997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odpis Amsterodamské smlouvy – rozšíření pravomocí a funkcí EU – reforma orgánů E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30. května 1998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zahájení přímého jednání mezi ČR a E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468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10800"/>
                </a:moveTo>
                <a:lnTo>
                  <a:pt x="27224" y="3794"/>
                </a:lnTo>
                <a:lnTo>
                  <a:pt x="272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1079280" cy="57600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61" h="21600">
                <a:moveTo>
                  <a:pt x="13224" y="3794"/>
                </a:moveTo>
                <a:lnTo>
                  <a:pt x="27237" y="10800"/>
                </a:lnTo>
                <a:lnTo>
                  <a:pt x="132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ropská unie v datech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k 2000 - d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3. – 24. března 2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rada EU na zasedání v Lisabonu vypracoval strategii s cílem zvýšit zaměstnanost, modernizovat hospodářství, posílit sociální soudržnost s důrazem na vzdělá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7. – 8. prosince 2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vyhlášena Listina základních práv E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4. – 15. prosince 20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hlášení o budoucnosti EU – závěry se staly základy pro následná jednání o Ústavě pro Evro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leden 20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2 členských zemí EU začalo používat novou společnou měnu EURO (od roku 2007 se Euro používá i na Slovinsk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1. března 20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v rámci své zahraniční a bezpečnostní politiky zahajuje EU mírové operace na Balkán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6. dubna 20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U v Athénách podepsala smlouvu o přistoupení ČR a dalšími 14 země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května 20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stupuje v platnost největší a v pořadí páté rozšíření EU (do EU vstupuje: ČR, SR, Estonsko, Kypr, Litva, Lotyšsko, Maďarsko, Malta, Polsko, Slovinsko) – tyto státy se stávají členy E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9. října 20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25 členských států EU podepisuje Smlouvu o Ústavě pro Evropu – před svým vstupem v platnost musí být ratifikována všemi členskými stá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ledna 20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o EU vstupuje Bulharsko a Rumunsko. Počet členských států dosahuje 2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pololetí roku 200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de ČR předsedat Radě E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468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10800"/>
                </a:moveTo>
                <a:lnTo>
                  <a:pt x="27224" y="3794"/>
                </a:lnTo>
                <a:lnTo>
                  <a:pt x="272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8:30:25Z</dcterms:created>
  <dc:creator>kk</dc:creator>
  <dc:description/>
  <dc:language>en-US</dc:language>
  <cp:lastModifiedBy>kk</cp:lastModifiedBy>
  <dcterms:modified xsi:type="dcterms:W3CDTF">2007-05-22T13:03:40Z</dcterms:modified>
  <cp:revision>21</cp:revision>
  <dc:subject/>
  <dc:title>HLAVNÍ HOSPODÁŘSKÉ ORGANIZACE VE SVĚTĚ</dc:title>
</cp:coreProperties>
</file>