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672-A158-4869-97F5-BD5F115C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255-F97B-4952-AE33-7AB3C7E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E76-257C-4463-A881-6114EBFC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F76-F99F-49E5-8AB0-3CB85CBC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EE2-5EB2-49CC-997D-33FFE244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043-E9B7-467F-8CD3-74C3648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4E9-ADAA-483C-957F-D7C2BF7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660-9A2D-44BF-8234-B96DF593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DFE-E94D-4676-95D3-781569EA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30F-2C7E-4EF5-9655-281DA70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82B-8FF0-41E4-841C-F3DD0A9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9D0-1D3F-43BA-8003-0919176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F6D-51EF-44D1-8150-FA241BB08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laksite.net/zelrekord_w.html" TargetMode="External"/><Relationship Id="rId2" Type="http://schemas.openxmlformats.org/officeDocument/2006/relationships/hyperlink" Target="http://www.21stoleti.cz/view.php?cisloclanku=2006072109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r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uží k přemísťování lidí, zboží, surovin 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hy doprav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chozem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d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te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o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ružice, telefon, internet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620640"/>
            <a:ext cx="172872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19467"/>
              <a:gd name="adj5" fmla="val 298527"/>
              <a:gd name="adj6" fmla="val -73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lni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92680" y="1154160"/>
            <a:ext cx="1724040" cy="403200"/>
          </a:xfrm>
          <a:prstGeom prst="borderCallout1">
            <a:avLst>
              <a:gd name="adj1" fmla="val 18750"/>
              <a:gd name="adj2" fmla="val -8333"/>
              <a:gd name="adj3" fmla="val 188976"/>
              <a:gd name="adj4" fmla="val -75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železni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92680" y="1658880"/>
            <a:ext cx="1724040" cy="401760"/>
          </a:xfrm>
          <a:prstGeom prst="borderCallout1">
            <a:avLst>
              <a:gd name="adj1" fmla="val 18750"/>
              <a:gd name="adj2" fmla="val -8333"/>
              <a:gd name="adj3" fmla="val 64032"/>
              <a:gd name="adj4" fmla="val -75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rub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9960" y="2306520"/>
            <a:ext cx="4100760" cy="401760"/>
          </a:xfrm>
          <a:prstGeom prst="borderCallout1">
            <a:avLst>
              <a:gd name="adj1" fmla="val 18750"/>
              <a:gd name="adj2" fmla="val -8333"/>
              <a:gd name="adj3" fmla="val 64425"/>
              <a:gd name="adj4" fmla="val -3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nitrozemská (říční, jezer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2852640"/>
            <a:ext cx="1579680" cy="403200"/>
          </a:xfrm>
          <a:prstGeom prst="borderCallout1">
            <a:avLst>
              <a:gd name="adj1" fmla="val 18750"/>
              <a:gd name="adj2" fmla="val -8333"/>
              <a:gd name="adj3" fmla="val -71259"/>
              <a:gd name="adj4" fmla="val -95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ámoř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9960" y="3530520"/>
            <a:ext cx="2084400" cy="330120"/>
          </a:xfrm>
          <a:prstGeom prst="borderCallout1">
            <a:avLst>
              <a:gd name="adj1" fmla="val 18750"/>
              <a:gd name="adj2" fmla="val -8333"/>
              <a:gd name="adj3" fmla="val 34615"/>
              <a:gd name="adj4" fmla="val -658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nitrostát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9960" y="3962520"/>
            <a:ext cx="2084400" cy="330120"/>
          </a:xfrm>
          <a:prstGeom prst="borderCallout1">
            <a:avLst>
              <a:gd name="adj1" fmla="val 18750"/>
              <a:gd name="adj2" fmla="val -8333"/>
              <a:gd name="adj3" fmla="val -96152"/>
              <a:gd name="adj4" fmla="val -658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zináro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208080"/>
          <a:ext cx="4500720" cy="323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8080"/>
                    <a:ext cx="45007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06920" y="189000"/>
          <a:ext cx="4537080" cy="32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6920" y="189000"/>
                    <a:ext cx="45370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547640" y="3645000"/>
            <a:ext cx="5832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ár NEJ z dopr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delší vlakové spojení: Transsibiřská magistrála (9 300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merční rychlost vlaku: TGV (320 km/h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 vlaková NEJ najdet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ětší letiště s přepravou osob Atlanta/Hartsfield (USA) – výkon 80,2 mld. osobokilomet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ětší letecká společnost – United Airlines (USA) – výkon 202 mld. osobokilomet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ětší letadlo Airbus A380 (více Z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et nejrychlejších letadel najdet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ětší námořní přístav Rotterdam (Nizozemsko) – obrat 310 mil. t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ětší dopravní loď – Queen Mary 2, největší kontajnerová loď Emma Maersk (více ZDE), největší tanker Jahre Viking (více Z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ětší stavby najdete Z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prava vyža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esty (komunikace), prostředky, za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tabulky doplňte chybějící údaje.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ápověda 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ápověda 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řešení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2781360"/>
          <a:ext cx="8218440" cy="3125880"/>
        </p:xfrm>
        <a:graphic>
          <a:graphicData uri="http://schemas.openxmlformats.org/drawingml/2006/table">
            <a:tbl>
              <a:tblPr/>
              <a:tblGrid>
                <a:gridCol w="1800360"/>
                <a:gridCol w="1296720"/>
                <a:gridCol w="1295640"/>
                <a:gridCol w="936360"/>
                <a:gridCol w="1584360"/>
                <a:gridCol w="1305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UNIK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STŘED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ŘÍZ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YCHL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ŘEPRAV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/náklad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obil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eleznič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eck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moř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íč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ápověd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jekt, tanker, telefon, letadlo, lokomotiva, kamion, dálnice, koridor, vzdušný prostor, světový oceán, řeky a jezera, kabel a radiový signál, přístav, družice, terminál, peron, nákladní dok, čerpací stanice, % přepravy viz. graf, 130 km/hod., 800 km/hod., sekundy-minuty, 300 km/hod., 7 – 20 uzlů (asi 12 – 35 km/hod.), až 36 uzlů (asi 65 km/h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48320" y="3938760"/>
          <a:ext cx="4038480" cy="2361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105520" y="3933720"/>
          <a:ext cx="4038480" cy="2190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ápověd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986120"/>
          <a:ext cx="8229600" cy="4262400"/>
        </p:xfrm>
        <a:graphic>
          <a:graphicData uri="http://schemas.openxmlformats.org/drawingml/2006/table">
            <a:tbl>
              <a:tblPr/>
              <a:tblGrid>
                <a:gridCol w="1378080"/>
                <a:gridCol w="1728720"/>
                <a:gridCol w="1125360"/>
                <a:gridCol w="1106640"/>
                <a:gridCol w="1411200"/>
                <a:gridCol w="147960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un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střed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ychl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ře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/náklad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obil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m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 km/h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eleznič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teck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ušný pro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km/h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moř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 / 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bel a radiové sign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ž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říč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20 uzl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 / 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1557360"/>
          <a:ext cx="8229600" cy="3740040"/>
        </p:xfrm>
        <a:graphic>
          <a:graphicData uri="http://schemas.openxmlformats.org/drawingml/2006/table">
            <a:tbl>
              <a:tblPr/>
              <a:tblGrid>
                <a:gridCol w="1208160"/>
                <a:gridCol w="1898640"/>
                <a:gridCol w="1020600"/>
                <a:gridCol w="1335240"/>
                <a:gridCol w="1166760"/>
                <a:gridCol w="1600200"/>
              </a:tblGrid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unik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střed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říz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ychl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řeprav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/náklad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obil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ál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m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erpací sta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 km/h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% / 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elezn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i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komo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 km/h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 / 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teck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ušný pros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tad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iná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km/h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 / 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moř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větový oceá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kladní d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36 uzl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 / 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bel a radiové signá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f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ž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kun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eprava informac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ří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řeky a jez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je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íst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20 uzl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 / 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7:42:02Z</dcterms:created>
  <dc:creator>kk</dc:creator>
  <dc:description/>
  <dc:language>en-US</dc:language>
  <cp:lastModifiedBy>kk</cp:lastModifiedBy>
  <dcterms:modified xsi:type="dcterms:W3CDTF">2007-05-11T06:00:07Z</dcterms:modified>
  <cp:revision>13</cp:revision>
  <dc:subject/>
  <dc:title>Doprava</dc:title>
</cp:coreProperties>
</file>