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679-41A8-4196-93AC-2DD796A8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719-FED0-4932-BD18-2E75E14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632-44D3-41BE-8DBE-7095FEED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B31-10CB-44FC-A2C0-7E546F78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D46-DD28-4663-A638-112E8B0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41B-5FD6-443B-ABD7-88D9230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CAB-02F0-4D6D-8AB6-2EEB12FC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0AB-4E82-41CD-8095-BE6B80C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32F-6BB2-47F9-B657-EDD71FC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772-2993-487A-9FAE-CD3E115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71D-4DA1-4CC1-B507-C997458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445-07F3-454D-9589-9FE52ED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8C0-CB53-441F-AC62-8FF13E45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STOVNÍ R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534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namná součást národního hospodářství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ouvisí s ním další služb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– finance a pracovní příležitosti. Rychlý rozvoj = navyšování HDP (finance a pracovní příležitost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poklady rozvoje (mír, volný čas, peníze, služby), předpoklady vzniku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narušená příro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kulturněhistorické dědictv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ení: aktivní x pasivní, skupinový x individuální, organizovaný x neorganizovaný, tuzemský x zahraniční, dle formy (cyklo, pěší, vodní), dle doby trvání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76720" y="1700280"/>
          <a:ext cx="3959280" cy="330984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1079640"/>
                <a:gridCol w="1008000"/>
                <a:gridCol w="863640"/>
              </a:tblGrid>
              <a:tr h="398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řad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t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íl ve svět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v mld. US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ěme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Britá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o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á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zozem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kou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796000" y="1052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mě, jejichž občané v roce 1999 nejvíce utráceli v zahranič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asti CR (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řešení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ro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ředozemní moře pro……a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ě:………, ………, 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y pro zimní i letní turistiku (země….. ,…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á mě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er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aj, Florida, Kalifornie pro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rodní parky v ……… a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ánské civilizace v Latinské Americe ……. a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áže v ………. a karibská 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rik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ypt a národní par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i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lká města, horské oblasti, příroda, industrializované st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lasti CR - gra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700280"/>
          <a:ext cx="4038840" cy="4525560"/>
        </p:xfrm>
        <a:graphic>
          <a:graphicData uri="http://schemas.openxmlformats.org/drawingml/2006/table">
            <a:tbl>
              <a:tblPr/>
              <a:tblGrid>
                <a:gridCol w="479520"/>
                <a:gridCol w="481680"/>
                <a:gridCol w="1249560"/>
                <a:gridCol w="878760"/>
                <a:gridCol w="949320"/>
              </a:tblGrid>
              <a:tr h="4503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řad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jez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íl ve svět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l oso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paně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á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Britá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xi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79280" y="1197000"/>
          <a:ext cx="4038840" cy="460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ě, které byly v roce 1999 turisty nejvíce navštěvov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284720" y="2565360"/>
          <a:ext cx="4859280" cy="31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565360"/>
                    <a:ext cx="48592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500720" y="2205000"/>
            <a:ext cx="46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čet návštěvníků podle regionů v roce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 podmínky ovlivňující CR patří také vztah obyvatel k cizincům? Jaké jsou názory na  tuto otáz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odnoťte podmínky jaké má ČR pro uplatnění v mezinárodním C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ďte, jaké má váš okres či město zařízení sloužící výhradně k CR? Je těchto zařízení dostatek? Jsou přírodní a kulturní předpoklady pro CR ve vaší oblasti využ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berte z libovolné země Evropy tři cíle, kde by jste se chtěli pod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k městům jejich pamětihod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ndýn, Paříž, Řím, Madrid, Athény,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lův most, Koloseum, Akropolis, Eiffelova věž, Tower Bridge, P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ete co znamená: hotel, botel, motel, penzion, k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Řešení – Oblasti 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ro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ředozemní moře pro MOŘE, HISTORIE A PODNE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ě:ŠPANĚLSKO, ITÁLIE, Ř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y pro zimní i letní turistiku (země RAKOUSKO, ŠVÝCAR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á města: LONDÝN, PAŘÍŽ, ŘÍM, VÍDEŇ, PRAHA, AMSTERODAM A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er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aj, Florida, Kalifornie pro MOŘE A PODNE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rodní parky v USA a KANA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ánské civilizace v Latinské Americe MEXIKU a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áže v BRAZÍLII a karibská 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rik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ypt a národní par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i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lká města, horské oblasti, příroda, industrializované st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6:12:23Z</dcterms:created>
  <dc:creator>kk</dc:creator>
  <dc:description/>
  <dc:language>en-US</dc:language>
  <cp:lastModifiedBy>kk</cp:lastModifiedBy>
  <dcterms:modified xsi:type="dcterms:W3CDTF">2007-05-14T19:46:19Z</dcterms:modified>
  <cp:revision>11</cp:revision>
  <dc:subject/>
  <dc:title>CESTOVNÍ RUCH</dc:title>
</cp:coreProperties>
</file>