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120-2070-496D-9156-7B33C99A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7B7-D234-44C6-A787-C8E8DA2E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F53-9F36-4B0E-BD40-261E7C54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706-637A-434C-B54F-E51AE1FF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47A-0957-44DC-BA3E-F7834B7A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E4C-0AF8-41C0-A61F-F7264E17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C75-9744-471B-85B3-57C48DE9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0A7-7731-4040-86D7-835941CF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AAA-724C-46D8-99DA-A7C4BF1B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8C6-BACF-4693-B5F3-9B736B9B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2AC-FF38-40CE-80FD-334708B4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8E2-10E4-4941-B96A-37D26997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88ED-9BD4-4CFD-A0EE-566048A22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ÁVNÍ ČLE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le správního členění dělíme státy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y jednotné (unitár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y složené (federativní, spolkov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ty jednotné (unitární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ěchto států je větš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í jednu vládu, jeden parlament, jednu ústavu (např. ČR, Velká Británie, Čína a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785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áty složené (federativní, spolkové, konfederace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kem 23 států (rok 200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í vedle společných nejvyšších orgánů státní moci s rozhodujícími pravomocemi i menší územní celky s vlastními mocenskými orgány a s vymezenými pravomocemi – nazývají se státy, země, republiky, provincie – ty mají svou vládu, parlament, nejvyššího představitele (guvernéra, hejtmana aj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51280" y="4221000"/>
            <a:ext cx="3600360" cy="196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3040" y="6165720"/>
            <a:ext cx="47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ávní členění Rakouska – příklad fede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tivní státy v současném světě (z roku 2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05816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y unitární i složené se většinou dělí na menší správní celky a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ávní jednot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tátní sprá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osprávné jednot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volené obč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menší správní jednotkou jsou OBCE – mezi obcí a ústřední vládou je i několik mezistupňů – ČR = kraje, Francie = departmenty, VB = hrabství, Polsko = vojvodství ap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é evropské státy mají svá území ležící i mimo Evrop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patří tato území: Ohio, Alberta, Yucatán, Bádensko-Wurttembersko, Tyrolsko, Bah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 složené státy nepatří: Brazílie, Mexiko, Kanada, Peru, 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 jednotné státy nepatří: Indie, Čína, Japonsko, Malajsie, Filipí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é složené státy se rozpadly koncem 20. stole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je vyjádřeno spojení jednotlivých států do federace na vlajce 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20:16:05Z</dcterms:created>
  <dc:creator>kk</dc:creator>
  <dc:description/>
  <dc:language>en-US</dc:language>
  <cp:lastModifiedBy>kk</cp:lastModifiedBy>
  <dcterms:modified xsi:type="dcterms:W3CDTF">2007-06-05T20:37:30Z</dcterms:modified>
  <cp:revision>7</cp:revision>
  <dc:subject/>
  <dc:title>SPRÁVNÍ ČLENĚNÍ</dc:title>
</cp:coreProperties>
</file>