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0950-A5C4-4E1C-97BE-F82E7EAAB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92EF-846C-4965-BF05-7B3381740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B007-D82A-4C6D-B20C-234D9A858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20F2-047D-41F1-A086-A9BFF481B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EC94-D94B-40D9-8546-9C0B32876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1184-3BB3-4297-9358-6874C09F1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C3CA-0D91-4569-B2D7-3C76FF09B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9E81-B573-439D-B0E5-88469CA22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25F7-FDDA-4C74-BEC6-E42CC6F98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7831-661C-4B55-BAC6-40717DCA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022B-5705-4628-BA45-DAA58703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956E-D19F-4C17-8AE7-6C5C22B5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38802-11F2-44B9-892F-4B1318BD28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hyperlink" Target="http://www.bri.kropes.cz/afrika/parky/index_parks.htm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V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5981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de jsou jen dvě roční obdob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tanzania_serengeti_acacia_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8458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495288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Leží mezi rovníkem a obratníkem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od rovníku klesá množství srážek)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ve střídavě vlhkém tropickém podnebném pás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AF, JA, Indie, AUS.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ní období dešťů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záplav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Zimní období such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požá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vana se mění od rovníku k obratníků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romové savany (vlhká savana) období dešťů 9-7 měsíců (tráva vyšší než člověk a dostatek stromů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eřová savana (suchá savana) 7-4 měsíce (tráva po ramena, méně stromů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rnité savany (Sahel) 4-2 měsíce (tráva po kolena, bez stromů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avana" descr=""/>
          <p:cNvPicPr/>
          <p:nvPr/>
        </p:nvPicPr>
        <p:blipFill>
          <a:blip r:embed="rId1"/>
          <a:stretch/>
        </p:blipFill>
        <p:spPr>
          <a:xfrm>
            <a:off x="4800600" y="304920"/>
            <a:ext cx="4343400" cy="3028680"/>
          </a:xfrm>
          <a:prstGeom prst="rect">
            <a:avLst/>
          </a:prstGeom>
          <a:ln w="0">
            <a:noFill/>
          </a:ln>
        </p:spPr>
      </p:pic>
      <p:pic>
        <p:nvPicPr>
          <p:cNvPr id="46" name="30savana_jpg" descr=""/>
          <p:cNvPicPr/>
          <p:nvPr/>
        </p:nvPicPr>
        <p:blipFill>
          <a:blip r:embed="rId2"/>
          <a:stretch/>
        </p:blipFill>
        <p:spPr>
          <a:xfrm>
            <a:off x="4800600" y="3735360"/>
            <a:ext cx="434340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-360" y="304560"/>
            <a:ext cx="48769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Ráj zvířat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(býložravci, šelmy, ptáci, hmyz, plazi atd.) = velké ohrožení a proto vznikají NP (safari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oblém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oste pastva domestikovaných zvířat (vypásaní) = roste oblast SAHEL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hladom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alárie (období dešťů - moskyti),  spavá nemoc (moucha Tse-T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edostatek v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ouchetsetse" descr=""/>
          <p:cNvPicPr/>
          <p:nvPr/>
        </p:nvPicPr>
        <p:blipFill>
          <a:blip r:embed="rId1"/>
          <a:stretch/>
        </p:blipFill>
        <p:spPr>
          <a:xfrm>
            <a:off x="4952880" y="228600"/>
            <a:ext cx="3962520" cy="2884320"/>
          </a:xfrm>
          <a:prstGeom prst="rect">
            <a:avLst/>
          </a:prstGeom>
          <a:ln w="0">
            <a:noFill/>
          </a:ln>
        </p:spPr>
      </p:pic>
      <p:pic>
        <p:nvPicPr>
          <p:cNvPr id="49" name="Nigeria-Sahel" descr=""/>
          <p:cNvPicPr/>
          <p:nvPr/>
        </p:nvPicPr>
        <p:blipFill>
          <a:blip r:embed="rId2"/>
          <a:stretch/>
        </p:blipFill>
        <p:spPr>
          <a:xfrm>
            <a:off x="4343400" y="3508200"/>
            <a:ext cx="4572000" cy="3121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81880" y="6324480"/>
            <a:ext cx="235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NÁRODNÍ PARKY AFR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12" descr=""/>
          <p:cNvPicPr/>
          <p:nvPr/>
        </p:nvPicPr>
        <p:blipFill>
          <a:blip r:embed="rId4"/>
          <a:stretch/>
        </p:blipFill>
        <p:spPr>
          <a:xfrm>
            <a:off x="762120" y="3809880"/>
            <a:ext cx="2971800" cy="21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9T19:13:28Z</dcterms:created>
  <dc:creator>kk</dc:creator>
  <dc:description/>
  <dc:language>en-US</dc:language>
  <cp:lastModifiedBy>kk</cp:lastModifiedBy>
  <dcterms:modified xsi:type="dcterms:W3CDTF">2006-01-31T17:35:10Z</dcterms:modified>
  <cp:revision>4</cp:revision>
  <dc:subject/>
  <dc:title>SAVANY</dc:title>
</cp:coreProperties>
</file>