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E92-2E1C-414D-A087-54C94679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DB0-0490-4EFB-BEFE-4B2AA70B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DC3-747C-4989-9A74-E461984D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242-C770-46AE-A567-15D989AA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6BF-FBDB-4E13-B63D-B59E0119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F45-85C6-4746-A372-5C5EBFCD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DAA-CA0C-438C-8ADC-4D721911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132-241C-49F1-B6CA-735342FE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F9F-EE9E-4BA1-8701-388B2ACB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247-EE88-45BC-AFC1-7B937AF0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2F7-B2A6-4B18-9190-60425FF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432-8337-487D-9B23-697E184C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34F4-B65C-48AF-9842-F1D97059E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skatelevize.cz/ivysilani/208411030400706-objektiv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" Target="slide4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1125000"/>
            <a:ext cx="8569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rozlehlejší stát světa ležící na dvou světadíl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09080" cy="456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4911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ea o Ru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íl evropské a asijské části Ruska (200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1989000"/>
          <a:ext cx="3174840" cy="26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317484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203640" y="1989000"/>
          <a:ext cx="3024000" cy="267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989000"/>
                    <a:ext cx="302400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84360" y="20606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íl na rozlo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360" y="206064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íl na počtu oby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227640" y="1989000"/>
          <a:ext cx="2916360" cy="2667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1989000"/>
                    <a:ext cx="29163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443640" y="20606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íl na hospodář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ropská čá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rodní podmínk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povrc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Východoevropská rovina (Valdajská vrchovina – pramení zde Volha, Dněpr, Západní Dvina), Ural. Podnebí je kontinentáln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Hospodářstv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orná půda-stepi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pšenice, brambory, len),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Těžba: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ropy (mezi Volhou a Uralem), uhlí (okolí Moskvy), železná ruda (u Kurska), barevné kovy (Ural).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Průmys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těžký, strojírenský, chemický, potravinářský. Základem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dopravy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 železnice, ropovody a plynovody, důležitá je říční a námořní doprav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byvatelstvo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ejlidnatější stát Evropy (8. ve světě), nerovnoměrné osídlení (8 ob./km2), milionovými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cent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jsou: Moskva, Sant Petěrburg, Nižnij Novgorod, Samara, Kazaň, Rostov na Donu, Volgogra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423864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4013280"/>
            <a:ext cx="39607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ijská čá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4032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rodní podmín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vr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Západosibiřská nížina (Ob, Irtyš, Jenisej), Středosibiřská vysočina (Lena)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get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pouště, stepi, tajga, tund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lení Sibiř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 burjatštině – spící zem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Západní Sibiř – naleziště ropy a zemního plynu, černouhelná pánev KUZB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Východní Sibiř – hlavní bohatství je vodní energie, uhlí, dře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) Dálný Východ – špatně dostupná oblast. Naleziště zlata, diamantů, rud a rybolo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é jižní území propojuje TRAM (Moskva – Vladivostok 9438 km) zde je soustředěna většina osídl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00720" y="765000"/>
            <a:ext cx="4174920" cy="321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4221000"/>
            <a:ext cx="4249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7:18:06Z</dcterms:created>
  <dc:creator>kk</dc:creator>
  <dc:description/>
  <dc:language>en-US</dc:language>
  <cp:lastModifiedBy>jj</cp:lastModifiedBy>
  <dcterms:modified xsi:type="dcterms:W3CDTF">2009-01-06T18:56:58Z</dcterms:modified>
  <cp:revision>15</cp:revision>
  <dc:subject/>
  <dc:title>RUSKO</dc:title>
</cp:coreProperties>
</file>