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6F0-076A-4158-87ED-2CC798C0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9E1-74C2-48EE-86F3-D009F15A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240-B281-4C0C-AD1A-D25E0797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B99-FA74-4C16-B547-1ED4DEF0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B3A-BA2D-46D8-8997-C00B6823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D00-C3AE-41E2-9958-772B6048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F19-526B-4581-92D7-A311DAD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55B-0E87-40F2-9515-20CF0FBE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A57-375C-4A82-B9DD-188BF210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A91-ABE3-47C2-A9CA-BC7603E9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688-82E8-4FA1-A010-9241AA4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407-1AC5-43CC-89C4-7A4F7F5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8328-B09B-4FB4-AC58-83633C2E45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ůsobení tekoucí v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usa7_4"/>
          <p:cNvPicPr/>
          <p:nvPr/>
        </p:nvPicPr>
        <p:blipFill>
          <a:blip r:embed="rId1"/>
          <a:stretch/>
        </p:blipFill>
        <p:spPr>
          <a:xfrm>
            <a:off x="0" y="549360"/>
            <a:ext cx="4967280" cy="3558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Punkva"/>
          <p:cNvPicPr/>
          <p:nvPr/>
        </p:nvPicPr>
        <p:blipFill>
          <a:blip r:embed="rId2"/>
          <a:stretch/>
        </p:blipFill>
        <p:spPr>
          <a:xfrm>
            <a:off x="179280" y="4071960"/>
            <a:ext cx="4211640" cy="2786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4067280" cy="2781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"/>
          <p:cNvPicPr/>
          <p:nvPr/>
        </p:nvPicPr>
        <p:blipFill>
          <a:blip r:embed="rId4"/>
          <a:stretch/>
        </p:blipFill>
        <p:spPr>
          <a:xfrm>
            <a:off x="5219640" y="0"/>
            <a:ext cx="3328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foto rodinka\leden 2014\Resampled\IMG_4355.JPG"/>
          <p:cNvPicPr/>
          <p:nvPr/>
        </p:nvPicPr>
        <p:blipFill>
          <a:blip r:embed="rId1"/>
          <a:stretch/>
        </p:blipFill>
        <p:spPr>
          <a:xfrm>
            <a:off x="1114560" y="0"/>
            <a:ext cx="69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0320"/>
          </a:xfrm>
          <a:prstGeom prst="rect">
            <a:avLst/>
          </a:prstGeom>
          <a:ln w="0">
            <a:noFill/>
          </a:ln>
        </p:spPr>
      </p:pic>
      <p:sp>
        <p:nvSpPr>
          <p:cNvPr id="48" name="TextovéPole 3"/>
          <p:cNvSpPr/>
          <p:nvPr/>
        </p:nvSpPr>
        <p:spPr>
          <a:xfrm>
            <a:off x="6875640" y="4581360"/>
            <a:ext cx="21603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93600" y="5845320"/>
            <a:ext cx="89424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plňte části vodního toku vzniklé působením tekoucí vody: 1 – údolní niva, 2 – delta (ústí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- říční meandry, 4 – slepé rameno, 5 – přítok, 6 – kaňon, 7 – jezero, 8 – ledovce, 9 – mokřad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 – pramen, 11 – vodopády, 12 – peře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03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3"/>
          <p:cNvSpPr/>
          <p:nvPr/>
        </p:nvSpPr>
        <p:spPr>
          <a:xfrm>
            <a:off x="6875640" y="4581360"/>
            <a:ext cx="21603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 dolní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 střední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 horní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93600" y="5845320"/>
            <a:ext cx="89424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plňte části vodního toku vzniklé působením tekoucí vody: 1 – údolní niva, 2 – delta (ústí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- říční meandry, 4 – slepé rameno, 5 – přítok, 6 – kaňon, 7 – jezero, 8 – ledovce, 9 – mokřad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 – pramen, 11 – vodopády, 12 – peře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ovéPole 1"/>
          <p:cNvSpPr/>
          <p:nvPr/>
        </p:nvSpPr>
        <p:spPr>
          <a:xfrm>
            <a:off x="3167640" y="474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ovéPole 5"/>
          <p:cNvSpPr/>
          <p:nvPr/>
        </p:nvSpPr>
        <p:spPr>
          <a:xfrm>
            <a:off x="5221800" y="533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6"/>
          <p:cNvSpPr/>
          <p:nvPr/>
        </p:nvSpPr>
        <p:spPr>
          <a:xfrm>
            <a:off x="5366160" y="458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7"/>
          <p:cNvSpPr/>
          <p:nvPr/>
        </p:nvSpPr>
        <p:spPr>
          <a:xfrm>
            <a:off x="5677560" y="37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8"/>
          <p:cNvSpPr/>
          <p:nvPr/>
        </p:nvSpPr>
        <p:spPr>
          <a:xfrm>
            <a:off x="3177000" y="299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5542560" y="282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6591240" y="2349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ovéPole 11"/>
          <p:cNvSpPr/>
          <p:nvPr/>
        </p:nvSpPr>
        <p:spPr>
          <a:xfrm>
            <a:off x="2985120" y="162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ovéPole 12"/>
          <p:cNvSpPr/>
          <p:nvPr/>
        </p:nvSpPr>
        <p:spPr>
          <a:xfrm>
            <a:off x="2918520" y="18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13"/>
          <p:cNvSpPr/>
          <p:nvPr/>
        </p:nvSpPr>
        <p:spPr>
          <a:xfrm>
            <a:off x="4372200" y="62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ovéPole 14"/>
          <p:cNvSpPr/>
          <p:nvPr/>
        </p:nvSpPr>
        <p:spPr>
          <a:xfrm>
            <a:off x="1041840" y="2657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ovéPole 15"/>
          <p:cNvSpPr/>
          <p:nvPr/>
        </p:nvSpPr>
        <p:spPr>
          <a:xfrm>
            <a:off x="1694160" y="33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ovéPole 2"/>
          <p:cNvSpPr/>
          <p:nvPr/>
        </p:nvSpPr>
        <p:spPr>
          <a:xfrm>
            <a:off x="192240" y="1270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E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elikost vodní eroze závisí na množství vody, spádu vodního t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 odolnosti hornin. Tekoucí voda odnáší zvětraliny, rozruš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orniny a vymílá koryto ve tvaru 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Činnost ř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Horní tok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Střední tok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Dolní 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609480" y="40384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1295280" y="4038480"/>
            <a:ext cx="838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3733920" y="396252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41148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4419720" y="4800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8"/>
          <p:cNvSpPr/>
          <p:nvPr/>
        </p:nvSpPr>
        <p:spPr>
          <a:xfrm flipV="1">
            <a:off x="4648320" y="4800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4876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0"/>
          <p:cNvSpPr/>
          <p:nvPr/>
        </p:nvSpPr>
        <p:spPr>
          <a:xfrm flipV="1">
            <a:off x="5181480" y="3886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6172200" y="4191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40080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7086600" y="4648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 flipV="1">
            <a:off x="7467480" y="46479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5"/>
          <p:cNvSpPr/>
          <p:nvPr/>
        </p:nvSpPr>
        <p:spPr>
          <a:xfrm>
            <a:off x="79246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6"/>
          <p:cNvSpPr/>
          <p:nvPr/>
        </p:nvSpPr>
        <p:spPr>
          <a:xfrm flipV="1">
            <a:off x="861048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7"/>
          <p:cNvSpPr/>
          <p:nvPr/>
        </p:nvSpPr>
        <p:spPr>
          <a:xfrm>
            <a:off x="1066680" y="4952880"/>
            <a:ext cx="533520" cy="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8"/>
          <p:cNvSpPr/>
          <p:nvPr/>
        </p:nvSpPr>
        <p:spPr>
          <a:xfrm>
            <a:off x="4067280" y="4724280"/>
            <a:ext cx="1143000" cy="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9"/>
          <p:cNvSpPr/>
          <p:nvPr/>
        </p:nvSpPr>
        <p:spPr>
          <a:xfrm>
            <a:off x="6372360" y="4581360"/>
            <a:ext cx="2303280" cy="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441000" y="545148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hloubko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roze,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3578760" y="533412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nsport část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dimentace, boč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roze, me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6176520" y="5257800"/>
            <a:ext cx="304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dimentace materiál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6108840" y="640080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ideo: vodopád, kaň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vary vzniklé působením v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roz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oryta řek, říční údolí, kaňony, soutěsky, vodopády, me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edimenta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erasy, nivy, de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vláštní tvar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rasové (voda rozpouští vápník a opět jej ukládá) – krápníky, jeskyně, propasti a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4248360" cy="24480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H="1">
            <a:off x="2556000" y="5157720"/>
            <a:ext cx="57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19960" y="595008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zemní krasový tok - p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4067280" y="5229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856680" y="58770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zemní je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932360" y="4508640"/>
            <a:ext cx="122400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870160" y="57340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alag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5148360" y="4149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643440" y="402912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alakt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3850920" y="4365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134520" y="42210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esky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2967480" y="3665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pen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1258920" y="4005360"/>
            <a:ext cx="15127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55240" y="3357720"/>
            <a:ext cx="1922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věračka je mís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e dochází k výto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zemního toku na pov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2627280" y="2852280"/>
            <a:ext cx="1873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198880" y="270828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áv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0"/>
          <p:cNvSpPr/>
          <p:nvPr/>
        </p:nvSpPr>
        <p:spPr>
          <a:xfrm flipH="1" flipV="1">
            <a:off x="4642920" y="292428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3620160" y="2373480"/>
            <a:ext cx="194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past vznikla propadnut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ropu jeskyně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V="1">
            <a:off x="5651640" y="2997360"/>
            <a:ext cx="865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644520" y="2660760"/>
            <a:ext cx="143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padání je mís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e mizí povrchov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k do podzem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7:38:22Z</dcterms:created>
  <dc:creator>kk</dc:creator>
  <dc:description/>
  <dc:language>en-US</dc:language>
  <cp:lastModifiedBy>Uživatel</cp:lastModifiedBy>
  <dcterms:modified xsi:type="dcterms:W3CDTF">2014-01-05T12:47:55Z</dcterms:modified>
  <cp:revision>19</cp:revision>
  <dc:subject/>
  <dc:title>Působení tekoucí vody</dc:title>
</cp:coreProperties>
</file>