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DBF2-ED9D-442D-A1F5-C9D160D3D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574D-D0FE-48A1-AE53-905F5F549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062D-F54B-4B74-BCED-450036F56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4C9E-F722-4B1F-9D33-EDAAF4D4A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50C5-4A87-47F4-8806-2F8310BF1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345E-6E6D-41E7-A25F-74B3A2C58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A201-7585-49B4-9572-C23C9E7D8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FF07-7261-4D1B-92CC-08BF62746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FDEE-3110-4F39-92D0-39BECF5EF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5A7C-8585-4525-8CCE-12F251A31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17CB-3D5A-4FEE-8B4E-EE82A2791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197F-F26B-4C0C-B168-B610EA04C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9D4F8-1E14-4695-ABA7-31011C46BD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23920" y="1980720"/>
            <a:ext cx="4038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3300"/>
                </a:solidFill>
                <a:latin typeface="Times New Roman"/>
              </a:rPr>
              <a:t>PŮDA  </a:t>
            </a:r>
            <a:br>
              <a:rPr sz="4400"/>
            </a:br>
            <a:r>
              <a:rPr b="0" lang="cs-CZ" sz="4400" spc="-1" strike="noStrike">
                <a:solidFill>
                  <a:srgbClr val="663300"/>
                </a:solidFill>
                <a:latin typeface="Times New Roman"/>
              </a:rPr>
              <a:t>pedosfé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eroze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45259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-360" y="1219320"/>
            <a:ext cx="4724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ůda vzniká zvětrávání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chanický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lunce, teplota, flora, vítr, vo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mický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voda, chemické látk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Úrodno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množství humusu (černozem – obsahuje nejvíce humus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ýznam půd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zemědělstv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76920" y="1143000"/>
            <a:ext cx="3886200" cy="40384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76920" y="3200400"/>
            <a:ext cx="3886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0" y="1143000"/>
            <a:ext cx="0" cy="2057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181120" y="3200400"/>
            <a:ext cx="1676520" cy="990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486400" y="1905120"/>
            <a:ext cx="1143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61600" y="1981080"/>
            <a:ext cx="149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ZDU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09320" y="3581280"/>
            <a:ext cx="134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ŽIV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ÁT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60080" y="5791320"/>
            <a:ext cx="508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ŽIVÉ LÁTKY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stliny a živočichov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4724280" y="3657240"/>
            <a:ext cx="60984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ÉMA ROZLOŽENÍ PŮ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 ZEM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0" y="2514600"/>
          <a:ext cx="9144000" cy="28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514600"/>
                    <a:ext cx="9144000" cy="28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8305920" y="25146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30592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6705720" cy="51703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LAVNÍ PŮDNÍ HORIZON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8T19:31:11Z</dcterms:created>
  <dc:creator>kk</dc:creator>
  <dc:description/>
  <dc:language>en-US</dc:language>
  <cp:lastModifiedBy>kk</cp:lastModifiedBy>
  <dcterms:modified xsi:type="dcterms:W3CDTF">2005-12-18T19:41:06Z</dcterms:modified>
  <cp:revision>3</cp:revision>
  <dc:subject/>
  <dc:title>PŮDA   pedosféra</dc:title>
</cp:coreProperties>
</file>